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A9D-6F3C-4067-BEE7-3A47172A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76B-9EE6-4CA4-BC35-661FAFD3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271-E1AD-496E-A399-580A9020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800-0936-43FB-AAC3-3587F1AC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3513-F5EC-41CC-952F-2B1D0EC7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9257-178F-4594-B6C4-ED1F8D11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CA53-DEA1-4C81-8038-C7F3DB03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EEA3-EB83-448D-A0E2-6A1900B1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918E-A9BF-48FE-9EC9-7998389C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C8AC-FFAE-4467-9240-2FAFDD3A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AA68-4EFB-4A68-85A6-C907C28D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20C-A86C-4F16-9C88-664D5A24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5CE1-0CDF-4AA3-B413-1C96AB94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D006-FC16-4E72-93F2-877A0302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4EB2-AC9B-417F-907E-8FBC079A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D3F3-0625-414B-A453-760D6B36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7A5D-ED32-42A3-8232-FE539E3F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5F9-DB4C-41F0-B82E-45157EA8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F2F-B053-48F6-960B-FD35BC45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790-DE9D-4D19-BB54-F6D97ABE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105-5E44-4D6C-B65E-100D5607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BD1-1391-4D03-A8A9-44DD85B1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F43-21E8-499E-BEC0-D84A1267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EAA-9226-40A1-A40F-76CB33D9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3E97-D1B1-4F00-A46A-8E8E45ED2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8028000" y="0"/>
            <a:ext cx="1116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MISTER N</a:t>
            </a:r>
            <a:endParaRPr b="1" i="1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0" y="6669000"/>
            <a:ext cx="1908000" cy="2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STER N @ Produções.com</a:t>
            </a:r>
            <a:endParaRPr b="1" lang="en-US" sz="12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4955-2090-4215-86FB-E7B30135A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028000" y="0"/>
            <a:ext cx="1116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MISTER N</a:t>
            </a:r>
            <a:endParaRPr b="1" i="1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6669000"/>
            <a:ext cx="1908000" cy="2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STER N @ Produções.com</a:t>
            </a:r>
            <a:endParaRPr b="1" lang="en-US" sz="12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258920" y="1916280"/>
            <a:ext cx="6913440" cy="295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50000">
                      <a:srgbClr val="ff3300"/>
                    </a:gs>
                    <a:gs pos="100000">
                      <a:srgbClr val="0047ff"/>
                    </a:gs>
                  </a:gsLst>
                  <a:lin ang="13500000"/>
                </a:gradFill>
                <a:latin typeface="Broadway"/>
              </a:rPr>
              <a:t>BRUNA MINELLI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50000">
                    <a:srgbClr val="ff3300"/>
                  </a:gs>
                  <a:gs pos="100000">
                    <a:srgbClr val="0047ff"/>
                  </a:gs>
                </a:gsLst>
                <a:lin ang="13500000"/>
              </a:gradFill>
              <a:latin typeface="Broadway"/>
              <a:ea typeface="Broadwa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50000">
                      <a:srgbClr val="ff3300"/>
                    </a:gs>
                    <a:gs pos="100000">
                      <a:srgbClr val="0047ff"/>
                    </a:gs>
                  </a:gsLst>
                  <a:lin ang="13500000"/>
                </a:gradFill>
                <a:latin typeface="Broadway"/>
              </a:rPr>
              <a:t>STRIP 01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50000">
                    <a:srgbClr val="ff3300"/>
                  </a:gs>
                  <a:gs pos="100000">
                    <a:srgbClr val="0047ff"/>
                  </a:gs>
                </a:gsLst>
                <a:lin ang="13500000"/>
              </a:gradFill>
              <a:latin typeface="Broadway"/>
              <a:ea typeface="Broadway"/>
            </a:endParaRPr>
          </a:p>
        </p:txBody>
      </p:sp>
    </p:spTree>
  </p:cSld>
  <p:transition advTm="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7440" y="0"/>
            <a:ext cx="4567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7440" y="0"/>
            <a:ext cx="4567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63440"/>
            <a:ext cx="9144000" cy="6529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06640" y="0"/>
            <a:ext cx="5129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7440" y="0"/>
            <a:ext cx="4567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52640" y="0"/>
            <a:ext cx="5238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7440" y="0"/>
            <a:ext cx="4567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9280" y="5013360"/>
            <a:ext cx="2376720" cy="714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Bloodgutter 99"/>
              </a:rPr>
              <a:t>CLIQUE AQUI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Bloodgutter 99"/>
              <a:ea typeface="Bloodgutter 99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56000" y="5157720"/>
            <a:ext cx="1296720" cy="728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038480" y="5373720"/>
            <a:ext cx="51055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ister_n-subscribe@yahoogrupos.com.b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 rot="20840400">
            <a:off x="971640" y="765000"/>
            <a:ext cx="7129440" cy="2592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20974200">
            <a:off x="1685520" y="2707920"/>
            <a:ext cx="7458120" cy="171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27640" y="6340320"/>
            <a:ext cx="4716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FOTOS ENVIADAS POR : INFORMATIVO BEL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FORMATAÇÃO : MIST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9360" y="0"/>
            <a:ext cx="4443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7440" y="0"/>
            <a:ext cx="4567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7440" y="0"/>
            <a:ext cx="4567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25520" y="0"/>
            <a:ext cx="4691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7440" y="0"/>
            <a:ext cx="4567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7440" y="0"/>
            <a:ext cx="4567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7440" y="0"/>
            <a:ext cx="4567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7440" y="0"/>
            <a:ext cx="4567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13:40:19Z</dcterms:created>
  <dc:creator>MISTER N</dc:creator>
  <dc:description>PODEM REPASSAR , MAS O FAÇAM SEM MODIFICAR OS SLIDES , GRATO . NUNES.  </dc:description>
  <dc:language>en-US</dc:language>
  <cp:lastModifiedBy>MISTER N</cp:lastModifiedBy>
  <dcterms:modified xsi:type="dcterms:W3CDTF">2006-01-27T02:58:41Z</dcterms:modified>
  <cp:revision>24</cp:revision>
  <dc:subject/>
  <dc:title>(N) BRUNA MINELLI - STRIP 01_P</dc:title>
</cp:coreProperties>
</file>