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CAMERA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3042-A905-4ABC-AEBD-28AED98B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62A1-FBBD-4C18-AFF2-5130B4E8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BB90-9F92-434A-9573-721A6997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90DA-F2DF-477D-9374-4F5D8E55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C486-1C76-4215-84C9-92B9B05C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A3E1-0512-4DF7-9B01-2BBDCDE4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4B27-49A4-4767-A9E0-2819657F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1C85-FE91-4818-914D-CDB9A6B1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E244-DF4D-44BF-A514-3396F634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6248-2D5E-4EC8-B12B-9E5FE3B0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6261-35E4-4B14-B484-776A6A3A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9A4F-2E6F-4D61-992E-1690EB4D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6D3C-77C5-4144-AED0-990E8811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59CB-51F1-440B-8407-FD8802D0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55F4-3E06-4101-BCAF-492E372B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6450-2711-4A10-8249-5BD73590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1510-5CB1-40AF-9F66-74856AFE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6A66-857A-459B-B2AD-C7D5BEAE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6D327-330E-4F10-8426-1ED172E6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4112-F19E-4686-A63D-84414779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6EAB-B49B-4069-9CC5-6A2C78B9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D1C9-5183-4975-8B9A-41199249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0B06-1BE8-456E-A4BD-16B17C28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81A0-4465-49B2-B7B6-B5F57221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F4D3-5E10-47C8-8889-3ADEA08BA0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E618-CA35-49E7-A4DA-DBA7DCE958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529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6553080" y="0"/>
            <a:ext cx="609840" cy="23623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vert"/>
    <p:sndAc>
      <p:stSnd>
        <p:snd r:embed="rId3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090880" y="-304920"/>
            <a:ext cx="4943160" cy="74390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1676520" y="6629400"/>
            <a:ext cx="5867280" cy="5335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vert"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2292480" y="0"/>
            <a:ext cx="4559040" cy="68580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1676520" y="6553080"/>
            <a:ext cx="586728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vert"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4552920" cy="685800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6705720" y="0"/>
            <a:ext cx="685800" cy="56386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vert"/>
    <p:sndAc>
      <p:stSnd>
        <p:snd r:embed="rId3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3008520" cy="453060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2514600" y="4724280"/>
            <a:ext cx="4038480" cy="18860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vert"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93920" y="0"/>
            <a:ext cx="455616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676520" y="6553080"/>
            <a:ext cx="586728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vert"/>
    <p:sndAc>
      <p:stSnd>
        <p:snd r:embed="rId3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553080" y="0"/>
            <a:ext cx="6858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vert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6553080" y="0"/>
            <a:ext cx="6858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vert"/>
    <p:sndAc>
      <p:stSnd>
        <p:snd r:embed="rId3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52920" cy="68580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6553080" y="0"/>
            <a:ext cx="6858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vert"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2293920" y="0"/>
            <a:ext cx="4556160" cy="685800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6858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vert"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552920" cy="685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2057400" y="0"/>
            <a:ext cx="6858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vert"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455292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586764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vert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685800" cy="56386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vert"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04:38:01Z</dcterms:created>
  <dc:creator>CHARLIE</dc:creator>
  <dc:description/>
  <dc:language>en-US</dc:language>
  <cp:lastModifiedBy>Equiipo</cp:lastModifiedBy>
  <dcterms:modified xsi:type="dcterms:W3CDTF">2008-01-26T22:09:16Z</dcterms:modified>
  <cp:revision>4</cp:revision>
  <dc:subject/>
  <dc:title>Zuzana Drabinova</dc:title>
</cp:coreProperties>
</file>