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BBD-0DB3-41FB-B573-DCFE3348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7F7-E833-4E87-9A4C-9B0A7167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2AA-C766-445B-9EC8-14CF8916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125-D51C-4966-9B2C-88548FAD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E8F9-2D2B-42A8-B5F9-354F321B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44B7-2415-41FF-8CA5-4D02A9A1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60D0-6024-4489-A016-13D7AB9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A416-32AE-492E-B82C-43A661BE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9B76-6892-43C4-A2A2-20CDAFA5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8AC-0EB2-4868-B880-EDD396E0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070C-BD55-48F4-8A7A-628D3AD4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F30-D713-4D57-91A7-3DB805B0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540D-D5E8-497C-8B35-0E80110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EDB6-9B98-4D83-83DF-8AC342A4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3C3A-3D68-4112-BE2C-E9DA7409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53A-C2EA-48B8-8DAF-146EC9FD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683D-EC91-4597-93E7-B50A8C71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26F9-60F0-4331-8FA5-C3A5D23A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5421-84A7-4AC5-96FD-DCF98E6D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1B67-3451-4364-92EC-25DF53F4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27BF-8A02-40D5-BFA5-AB262146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E76C-8991-4F9A-996C-44F851E8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DA2-30AD-474B-9B98-E12D48EC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57B1-0139-439C-88F4-68C81592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33A6-D2ED-432E-97B5-278E789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11CA-653C-48AA-8425-0780535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40FF-CB17-48AA-8BFA-53021F4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4B33-F684-4996-B35D-1F2FDA2C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E3BC-C713-47D9-B58F-AF5514B0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9A51-AD79-4E5B-9AC2-C4191DC2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779B-E19C-416A-99A3-2CD7D4BD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C5F9-9CBB-4AB2-9242-7EEBB938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0EEF-7C69-4962-92AE-BAD0CC1A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75C-7E67-4128-85C7-CBB391A4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450A-1234-4EDB-AE2F-8ECE0CD9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AE51-8504-483E-BEA7-14FB43C8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8E54-2C2C-49FA-9863-67C8B11D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88BA-0034-48DC-98EC-92FD994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CF1B-574C-402D-A2DB-BB3195BB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A2CFC-F284-4DD3-BFBF-0141FFF7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ABD00-B8FA-4497-988D-3C2969F7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EE8B-BA09-416D-B38C-A0C19A83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DFE32-625F-4D65-AF88-8BDFF56D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7FC3-B2E3-4C48-B189-8BB817E4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252-F83A-405D-B8EF-65F27ED7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F1E5-8738-44CD-B6E2-6DEAD341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4BC8-DBD5-4182-A77C-876A33A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70E0F-DE5F-45FA-AC60-389C4C85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0846-00EB-4B19-85F5-29343A58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E1A51-E961-4744-BD17-AB94A079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DD0F3-236D-4997-9D21-94763DDD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DADEB-49D4-432E-A57B-97453428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D36FA-8239-47FA-92DC-01C9729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B6107-11ED-4DD4-9BB0-1DB0A7B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B1682-456A-400D-94AC-D867C83F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BEE-81DC-4361-AB03-09806680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F291-B1B5-4CFE-A941-DF1AB483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F8FA2-163F-4FBE-82BC-D466BFB2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CCF79-3EFF-4126-8D23-DEFFFB90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08EBE-D71A-44FE-BAC3-C9A4A618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9852F-8DD6-4425-B408-08DF09F3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FABB-4352-4BFD-9679-FBF77B9E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A2E8-D540-4CA7-A417-39AF9DAD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FD7A1-B975-4648-88E4-C0362B5B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A4019-2DFE-4DE2-A2DB-531018E0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B147-8327-4CC6-BCA6-D3BFA2D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8DF-FFDE-461F-AAAB-016D03B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DEB23-2384-4CEE-849A-4A3FE503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A9F3-1893-4DB7-A3C5-B7790634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9D2B0-4600-49E0-A9AA-936E3448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E3B5-E411-425C-8B7A-190DD2C8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05C8-26A4-4B97-8F00-EA852148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A35E1-680F-4C75-B9E4-6F8DC496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8F029-2B64-4AAB-99BC-F8DB1DED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1B57E-200D-488F-8F1D-43D8A8DA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A56C8-3692-468F-B63B-9631B537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64FA-2A5D-4482-8A30-631B256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A3E-36E5-4969-B076-294218C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447E3-8A35-4C0E-96F6-BFDF7F0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D69FC-F796-4759-8250-46547E8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8C34C-FF45-4AE0-B629-3C51497D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F0D12-A963-4797-B103-33AC7231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876DC-BB98-4731-8C0F-EBC1E971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6573-46C9-4662-8EC8-9B39F95D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FB665-A268-42BD-9F86-36422B78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F685-ED84-4E2C-895A-FF60A2D4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F25EE-1DFB-4EF2-AEA4-06C654D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EF09-91CC-4427-AC76-5F9E274A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E52-C62A-41ED-801D-59916D7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B7A5-BF9E-487C-8F57-A73D7205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53171-3EC7-4185-9EFC-41398B1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DA8E0-979E-4524-BE13-5DE1E46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0B1BE-DDB5-45B3-A073-ECCD566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56F2E-382B-46E2-9DBB-E75EA2C9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A0BEA-9793-437F-B823-36260DA2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51E84-419A-4937-8368-58CB4858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D2E4-EA38-4025-87FE-1B13F69951A2}" type="slidenum"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tângu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tângulo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tângulo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EAA2-3974-4FCA-9FA7-ABBD0C8A27C2}" type="slidenum"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B0B8-4E2D-4CB5-B7D4-F95C1D93B264}" type="slidenum">
              <a:rPr b="0" lang="pt-B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Triângulo isósceles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7E01-BEB4-4055-BEAC-56EFA226F2BC}" type="slidenum"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4292-BB5B-4AE1-8D37-83CEA8A4D4E6}" type="slidenum"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Conector reto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Triângulo isósceles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4F67-0AB3-4F60-942B-EBC52F1281CD}" type="slidenum"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tângulo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D1E-2771-4B13-839B-051D504B540F}" type="slidenum">
              <a:rPr b="0" lang="pt-B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Conector reto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4A26-11CA-4D7C-A67D-456A8D913D56}" type="slidenum">
              <a:rPr b="0" lang="pt-B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man Old Style"/>
              </a:rPr>
              <a:t>Absurd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53" name="Group 49"/>
          <p:cNvGrpSpPr/>
          <p:nvPr/>
        </p:nvGrpSpPr>
        <p:grpSpPr>
          <a:xfrm>
            <a:off x="1071720" y="4929120"/>
            <a:ext cx="7365960" cy="715680"/>
            <a:chOff x="1071720" y="4929120"/>
            <a:chExt cx="7365960" cy="715680"/>
          </a:xfrm>
        </p:grpSpPr>
        <p:pic>
          <p:nvPicPr>
            <p:cNvPr id="354" name="Picture 47" descr="s1"/>
            <p:cNvPicPr/>
            <p:nvPr/>
          </p:nvPicPr>
          <p:blipFill>
            <a:blip r:embed="rId1"/>
            <a:stretch/>
          </p:blipFill>
          <p:spPr>
            <a:xfrm>
              <a:off x="1071720" y="5073480"/>
              <a:ext cx="2095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48" descr="s2"/>
            <p:cNvPicPr/>
            <p:nvPr/>
          </p:nvPicPr>
          <p:blipFill>
            <a:blip r:embed="rId2"/>
            <a:stretch/>
          </p:blipFill>
          <p:spPr>
            <a:xfrm>
              <a:off x="7336080" y="4929120"/>
              <a:ext cx="1101600" cy="71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Imagem 1" descr="09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Imagem 1" descr="10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Imagem 1" descr="11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Imagem 1" descr="12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Imagem 1" descr="13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agem 1" descr="14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m 1" descr="15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Imagem 1" descr="16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Imagem 1" descr="17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Imagem 1" descr="18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Imagem 1" descr="01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magem 1" descr="19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Imagem 1" descr="20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Imagem 1" descr="21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Imagem 1" descr="22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m 1" descr="23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Imagem 1" descr="24.jpeg"/>
          <p:cNvPicPr/>
          <p:nvPr/>
        </p:nvPicPr>
        <p:blipFill>
          <a:blip r:embed="rId1"/>
          <a:stretch/>
        </p:blipFill>
        <p:spPr>
          <a:xfrm>
            <a:off x="2279520" y="0"/>
            <a:ext cx="45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Imagem 1" descr="25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m 1" descr="26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Imagem 1" descr="27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Imagem 1" descr="28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m 1" descr="02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Imagem 1" descr="29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agem 1" descr="30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Imagem 1" descr="31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Imagem 1" descr="32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Imagem 1" descr="33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Imagem 1" descr="34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Imagem 1" descr="35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Imagem 1" descr="36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Imagem 1" descr="37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em 1" descr="38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Imagem 1" descr="03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Imagem 1" descr="39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Imagem 1" descr="40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Imagem 1" descr="41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Imagem 1" descr="42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Imagem 1" descr="43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m 1" descr="44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Imagem 1" descr="45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Imagem 1" descr="46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Imagem 1" descr="47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Imagem 1" descr="48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m 1" descr="04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Imagem 1" descr="49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Imagem 1" descr="50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Imagem 1" descr="05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Imagem 1" descr="06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Imagem 1" descr="07.jpe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Imagem 1" descr="08.jpe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21:33:19Z</dcterms:created>
  <dc:creator>somdvd</dc:creator>
  <dc:description/>
  <dc:language>en-US</dc:language>
  <cp:lastModifiedBy>somdvd</cp:lastModifiedBy>
  <dcterms:modified xsi:type="dcterms:W3CDTF">2010-07-14T22:04:05Z</dcterms:modified>
  <cp:revision>4</cp:revision>
  <dc:subject/>
  <dc:title>Absurdo</dc:title>
</cp:coreProperties>
</file>