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.jpeg" ContentType="image/jpeg"/>
  <Override PartName="/ppt/media/barrywhitecantgetenoughofuourlovebabe.wav" ContentType="audio/x-wav"/>
  <Override PartName="/ppt/media/image50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1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1FF-34E1-4C52-AC8C-A049073E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D42-8DAA-4F16-8446-1FD70E0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FA9-C3AB-4736-BCCF-A933275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157-5A70-40F1-BCC2-8A8F418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689-0990-4871-A36C-A5FC8D5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EEA-1F35-4819-8379-CFECA2AE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DC1-7832-4627-9CB8-5AEBE92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6B4-ACEC-4DB8-88ED-93468153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5BB-AF96-4CE0-9172-CA612FB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BC9-BE85-475F-8E36-4DE3BE60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901-E423-42B6-A23E-1345395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F60-66A3-42D8-A6B6-74996FE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5C1E-D5E6-410A-AF2B-3B670DBD3CD8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1FD28856-4871-44B6-9208-1B5CDE277E50}" type="datetime12">
              <a:rPr b="0" lang="es-ES" sz="1400" spc="-1" strike="noStrike">
                <a:solidFill>
                  <a:srgbClr val="ffffff"/>
                </a:solidFill>
                <a:latin typeface="Arial"/>
              </a:rPr>
              <a:t>03:06 p. m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9A05-E406-402A-894A-2CB62A9FAAE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arrywhitecantgetenoughofuourlovebab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773360"/>
            <a:ext cx="9144000" cy="310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Ho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Hoy es </a:t>
            </a:r>
            <a:fld id="{B2AEA106-E05D-4073-A6E6-59F55CEB39E1}" type="datetime2"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jueves, 30 de julio de 2026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Ahora mismo son las </a:t>
            </a:r>
            <a:fld id="{4D155421-FA06-4B5C-AE35-8928DD549806}" type="datetime12">
              <a:rPr b="1" lang="es-AR" sz="3200" spc="-1" strike="noStrike">
                <a:solidFill>
                  <a:srgbClr val="ffff00"/>
                </a:solidFill>
                <a:latin typeface="Comic Sans MS"/>
              </a:rPr>
              <a:t>03:06 p. m.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Relájate, es pronto aú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7948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062036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05080" y="-39600"/>
            <a:ext cx="11161800" cy="74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43080"/>
            <a:ext cx="1076472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49440" y="-73080"/>
            <a:ext cx="11196720" cy="743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4737240" cy="710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-171360"/>
            <a:ext cx="467676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717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753080" cy="710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2773_35.jpg"/>
          <p:cNvPicPr/>
          <p:nvPr/>
        </p:nvPicPr>
        <p:blipFill>
          <a:blip r:embed="rId1"/>
          <a:stretch/>
        </p:blipFill>
        <p:spPr>
          <a:xfrm>
            <a:off x="-396720" y="0"/>
            <a:ext cx="44892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4822560" cy="723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289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64080" y="0"/>
            <a:ext cx="4579920" cy="68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975200" cy="724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99160" cy="7174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92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1160000" cy="74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800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바탕"/>
              </a:rPr>
              <a:t>Siempre he pensado que admirar la belleza física, y recibir mensajes vía e-mail, mejora nuestro estado de án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바탕"/>
              </a:rPr>
              <a:t>Este adjunto está dedicado al verdadero amigo, a la verdadera amistad, así que sigue saturando mi correo con esas hermosas imágenes de ángeles que exaltan la belleza femenina, de la cual me declaro admirador irremediable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바탕"/>
              </a:rPr>
              <a:t>   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바탕"/>
              </a:rPr>
              <a:t>¡Y gracias por incluirme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바탕"/>
              </a:rPr>
              <a:t>en tu lista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052720" y="-927000"/>
            <a:ext cx="12457080" cy="77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044720" y="-936720"/>
            <a:ext cx="12601800" cy="787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2601440" cy="70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757080" y="-838080"/>
            <a:ext cx="12314160" cy="76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549440" y="-612720"/>
            <a:ext cx="11952360" cy="74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368360" y="0"/>
            <a:ext cx="10512360" cy="700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88000" y="6093000"/>
            <a:ext cx="3241440" cy="4597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바탕"/>
              </a:rPr>
              <a:t>Anna Kournik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1304720" cy="750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1518920" cy="76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1085480" cy="73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25320"/>
            <a:ext cx="914400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521000"/>
            <a:ext cx="9144000" cy="5337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바탕"/>
              </a:rPr>
              <a:t>Espero, seguir compartiendo contigo todas estas mmmmm bellezas, porque sé que al recibirlas, ahí te encuentras t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612720" y="-42840"/>
            <a:ext cx="10801440" cy="72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1229840" cy="74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72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836000" cy="72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84360" y="-349200"/>
            <a:ext cx="10437840" cy="72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945800" cy="73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1989000"/>
            <a:ext cx="8642160" cy="19227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e701"/>
                </a:solidFill>
                <a:latin typeface="바탕"/>
              </a:rPr>
              <a:t>FELIZ SEMANA DE LA AMIST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Zed_Art-Digital_002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4"/>
          <p:cNvSpPr/>
          <p:nvPr/>
        </p:nvSpPr>
        <p:spPr>
          <a:xfrm>
            <a:off x="179280" y="83664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ff00"/>
                </a:solidFill>
                <a:latin typeface="Comic Sans MS"/>
              </a:rPr>
              <a:t>Que tengas un día  lindo con mucha </a:t>
            </a:r>
            <a:r>
              <a:rPr b="1" lang="fr-CA" sz="6000" spc="-1" strike="noStrike">
                <a:solidFill>
                  <a:srgbClr val="ff3300"/>
                </a:solidFill>
                <a:latin typeface="Comic Sans MS"/>
              </a:rPr>
              <a:t>PAZ</a:t>
            </a:r>
            <a:r>
              <a:rPr b="1" lang="fr-CA" sz="6000" spc="-1" strike="noStrike">
                <a:solidFill>
                  <a:srgbClr val="ffff00"/>
                </a:solidFill>
                <a:latin typeface="Comic Sans MS"/>
              </a:rPr>
              <a:t> y mucho </a:t>
            </a:r>
            <a:r>
              <a:rPr b="1" lang="fr-CA" sz="6000" spc="-1" strike="noStrike">
                <a:solidFill>
                  <a:srgbClr val="ff3300"/>
                </a:solidFill>
                <a:latin typeface="Comic Sans MS"/>
              </a:rPr>
              <a:t>AMOR</a:t>
            </a:r>
            <a:r>
              <a:rPr b="1" lang="fr-CA" sz="60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3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76472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872720" cy="72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369440" cy="689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0:08:51Z</dcterms:created>
  <dc:creator>since</dc:creator>
  <dc:description/>
  <dc:language>en-US</dc:language>
  <cp:lastModifiedBy>Jorge</cp:lastModifiedBy>
  <dcterms:modified xsi:type="dcterms:W3CDTF">2009-07-21T17:15:21Z</dcterms:modified>
  <cp:revision>1</cp:revision>
  <dc:subject/>
  <dc:title>Mujeres muy hermosas-29</dc:title>
</cp:coreProperties>
</file>