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C55-FDC9-4C69-B4AE-F02A1DAC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9DA-7426-4455-B973-5E86FCFF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A94-CB07-4248-8D98-D2EB4392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854-769F-4F10-9F22-DC92CEDC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BCB-7D66-4865-B9B0-3E334451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CB0-1A0C-491F-8783-4D707C1D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A21-6669-4E91-8822-B9A48EA8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8A8-B28E-4B80-A858-EC4DA86A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75F-7588-4281-B7D7-A3455B99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31A-C77A-4686-B120-9D95BD54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35B-BF00-4C53-A58F-5F4DFD7C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541-9B4D-416D-91CA-2E6C3109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5126-B805-4066-805F-0A1A73642C4B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zerkalos.ru/eng/views/stars777.htm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5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7c80"/>
                </a:solidFill>
                <a:latin typeface="Times New Roman"/>
              </a:rPr>
              <a:t>5   0</a:t>
            </a:r>
            <a:r>
              <a:rPr b="0" lang="nb-NO" sz="2000" spc="-1" strike="noStrike">
                <a:solidFill>
                  <a:srgbClr val="ff7c8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nb-NO" sz="2000" spc="-1" strike="noStrike">
                <a:solidFill>
                  <a:srgbClr val="ff7c80"/>
                </a:solidFill>
                <a:latin typeface="Times New Roman"/>
              </a:rPr>
              <a:t>T   O   P       G   I   R   L   S</a:t>
            </a:r>
            <a:br>
              <a:rPr sz="2000"/>
            </a:br>
            <a:r>
              <a:rPr b="0" lang="nb-NO" sz="2000" spc="-1" strike="noStrike">
                <a:solidFill>
                  <a:srgbClr val="ff7c80"/>
                </a:solidFill>
                <a:latin typeface="Times New Roman"/>
              </a:rPr>
              <a:t>E</a:t>
            </a:r>
            <a:br>
              <a:rPr sz="2000"/>
            </a:br>
            <a:r>
              <a:rPr b="0" lang="nb-NO" sz="2000" spc="-1" strike="noStrike">
                <a:solidFill>
                  <a:srgbClr val="ff7c80"/>
                </a:solidFill>
                <a:latin typeface="Times New Roman"/>
              </a:rPr>
              <a:t>P   l   a   y   g   i   r   l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Brooke Richards - Erotic model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400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OKE RICH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9068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Heather Carolin - The girl of a year PlayBoy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43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0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HER CARO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968400" y="6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503280" y="9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Karen McDougal - The girl of a year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400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EN MCDOU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3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400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IA FU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Alexis Contopulos - Models from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400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XIS CONTOP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0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40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LENE KUR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60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400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Y TY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496800" y="9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Alesha Oreskovich - Models from PlayBoy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57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6400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SHA ORESKOV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50148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Summer Altice - Sex a model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400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ER AL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Crystal Beddows - The girl of a month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400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8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 BED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Tina Jordan - Девушка месяца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0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A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506520" y="96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Nichole Van Croft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45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400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1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HOLE VAN CR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0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IE BERG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Heather Spytek - Erotic model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6400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HER SP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4953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Shae Marks - Models from PlayBoy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400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E 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Jill Scott - The girl of a year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400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LL S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Kaelie Hart - The girl of a year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400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ELIE 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0148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Brande Roderick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6400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E RODE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Shanna Moaker - Erotic model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>
            <a:off x="0" y="64008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NA MO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Veronica Moore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6400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ONICA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498600" y="9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Gena Lee Nolin - Sex of a model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43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400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8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A LEE NO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953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Shannon Stewart - Sex a model PlayBoy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4008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NNON STE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Lauren Anderson - Star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6400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2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EN AND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Jeanette Martinez - The sexual girl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00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0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ANETTE MARTIN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48096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Irina Voronina - Sex a model PlayBoy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6400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INA VORON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Kim Hiott - Star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M HI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Gina Patrone - Star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400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NA PAT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5079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TSTI SH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495360" y="90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Christi Shake - Models from PlayBoy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5079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Anka Romensky - Models from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6400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KA ROMA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4953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Kerissa Fare - The girl of a year PlayBo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6400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ISSA 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Katie Hadorn - Models from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6400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TIE HAD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Erika Michelle Barre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8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KA MICHELLE BA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Nicole Marie Lenz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400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00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OLE MARIE L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Merritt Cabal - Sex of a model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6400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3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RITT CA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Star Zemba - Erotic models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6400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0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 SEM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506520" y="96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Tailor James - Models from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45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400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OR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Candice Michelle - The sexual girl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6400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CE  MICH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-511200" y="99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Jennifer Walcott - Models from PlayBoy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73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6400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NNIFER WAL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Aubrie Lemon - The girl of a month PlayBoy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6400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BERIE LE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TALIA SOKOL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6400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YLA C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30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6400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A BO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6400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8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Y CO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50472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Kimberley Stanfield - The sexual girl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400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MBERLEY STAN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6400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4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A SCHUL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6400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50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G HI 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50328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Tiffany Taylor - Sex of a model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72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400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ANY 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5079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Stephanie Heinrich - The girl of a month PlayBoy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400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ANIE HEIN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4953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Crista Nicole - Models from PlayBoy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400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TA NIC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400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N 08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RA LE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12:37:07Z</dcterms:created>
  <dc:creator>oivind</dc:creator>
  <dc:description/>
  <dc:language>en-US</dc:language>
  <cp:lastModifiedBy>Scott McCauley</cp:lastModifiedBy>
  <dcterms:modified xsi:type="dcterms:W3CDTF">2005-11-25T03:36:06Z</dcterms:modified>
  <cp:revision>6</cp:revision>
  <dc:subject/>
  <dc:title>50 grunner til ikke å være homo</dc:title>
</cp:coreProperties>
</file>