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7AB-6384-4284-A05D-27A31052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DCE-3192-428C-A485-948B9032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149-EB4D-479B-8B48-A4A973C9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C8B-37C7-4160-A885-9EFAF31B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EAC-2C74-4608-894A-3247DCE7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AF9-3068-4D90-97F7-C06DFBCC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4FC-0DC6-4A3F-954C-4207FD6F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7C8-C919-4715-8FB4-C336AD59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E55-9E89-4278-809F-8A1C4D09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4F6-B068-4A73-9E36-333DC08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199-F822-4C01-9001-5325B9C0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DEE-DADB-4264-9475-77AEFB9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6490-0D49-473C-90BB-5BC38195D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un1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402520" cy="4052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457200"/>
            <a:ext cx="701028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ue Friends always pop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5562720"/>
            <a:ext cx="586764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say hell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46560" cy="386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457200"/>
            <a:ext cx="6248520" cy="70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457200"/>
            <a:ext cx="61722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ue friends don’t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5638680"/>
            <a:ext cx="61722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’re a lil’ differen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180120" cy="37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609480"/>
            <a:ext cx="62485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ue friends w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5562720"/>
            <a:ext cx="55627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ive you anywher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5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995800" cy="426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304920"/>
            <a:ext cx="64008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ue friends 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5791320"/>
            <a:ext cx="57913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ryone come along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6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180120" cy="443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380880"/>
            <a:ext cx="64771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rue friends don’t laug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79132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n you get new glass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146560" cy="386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380880"/>
            <a:ext cx="62481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ue friends never f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5486400"/>
            <a:ext cx="632448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ke cats and dog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7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00760" cy="33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533520"/>
            <a:ext cx="71629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ue friends help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105520"/>
            <a:ext cx="57909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p when your dow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000760" cy="330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85800"/>
            <a:ext cx="8458200" cy="100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Courier New"/>
              </a:rPr>
              <a:t>And true friends never let you do someth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029200"/>
            <a:ext cx="7924680" cy="1617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Courier New"/>
              </a:rPr>
              <a:t>you’ll regret when you wake up the next morning!</a:t>
            </a:r>
            <a:r>
              <a:rPr b="1" lang="en-US" sz="2800" spc="-1" strike="noStrike">
                <a:solidFill>
                  <a:srgbClr val="0080ff"/>
                </a:solidFill>
                <a:latin typeface="Comic Sans MS"/>
                <a:ea typeface="Courier New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t0479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60760" cy="343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28600"/>
            <a:ext cx="80010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d this message to all your friends and let them know you c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5410080"/>
            <a:ext cx="571500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UH – BYE 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9:34:31Z</dcterms:created>
  <dc:creator>Meegan</dc:creator>
  <dc:description/>
  <dc:language>en-US</dc:language>
  <cp:lastModifiedBy>Meegan</cp:lastModifiedBy>
  <dcterms:modified xsi:type="dcterms:W3CDTF">2004-02-01T22:15:11Z</dcterms:modified>
  <cp:revision>24</cp:revision>
  <dc:subject/>
  <dc:title>PowerPoint Presentation</dc:title>
</cp:coreProperties>
</file>