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ndes-18.wav" ContentType="audio/x-wav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DCF7-E74E-4382-948F-0C2D75B79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928D-176D-4F99-9B24-D6348ABB4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D052-5524-4D4D-8F09-9CC392DBB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007A-5466-4186-B752-7B7A515D5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8647-ADA6-4DF9-9F25-AA66BD5E1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830E-649F-426A-9EDE-19C609628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92A5-EB26-4444-8439-53D58FDDA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8CB3-1D70-4F8D-ABC5-BC6DF307B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442C-8959-46CC-B317-28E21B780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51BC-82A7-4BEA-B504-437D14F0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1CCF-56C1-4E9A-90D9-044B02CC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A21F-B520-4233-B559-D7AFBB9A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A82FF-B286-4091-92D3-14739A2B2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ndes-18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436572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58920" y="2421000"/>
            <a:ext cx="684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6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The Number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805360"/>
            <a:ext cx="3816360" cy="38448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3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11280" y="450864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71640" y="587700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348000" y="1052640"/>
            <a:ext cx="180036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346560" y="1052640"/>
            <a:ext cx="1440" cy="17287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348000" y="2781360"/>
            <a:ext cx="172872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5076720" y="981000"/>
            <a:ext cx="1800" cy="3672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76720" y="4581360"/>
            <a:ext cx="1800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3860640"/>
            <a:ext cx="64764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24360" y="3860640"/>
            <a:ext cx="0" cy="432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76720" y="3860640"/>
            <a:ext cx="0" cy="7207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4859280" y="1197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932360" y="2637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4859280" y="4437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932360" y="29242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627280" y="1197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556000" y="25653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84360" y="4005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484360" y="43657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780000" y="3429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65440" y="47242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8000"/>
                </a:solidFill>
                <a:latin typeface="Arial"/>
              </a:rPr>
              <a:t>9 ang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500"/>
                            </p:stCondLst>
                            <p:childTnLst>
                              <p:par>
                                <p:cTn id="59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8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500"/>
                            </p:stCondLst>
                            <p:childTnLst>
                              <p:par>
                                <p:cTn id="60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8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2500"/>
                            </p:stCondLst>
                            <p:childTnLst>
                              <p:par>
                                <p:cTn id="61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8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3500"/>
                            </p:stCondLst>
                            <p:childTnLst>
                              <p:par>
                                <p:cTn id="61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8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4500"/>
                            </p:stCondLst>
                            <p:childTnLst>
                              <p:par>
                                <p:cTn id="62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8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500"/>
                            </p:stCondLst>
                            <p:childTnLst>
                              <p:par>
                                <p:cTn id="63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8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6500"/>
                            </p:stCondLst>
                            <p:childTnLst>
                              <p:par>
                                <p:cTn id="64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8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7500"/>
                            </p:stCondLst>
                            <p:childTnLst>
                              <p:par>
                                <p:cTn id="65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8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8500"/>
                            </p:stCondLst>
                            <p:childTnLst>
                              <p:par>
                                <p:cTn id="66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8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9500"/>
                            </p:stCondLst>
                            <p:childTnLst>
                              <p:par>
                                <p:cTn id="67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11280" y="465300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26920" y="558972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19280" y="191628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And the most interesting and intelligent of all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0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755640" y="465300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71640" y="5805360"/>
            <a:ext cx="3816360" cy="38448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771640" y="1413000"/>
            <a:ext cx="3024360" cy="3384360"/>
          </a:xfrm>
          <a:prstGeom prst="ellipse">
            <a:avLst/>
          </a:prstGeom>
          <a:noFill/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916360" y="285264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Zero angle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0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84360" y="472428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187280" y="5805360"/>
            <a:ext cx="3816360" cy="38448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26920" y="1484280"/>
            <a:ext cx="7490160" cy="21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008000"/>
                </a:solidFill>
                <a:latin typeface="Comic Sans MS"/>
              </a:rPr>
              <a:t>Moral of the s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8000"/>
                </a:solidFill>
                <a:latin typeface="Comic Sans MS"/>
              </a:rPr>
              <a:t>It is never late to lear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0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900000" y="458136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55640" y="566100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042920" y="2276640"/>
            <a:ext cx="741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6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Share it with your friends……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0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9640" y="1484280"/>
            <a:ext cx="813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The numbers we write are made up of  algorithms, (1, 2, 3, 4, etc) called arabic </a:t>
            </a:r>
            <a:r>
              <a:rPr b="1" i="1" lang="es-AR" sz="3200" spc="-1" strike="noStrike">
                <a:solidFill>
                  <a:srgbClr val="008000"/>
                </a:solidFill>
                <a:latin typeface="Comic Sans MS"/>
              </a:rPr>
              <a:t>algorithms, to distinguish them from the roman algorithms</a:t>
            </a:r>
            <a:r>
              <a:rPr b="1" i="1" lang="es-AR" sz="3200" spc="-1" strike="noStrike" u="sng">
                <a:solidFill>
                  <a:srgbClr val="008000"/>
                </a:solidFill>
                <a:uFillTx/>
                <a:latin typeface="Comic Sans MS"/>
              </a:rPr>
              <a:t> </a:t>
            </a: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 (I; II; III; IV; etc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443700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6920" y="573408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9640" y="443700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55640" y="573408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5640" y="1484280"/>
            <a:ext cx="7345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The arabs popularise these algorithms, but their origin goes back to the phenecian merchants that used them to count and do their commercial contabilit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55640" y="443700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00000" y="573408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03280" y="1700280"/>
            <a:ext cx="64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Have you ever asked the question why 1 is “one”, 2 is “two”, 3 is “three”….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4360" y="429264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26920" y="566100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03280" y="2205000"/>
            <a:ext cx="59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What is the logic that exist in the arabic algorith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95280" y="450864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00000" y="573408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47640" y="148428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Easy, very easy…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619280" y="2565360"/>
            <a:ext cx="54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008000"/>
                </a:solidFill>
                <a:latin typeface="Comic Sans MS"/>
              </a:rPr>
              <a:t>There are angle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826920" y="4508640"/>
            <a:ext cx="11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16000" y="573408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2349360"/>
            <a:ext cx="66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Look at these algorithms written in their primitive form and check it up!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443700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8360" y="595008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55640" y="476280"/>
            <a:ext cx="792000" cy="1008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476360" y="476280"/>
            <a:ext cx="71280" cy="2016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932360" y="476280"/>
            <a:ext cx="1224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787640" y="476280"/>
            <a:ext cx="1368360" cy="2016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2492280"/>
            <a:ext cx="129672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00000" y="3284640"/>
            <a:ext cx="129564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00000" y="5300640"/>
            <a:ext cx="129564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186920" y="3284640"/>
            <a:ext cx="1008360" cy="1008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87280" y="4292640"/>
            <a:ext cx="1008360" cy="1008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35640" y="3141720"/>
            <a:ext cx="0" cy="23749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4211640" y="4508640"/>
            <a:ext cx="1224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140000" y="3141720"/>
            <a:ext cx="1223640" cy="13669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971640" y="980640"/>
            <a:ext cx="43164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692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219280" y="220500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26920" y="3429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71640" y="5157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476360" y="429264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788000" y="465264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5292360" y="3573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348000" y="436572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292720" y="4365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256536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8000"/>
                </a:solidFill>
                <a:latin typeface="Comic Sans MS"/>
              </a:rPr>
              <a:t>1 a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263700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8000"/>
                </a:solidFill>
                <a:latin typeface="Comic Sans MS"/>
              </a:rPr>
              <a:t>2 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5640" y="544500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8000"/>
                </a:solidFill>
                <a:latin typeface="Comic Sans MS"/>
              </a:rPr>
              <a:t>3 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427640" y="551664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8000"/>
                </a:solidFill>
                <a:latin typeface="Comic Sans MS"/>
              </a:rPr>
              <a:t>4 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8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8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8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8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500"/>
                            </p:stCondLst>
                            <p:childTnLst>
                              <p:par>
                                <p:cTn id="17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8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8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8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500"/>
                            </p:stCondLst>
                            <p:childTnLst>
                              <p:par>
                                <p:cTn id="22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4500"/>
                            </p:stCondLst>
                            <p:childTnLst>
                              <p:par>
                                <p:cTn id="23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458136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020000" y="2637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61440" y="2637000"/>
            <a:ext cx="1366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84720" y="3716280"/>
            <a:ext cx="15116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77080" y="405612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4360" y="595008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71640" y="620640"/>
            <a:ext cx="0" cy="107964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71640" y="1700280"/>
            <a:ext cx="1008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71640" y="620640"/>
            <a:ext cx="1008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79640" y="1700280"/>
            <a:ext cx="0" cy="108108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71640" y="2781360"/>
            <a:ext cx="1008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971640" y="2276640"/>
            <a:ext cx="0" cy="5047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84720" y="620640"/>
            <a:ext cx="0" cy="2232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84720" y="620640"/>
            <a:ext cx="1008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84720" y="2852640"/>
            <a:ext cx="1008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84720" y="1773360"/>
            <a:ext cx="1008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91280" y="1773360"/>
            <a:ext cx="1440" cy="107928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1332000" y="3500280"/>
            <a:ext cx="792000" cy="180036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71640" y="3500280"/>
            <a:ext cx="115236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332000" y="4365720"/>
            <a:ext cx="792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16000" y="5300640"/>
            <a:ext cx="50328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11640" y="3429000"/>
            <a:ext cx="1224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211640" y="5373720"/>
            <a:ext cx="129708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1640" y="3429000"/>
            <a:ext cx="1224000" cy="19447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11640" y="3429000"/>
            <a:ext cx="1297080" cy="19447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01800" y="285264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8000"/>
                </a:solidFill>
                <a:latin typeface="Arial"/>
              </a:rPr>
              <a:t>5 ang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213440" y="29242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8000"/>
                </a:solidFill>
                <a:latin typeface="Arial"/>
              </a:rPr>
              <a:t>6 ang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537372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8000"/>
                </a:solidFill>
                <a:latin typeface="Arial"/>
              </a:rPr>
              <a:t>7 ang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86160" y="551664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8000"/>
                </a:solidFill>
                <a:latin typeface="Arial"/>
              </a:rPr>
              <a:t>8 ang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186920" y="836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186920" y="1484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355640" y="765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5148000" y="1916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5148000" y="2708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71640" y="191628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1763280" y="2637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4355640" y="1628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0836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708360" y="2708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71640" y="3645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16000" y="4221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9640" y="515772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834920" y="422100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1547640" y="5157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42920" y="4508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1763640" y="450864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5148360" y="3573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08360" y="3573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5003280" y="436572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067280" y="43657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5148360" y="5229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08360" y="5229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4788000" y="4149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788000" y="4653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8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500"/>
                            </p:stCondLst>
                            <p:childTnLst>
                              <p:par>
                                <p:cTn id="27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8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500"/>
                            </p:stCondLst>
                            <p:childTnLst>
                              <p:par>
                                <p:cTn id="28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8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3500"/>
                            </p:stCondLst>
                            <p:childTnLst>
                              <p:par>
                                <p:cTn id="28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8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4500"/>
                            </p:stCondLst>
                            <p:childTnLst>
                              <p:par>
                                <p:cTn id="29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8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500"/>
                            </p:stCondLst>
                            <p:childTnLst>
                              <p:par>
                                <p:cTn id="30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3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8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500"/>
                            </p:stCondLst>
                            <p:childTnLst>
                              <p:par>
                                <p:cTn id="34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8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3500"/>
                            </p:stCondLst>
                            <p:childTnLst>
                              <p:par>
                                <p:cTn id="35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8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4500"/>
                            </p:stCondLst>
                            <p:childTnLst>
                              <p:par>
                                <p:cTn id="36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8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500"/>
                            </p:stCondLst>
                            <p:childTnLst>
                              <p:par>
                                <p:cTn id="37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8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6500"/>
                            </p:stCondLst>
                            <p:childTnLst>
                              <p:par>
                                <p:cTn id="38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8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000"/>
                            </p:stCondLst>
                            <p:childTnLst>
                              <p:par>
                                <p:cTn id="4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8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4000"/>
                            </p:stCondLst>
                            <p:childTnLst>
                              <p:par>
                                <p:cTn id="4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8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0"/>
                            </p:stCondLst>
                            <p:childTnLst>
                              <p:par>
                                <p:cTn id="4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8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6000"/>
                            </p:stCondLst>
                            <p:childTnLst>
                              <p:par>
                                <p:cTn id="4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8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8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7000"/>
                            </p:stCondLst>
                            <p:childTnLst>
                              <p:par>
                                <p:cTn id="46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8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8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3000"/>
                            </p:stCondLst>
                            <p:childTnLst>
                              <p:par>
                                <p:cTn id="50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8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4000"/>
                            </p:stCondLst>
                            <p:childTnLst>
                              <p:par>
                                <p:cTn id="5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8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8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6000"/>
                            </p:stCondLst>
                            <p:childTnLst>
                              <p:par>
                                <p:cTn id="5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8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7000"/>
                            </p:stCondLst>
                            <p:childTnLst>
                              <p:par>
                                <p:cTn id="5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8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8000"/>
                            </p:stCondLst>
                            <p:childTnLst>
                              <p:par>
                                <p:cTn id="5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8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9000"/>
                            </p:stCondLst>
                            <p:childTnLst>
                              <p:par>
                                <p:cTn id="55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18:37:10Z</dcterms:created>
  <dc:creator>TERM 3</dc:creator>
  <dc:description>Solo para uso didáctico</dc:description>
  <cp:keywords>curiosidades matemáticas</cp:keywords>
  <dc:language>en-US</dc:language>
  <cp:lastModifiedBy>Mereau</cp:lastModifiedBy>
  <dcterms:modified xsi:type="dcterms:W3CDTF">2009-01-29T06:08:31Z</dcterms:modified>
  <cp:revision>4</cp:revision>
  <dc:subject>Curiosidades</dc:subject>
  <dc:title>Diapositiva 1</dc:title>
</cp:coreProperties>
</file>