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26BE-5873-4EE0-82AC-2475D34F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C1EA2-77CD-41AD-9407-3B038B4A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B791-2E68-483C-9797-3C924A1D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17621-2771-439A-8FE6-4427FB90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FD3B-F66D-4392-BE4A-78CEB857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7F1E-511C-4255-8279-AF69499B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7A89-5D4C-4469-9AD7-CA0063AF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F231-FF8F-4244-977D-1388B8C4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3083-2DE3-40D3-91B1-7B16F3F5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C61B-E441-4812-9B8E-4C176FFC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707B-C84E-419E-B938-C8201E4C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EE77D-6C70-4BF5-BDD7-C006825E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4905-FD3D-462F-B8AD-5D0F4395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D987-A1B7-4498-9BF7-A0A1A1B8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D8C9-CE47-4901-91A7-8266649C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0718-1E97-4426-B9AF-441F4BBD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B5E4-ADE1-4CA1-8888-63B86F7D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546DC-4364-4D46-B4BA-28E8BD8A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FF4A-EF2A-4893-857E-DD28A2BA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D79F1-18AB-4DCC-9EA8-DCEF30C9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C9F16-EBE1-4C05-890A-978BC9D3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DE157-D24A-4F91-93C1-F59E472E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89BF-5EAD-48C6-AEF8-FE9E75FB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B90B2-41BB-4231-ADAC-04E30E0C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0622-1157-44CB-B6BA-307A4E9D28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9CFF-BEB2-4094-AE09-4F04E6C549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Week%201.ppt" TargetMode="External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4497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07732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.VnVogueH"/>
              </a:rPr>
              <a:t>An Introduction to American Studi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Garamond"/>
              </a:rPr>
              <a:t>By Pham Hong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United States of Amer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 U.S. states vary in size and popul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xam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rgest state: Alaska (1,593,438 sq k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allest state: Rhode Island (3,188 sq k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populous state: California (33,871,648, 200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st populous state: Wyoming (493,78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tural advanta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lessed with many natural advantag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 climates favorable for agri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 extensive internal waterways: Mississippi, Missouri, Ohio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 abundant natural resources: oil, natural gas, iron ore, coal, lead, zinc…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nd and clim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four of the world’s most productive agricultural climates are found in the United Stat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aking the U.S. one of the world’s leading agricultural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tural Advanta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jor river systems flow south → provide ample supplies for drinking water, crop irrigation &amp; industrial 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mprehensive network of river → provide transportation routes for bulk cargo, development of hydroelectr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ltural divers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elting pot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merican Salad bow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firmative Action”. What is i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3941640"/>
          <a:ext cx="8229600" cy="2187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Action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had to be taken to be sure that minorities who experienced discrimination for hundreds of years would be provided or </a:t>
                      </a: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affirmed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opportunities to live, work and study anywhere in the societ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s for discus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cribe the geographic diversity of the US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natural advantages and disadvantages of the U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brought about the cultural diversity in the U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could choose where to live, would you like to settle down in a country with as much diversity as the US? Explain your ans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30477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e5e5ff"/>
                </a:solidFill>
                <a:latin typeface=".VnVogue"/>
              </a:rPr>
              <a:t>A brief history of the United States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67816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ut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lonial e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lat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gressive mov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r and Pe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eat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rld war I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ld w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ginning of the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olonial 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discovered Americ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elandic Vikings, led by Leif Ericson reached North America more than 1000 years ag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o imp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olonial 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91720" cy="556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4251240" y="3313080"/>
            <a:ext cx="10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2743200"/>
            <a:ext cx="167616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lum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08240" y="35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362320" y="3123720"/>
            <a:ext cx="198108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1828800" cy="2014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 1492, Christopher Columbus landed 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ahamas Islands in the Caribbean Se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ess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al presentation: 2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lection on the presentation and participation: 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end of term sitting test: 7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991720" cy="655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114800" y="1447920"/>
            <a:ext cx="213372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a886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1752480"/>
            <a:ext cx="1576440" cy="685800"/>
          </a:xfrm>
          <a:custGeom>
            <a:avLst/>
            <a:gdLst/>
            <a:ahLst/>
            <a:rect l="l" t="t" r="r" b="b"/>
            <a:pathLst>
              <a:path w="637" h="129">
                <a:moveTo>
                  <a:pt x="604" y="3"/>
                </a:moveTo>
                <a:cubicBezTo>
                  <a:pt x="545" y="9"/>
                  <a:pt x="308" y="29"/>
                  <a:pt x="250" y="38"/>
                </a:cubicBezTo>
                <a:cubicBezTo>
                  <a:pt x="192" y="47"/>
                  <a:pt x="300" y="39"/>
                  <a:pt x="258" y="54"/>
                </a:cubicBezTo>
                <a:cubicBezTo>
                  <a:pt x="216" y="69"/>
                  <a:pt x="15" y="123"/>
                  <a:pt x="0" y="129"/>
                </a:cubicBezTo>
                <a:lnTo>
                  <a:pt x="167" y="91"/>
                </a:lnTo>
                <a:lnTo>
                  <a:pt x="637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514600"/>
            <a:ext cx="1676520" cy="1618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rst English colony in James tow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irgin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16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54864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51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y 1733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glish settlers had founded 13 colonies along the Atlantic coa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5334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asic pattern of government and control</a:t>
            </a:r>
            <a:br>
              <a:rPr sz="40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676520"/>
            <a:ext cx="2209680" cy="1557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ation of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al/legal instit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2362320"/>
            <a:ext cx="2209680" cy="990360"/>
          </a:xfrm>
          <a:prstGeom prst="rightArrow">
            <a:avLst>
              <a:gd name="adj1" fmla="val 50000"/>
              <a:gd name="adj2" fmla="val 55780"/>
            </a:avLst>
          </a:prstGeom>
          <a:gradFill rotWithShape="0">
            <a:gsLst>
              <a:gs pos="0">
                <a:srgbClr val="cc00ff">
                  <a:alpha val="85098"/>
                </a:srgbClr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1828800"/>
            <a:ext cx="4343400" cy="2288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e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assemb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ructure of government in coloni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/>
          <p:nvPr/>
        </p:nvSpPr>
        <p:spPr>
          <a:xfrm>
            <a:off x="212760" y="1560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2240" y="1600200"/>
            <a:ext cx="6764400" cy="550800"/>
          </a:xfrm>
          <a:prstGeom prst="rect">
            <a:avLst/>
          </a:prstGeom>
          <a:solidFill>
            <a:srgbClr val="f0ae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wers of governor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imila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o those of the k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9440" y="2895480"/>
            <a:ext cx="6416640" cy="3934440"/>
          </a:xfrm>
          <a:prstGeom prst="rect">
            <a:avLst/>
          </a:prstGeom>
          <a:solidFill>
            <a:srgbClr val="26b84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5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execu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5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appointed minor colonial offic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5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summoned/dismissed assemb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5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proposed legi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5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right to veto colonial la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5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</a:rPr>
              <a:t>generally financially dependent on assembl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ructure of government in coloni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1447920"/>
            <a:ext cx="1676520" cy="520560"/>
          </a:xfrm>
          <a:prstGeom prst="rect">
            <a:avLst/>
          </a:prstGeom>
          <a:solidFill>
            <a:srgbClr val="26b8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m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550960"/>
            <a:ext cx="6933960" cy="3934440"/>
          </a:xfrm>
          <a:prstGeom prst="rect">
            <a:avLst/>
          </a:prstGeom>
          <a:solidFill>
            <a:srgbClr val="a886e0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solated representative of king from Lond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daily negotiating with hard-headed, pragmatic colon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. no security of ten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. often bound by unpractical instructions from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. nothing to offer to influence legisl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lonial war betwee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Great Britain and Fran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ring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ntury, France and England fought several wars → England gained control of Canada and all of north America east of the Mississipp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B growing intervention in colonial affairs after 1759          imposed new tax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 the sugar Act, the stamp Act, and the tea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495288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685800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Franklin Gothic Medium"/>
              </a:rPr>
              <a:t>the reaction of the colonists to the tax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91440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1828800"/>
            <a:ext cx="33526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ented the t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895480"/>
            <a:ext cx="5867280" cy="520560"/>
          </a:xfrm>
          <a:prstGeom prst="rect">
            <a:avLst/>
          </a:prstGeom>
          <a:solidFill>
            <a:srgbClr val="a886e0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taxation without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114800"/>
            <a:ext cx="61243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Arial"/>
              </a:rPr>
              <a:t>the action of the British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8006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5715000"/>
            <a:ext cx="65386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ll the taxes, except one on tea, were rem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tea Act crisis          Boston Tea Part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Direct cause of tea Act crisi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 Nearly bankrupt East India Co. was permitted to sell tea in the US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 Permitted cheaper sale of tea, while still making prof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 American tea tax remained, as exercise of princip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. American reaction: boycott of tea, though cheap, as designed to trick the colonists into paying the tax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838080"/>
            <a:ext cx="762120" cy="76320"/>
          </a:xfrm>
          <a:prstGeom prst="rightArrow">
            <a:avLst>
              <a:gd name="adj1" fmla="val 50000"/>
              <a:gd name="adj2" fmla="val 24964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773 Boston Tea Par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114800" cy="4525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920" y="1712880"/>
            <a:ext cx="3962160" cy="11912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lonists led by Sam Adams prevent landing of tea ship “Dartmout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he reaction of the British after Boston tea Part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aramond"/>
              </a:rPr>
              <a:t>Governors strengthen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aramond"/>
              </a:rPr>
              <a:t>Assemblies weaken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aramond"/>
              </a:rPr>
              <a:t>Councils appointed (not electe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aramond"/>
              </a:rPr>
              <a:t>Method of jury selection chang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aramond"/>
              </a:rPr>
              <a:t>Lord North and parliament miscalculated colonial solidarity in view of acts directed and continued insist on unlimited authority over colon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144792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United States of Amer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153280" y="58672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5192" y="10800"/>
                </a:moveTo>
                <a:lnTo>
                  <a:pt x="19205" y="3794"/>
                </a:lnTo>
                <a:lnTo>
                  <a:pt x="192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om resistance to rev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"/>
          <p:cNvSpPr/>
          <p:nvPr/>
        </p:nvSpPr>
        <p:spPr>
          <a:xfrm>
            <a:off x="822240" y="2668680"/>
            <a:ext cx="36831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774 first Continental cong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98560" y="3886200"/>
            <a:ext cx="2606760" cy="10087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 discuss the colonies’ opposition to British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42670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9211400">
            <a:off x="5635800" y="4344120"/>
            <a:ext cx="2286000" cy="7038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ffcc00"/>
              </a:gs>
            </a:gsLst>
            <a:lin ang="7788000"/>
          </a:gra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ar broke out on April19, 17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1295280"/>
            <a:ext cx="1752480" cy="1008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ston occupied by Briti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declaration of independ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133720" cy="2286000"/>
          </a:xfrm>
          <a:prstGeom prst="rect">
            <a:avLst/>
          </a:prstGeom>
          <a:gradFill rotWithShape="0">
            <a:gsLst>
              <a:gs pos="0">
                <a:srgbClr val="f0aec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Franklin Gothic Book"/>
              </a:rPr>
              <a:t>Abstract, theoretical justification of right to revolt based on natural law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1600200"/>
            <a:ext cx="1828800" cy="1800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radley Hand ITC"/>
              </a:rPr>
              <a:t>All men are created eq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4876920"/>
            <a:ext cx="5410440" cy="825480"/>
          </a:xfrm>
          <a:prstGeom prst="rect">
            <a:avLst/>
          </a:prstGeom>
          <a:gradFill rotWithShape="0">
            <a:gsLst>
              <a:gs pos="0">
                <a:srgbClr val="a886e0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 Treaty of Paris in 1783: Britain recognized American independe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new 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1676520"/>
            <a:ext cx="3581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void central p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overnmen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3 bran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Legislative (Congr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ecutive (the president and federal agenc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judicial (the federal court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1712880"/>
            <a:ext cx="33526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The first president: George Washing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4495680"/>
            <a:ext cx="50292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hird president: Thomas Jeffer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 1803 purchased the vast Louisiana territory from France, double the size of the US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avery and the civil w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5105520" cy="5257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62120" y="2170080"/>
            <a:ext cx="2971800" cy="1465560"/>
          </a:xfrm>
          <a:prstGeom prst="rect">
            <a:avLst/>
          </a:prstGeom>
          <a:gradFill rotWithShape="0">
            <a:gsLst>
              <a:gs pos="0">
                <a:srgbClr val="f0aec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The first African blacks brought to English North America on Dutch ship and were sold in Jamestown in 16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4572000"/>
            <a:ext cx="3505320" cy="1008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514"/>
                </a:solidFill>
                <a:latin typeface="Arial"/>
              </a:rPr>
              <a:t>all men are created equ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Arial"/>
              </a:rPr>
              <a:t>meaningless to 1.5 million sl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avery and the civil w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litionists vs slave hold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rth vs Sou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1820, northern and southern politicians debated the question of whether slavery would be legal in western territori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ssouri comprom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449568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avery and the civil w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ncoln was elected president in 186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 legislature called a state convention: Dec 20, 1860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ece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wer South quickly follows, Montgomery - provisional capital of Confeder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1 states left the un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merican civil war beg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4952880"/>
            <a:ext cx="1447920" cy="381240"/>
          </a:xfrm>
          <a:prstGeom prst="rightArrow">
            <a:avLst>
              <a:gd name="adj1" fmla="val 50000"/>
              <a:gd name="adj2" fmla="val 94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50840" y="1600200"/>
            <a:ext cx="4740480" cy="1923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years later, after a long campaign involving forces commanded by Lee and Grant, the Confederates surrend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ivil war ended in 1865 – the North w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5053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03480" y="4419720"/>
            <a:ext cx="5197320" cy="1008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Arial"/>
              </a:rPr>
              <a:t>It put an end to slavery, and decided that the country was not a selection of semi-independent states but an indivisible</a:t>
            </a: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 wh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avery and the Civil w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late 19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th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centu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raham Lincoln was assassinated in 1865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 successor, Andrew Johnson was the 1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esident of the US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"/>
          <p:cNvSpPr/>
          <p:nvPr/>
        </p:nvSpPr>
        <p:spPr>
          <a:xfrm>
            <a:off x="1427040" y="3211560"/>
            <a:ext cx="6438240" cy="1618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fter the Civil war, the USA = a leading industrial p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The first trans-continental railroad (186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Petroleum industry prosp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Steel indu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Textile mills, meat packing plant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late 19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th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centu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cc"/>
          </a:solidFill>
          <a:ln w="9360">
            <a:solidFill>
              <a:srgbClr val="b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al industries flour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at invention: telephone, motion picture, light bul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el-frame construction: skyscrap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problem: monopo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urchase of Alaska from Russia in 186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ar with Spain in 1898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→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ession of Cuba, Puerto Rico, the Philippine, Guam and Hawa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1959, Hawaii and Alaska became USA sta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progressive mov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sperity vs Pover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conomy: laissez fa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bout 1900 the Progressive Movement – to reform society and individuals through government 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Socialist party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no solid footing in Amer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2590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181480" y="4572000"/>
            <a:ext cx="29116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Westward – John gash “American progress” (18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o you know the answers to the  following question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What monument is a symbol of American freedom known around the worl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Where do the U.S presidents liv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How many strips and stars are there on the U.S flag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do they represent fo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 Who is the president in offic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Could you give a brief description of the U.S?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952880" y="21337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6" h="21600">
                <a:moveTo>
                  <a:pt x="14606" y="3794"/>
                </a:moveTo>
                <a:lnTo>
                  <a:pt x="28619" y="10800"/>
                </a:lnTo>
                <a:lnTo>
                  <a:pt x="1460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5638680" y="26668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3794"/>
                </a:moveTo>
                <a:lnTo>
                  <a:pt x="28594" y="10800"/>
                </a:lnTo>
                <a:lnTo>
                  <a:pt x="1458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8305920" y="31240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3794"/>
                </a:moveTo>
                <a:lnTo>
                  <a:pt x="22106" y="10800"/>
                </a:lnTo>
                <a:lnTo>
                  <a:pt x="809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4" action="ppaction://hlinksldjump"/>
          </p:cNvPr>
          <p:cNvSpPr/>
          <p:nvPr/>
        </p:nvSpPr>
        <p:spPr>
          <a:xfrm>
            <a:off x="5410080" y="4267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5" action="ppaction://hlinksldjump"/>
          </p:cNvPr>
          <p:cNvSpPr/>
          <p:nvPr/>
        </p:nvSpPr>
        <p:spPr>
          <a:xfrm>
            <a:off x="7467480" y="487692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3794"/>
                </a:moveTo>
                <a:lnTo>
                  <a:pt x="24293" y="10800"/>
                </a:lnTo>
                <a:lnTo>
                  <a:pt x="1028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ld War 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686800" cy="5000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800600" y="2703600"/>
            <a:ext cx="3809880" cy="368280"/>
          </a:xfrm>
          <a:prstGeom prst="rect">
            <a:avLst/>
          </a:prstGeom>
          <a:solidFill>
            <a:srgbClr val="26b842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WW I interrupted in Europe in 19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2743200"/>
            <a:ext cx="2438640" cy="283824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merica: neutr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ut got involved after Germany’s declaration of unrestricted submarine warfare against all ships bound for the Allies po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4608360"/>
            <a:ext cx="3047760" cy="1618560"/>
          </a:xfrm>
          <a:prstGeom prst="rect">
            <a:avLst/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eaty of Versailles 1919 and Woodrow Wilson’s idea of a League of Nations – not ratified by the USA Sen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26b842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Franklin Gothic Demi Cond"/>
              </a:rPr>
              <a:t>The first “Red scare”</a:t>
            </a:r>
            <a:r>
              <a:rPr b="0" lang="en-US" sz="2400" spc="-1" strike="noStrike">
                <a:solidFill>
                  <a:srgbClr val="000514"/>
                </a:solidFill>
                <a:latin typeface="Franklin Gothic Demi Cond"/>
              </a:rPr>
              <a:t> – fear of Bolshevik revolution in Amer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Franklin Gothic Demi Cond"/>
              </a:rPr>
              <a:t>Congress enacted immigration limits in1921and tightened them further in 1924 and 1929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Franklin Gothic Demi Cond"/>
              </a:rPr>
              <a:t>The roaring twen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Franklin Gothic Demi Cond"/>
              </a:rPr>
              <a:t>Big business 1920s: the US= consumer socie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Franklin Gothic Demi Cond"/>
              </a:rPr>
              <a:t>Henry Ford and automobile factor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Franklin Gothic Demi Cond"/>
              </a:rPr>
              <a:t>But: the economic bub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000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great depres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280" y="1646280"/>
            <a:ext cx="4114800" cy="4525920"/>
          </a:xfrm>
          <a:prstGeom prst="rect">
            <a:avLst/>
          </a:prstGeom>
          <a:solidFill>
            <a:srgbClr val="000066"/>
          </a:solidFill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American economy collap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Over 100,000 businesses had fai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Wages had decreased 60 ti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One out of four workers unemploy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Roosevelt and the “New Deal for American people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400640" y="1295280"/>
            <a:ext cx="47433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ld War 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05160" y="2666880"/>
            <a:ext cx="304128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ar outbreak (1939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first the U.S neutr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1905120"/>
            <a:ext cx="2743200" cy="642600"/>
          </a:xfrm>
          <a:prstGeom prst="rect">
            <a:avLst/>
          </a:prstGeom>
          <a:solidFill>
            <a:srgbClr val="e5e5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May 5</a:t>
            </a:r>
            <a:r>
              <a:rPr b="0" lang="en-US" sz="1800" spc="-1" strike="noStrike" baseline="30000">
                <a:solidFill>
                  <a:srgbClr val="000514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 1945, German surrend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03480" y="3693960"/>
            <a:ext cx="3216240" cy="17398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g 1945, president Harry Truman ordered the use of atomic bombs against the cities of Hiroshima and Nagasaki. The war against Japan ended swift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37240" y="3770280"/>
            <a:ext cx="1997280" cy="2014200"/>
          </a:xfrm>
          <a:prstGeom prst="rect">
            <a:avLst/>
          </a:prstGeom>
          <a:solidFill>
            <a:srgbClr val="0099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t involved after the bombing of Pearl Harbor naval base in Hawaii by the Japanese (12/19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old W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743200" y="1905120"/>
            <a:ext cx="4876920" cy="16761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U.S. (+ western European All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&gt;&l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Soviet Un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3962520"/>
            <a:ext cx="3962520" cy="1191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uman’s doctrine – Marshall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stablishment of N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rean W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etnam W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89480" y="5294160"/>
            <a:ext cx="3902040" cy="642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The United Nation came into being – The U.S joi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old W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0aecf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competition to the mo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ichard Nixon and the policy of Vietnam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monstrations protested American involvement on American college campu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99cc"/>
                </a:solidFill>
                <a:latin typeface="Garamond"/>
              </a:rPr>
              <a:t>In July of 1969,astronaut Neil Armstrong stepped out of Apollo 11 and on to the moon surfac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219320" y="1447920"/>
            <a:ext cx="7010280" cy="39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Arial"/>
              </a:rPr>
              <a:t>In 1973, peace treaty with North Vietn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Arial"/>
              </a:rPr>
              <a:t>In 1975, South Vietnam collaps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Arial"/>
              </a:rPr>
              <a:t>During 1980s, Soviet Union faced difficul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Arial"/>
              </a:rPr>
              <a:t>During 1989-1990, the Berlin Wall was pulled dow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Arial"/>
              </a:rPr>
              <a:t>Late 1991, Soviet Union dissolved. The Iron Curtain was lifted                    the Cold War end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4876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cade of chan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In 1988, Republican George Bush became the next U.S presid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hen Iraq invaded oil-rich Kuwait in1990, Bush put together a multinational coalition that liberated Kuwait in early 199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Bill Clinton, a Democrat, became the 42th U.S presid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economy was strong in the mid-1990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war on terror and the U.S in the 21</a:t>
            </a:r>
            <a:r>
              <a:rPr b="1" lang="en-US" sz="4000" spc="-1" strike="noStrike" baseline="30000">
                <a:solidFill>
                  <a:srgbClr val="e5e5ff"/>
                </a:solidFill>
                <a:latin typeface="Garamond"/>
              </a:rPr>
              <a:t>st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centur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5257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September 11</a:t>
            </a:r>
            <a:r>
              <a:rPr b="0" lang="en-US" sz="2400" spc="-1" strike="noStrike" baseline="30000">
                <a:solidFill>
                  <a:srgbClr val="000514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, 2001 terrorists hijacked four commercial jetliners, crashing two into World Trade Center towers in New York cit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Another hit the Pentagon, in Arlington Virgin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In early October, the U.S went to war, bombing Al-Qaeda training camps and missile installation in Afghanista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429000" cy="2590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3962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war on terror and the U.S in the 21</a:t>
            </a:r>
            <a:r>
              <a:rPr b="1" lang="en-US" sz="4000" spc="-1" strike="noStrike" baseline="30000">
                <a:solidFill>
                  <a:srgbClr val="e5e5ff"/>
                </a:solidFill>
                <a:latin typeface="Garamond"/>
              </a:rPr>
              <a:t>st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centur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n March 2003, U.S-led forces invaded Iraq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What do you think of the “war against terrorism” that the U.S president launched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172360" cy="62532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762012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1418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disimage[1]"/>
          <p:cNvPicPr/>
          <p:nvPr/>
        </p:nvPicPr>
        <p:blipFill>
          <a:blip r:embed="rId1"/>
          <a:stretch/>
        </p:blipFill>
        <p:spPr>
          <a:xfrm>
            <a:off x="380880" y="1600200"/>
            <a:ext cx="4038840" cy="4572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obama-berlin-germany-flag.jpg"/>
          <p:cNvPicPr/>
          <p:nvPr/>
        </p:nvPicPr>
        <p:blipFill>
          <a:blip r:embed="rId2"/>
          <a:stretch/>
        </p:blipFill>
        <p:spPr>
          <a:xfrm>
            <a:off x="4419720" y="1600200"/>
            <a:ext cx="4267080" cy="4572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will this president bring about?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200400" y="1981080"/>
            <a:ext cx="5562720" cy="1739880"/>
          </a:xfrm>
          <a:prstGeom prst="rect">
            <a:avLst/>
          </a:prstGeom>
          <a:noFill/>
          <a:ln w="93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Questions for discuss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2038320" cy="2238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380880" y="4114800"/>
            <a:ext cx="20383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7772400" y="5867280"/>
            <a:ext cx="762120" cy="433440"/>
          </a:xfrm>
          <a:custGeom>
            <a:avLst/>
            <a:gdLst>
              <a:gd name="textAreaLeft" fmla="*/ 28080 w 762120"/>
              <a:gd name="textAreaRight" fmla="*/ 734040 w 7621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7966" h="21600">
                <a:moveTo>
                  <a:pt x="0" y="0"/>
                </a:moveTo>
                <a:lnTo>
                  <a:pt x="37966" y="0"/>
                </a:lnTo>
                <a:lnTo>
                  <a:pt x="37966" y="21600"/>
                </a:lnTo>
                <a:lnTo>
                  <a:pt x="0" y="21600"/>
                </a:lnTo>
                <a:close/>
              </a:path>
              <a:path fill="lightenLess" w="37966" h="21600">
                <a:moveTo>
                  <a:pt x="0" y="0"/>
                </a:moveTo>
                <a:lnTo>
                  <a:pt x="37966" y="0"/>
                </a:lnTo>
                <a:lnTo>
                  <a:pt x="36566" y="1400"/>
                </a:lnTo>
                <a:lnTo>
                  <a:pt x="1400" y="1400"/>
                </a:lnTo>
                <a:close/>
              </a:path>
              <a:path fill="darken" w="37966" h="21600">
                <a:moveTo>
                  <a:pt x="37966" y="0"/>
                </a:moveTo>
                <a:lnTo>
                  <a:pt x="37966" y="21600"/>
                </a:lnTo>
                <a:lnTo>
                  <a:pt x="36566" y="20200"/>
                </a:lnTo>
                <a:lnTo>
                  <a:pt x="36566" y="1400"/>
                </a:lnTo>
                <a:close/>
              </a:path>
              <a:path fill="darkenLess" w="37966" h="21600">
                <a:moveTo>
                  <a:pt x="37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66" y="20200"/>
                </a:lnTo>
                <a:close/>
              </a:path>
              <a:path fill="lighten" w="37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66" h="21600">
                <a:moveTo>
                  <a:pt x="11976" y="10800"/>
                </a:moveTo>
                <a:lnTo>
                  <a:pt x="25989" y="3794"/>
                </a:lnTo>
                <a:lnTo>
                  <a:pt x="2598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47712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7696080" y="59436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barack-obama-for-president"/>
          <p:cNvPicPr/>
          <p:nvPr/>
        </p:nvPicPr>
        <p:blipFill>
          <a:blip r:embed="rId1"/>
          <a:stretch/>
        </p:blipFill>
        <p:spPr>
          <a:xfrm>
            <a:off x="1295280" y="990720"/>
            <a:ext cx="6477120" cy="533376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077320" y="609588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10800"/>
                </a:moveTo>
                <a:lnTo>
                  <a:pt x="19415" y="3794"/>
                </a:lnTo>
                <a:lnTo>
                  <a:pt x="1941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United States of Amer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facts and figu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8 contiguous states + 2 non-contiguous states: Hawaii and Alas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number of outlying areas: (Commonwealth of Puerto Rico and the Virgin Islands of the United Stat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00:08:00Z</dcterms:created>
  <dc:creator>SongAnh</dc:creator>
  <dc:description/>
  <dc:language>en-US</dc:language>
  <cp:lastModifiedBy>PC</cp:lastModifiedBy>
  <dcterms:modified xsi:type="dcterms:W3CDTF">2012-04-04T04:31:02Z</dcterms:modified>
  <cp:revision>73</cp:revision>
  <dc:subject/>
  <dc:title>sfedg</dc:title>
</cp:coreProperties>
</file>