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228-D616-4268-8AD2-12692F29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4D9-8AAD-4624-8A58-21693E11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400-CBCD-4635-A35B-F174E829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35E-AABA-45D3-835D-2E32CD2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A1E-290F-468D-AA2F-295A86BA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D304-9D39-4211-A25F-7711BBD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8B68-9E28-4CA4-A545-A6B12B81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8B3-501A-4600-954F-3A42ED8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114-D32C-42CC-9E86-D1FA606D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CFE-D883-4CEC-809D-CE77E02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4C3C-1EAB-4CE7-872B-EAE9398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2C9-873C-4A35-BBBA-4B83C3B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BB08-F9C0-43C6-A208-6AD25C4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99B-9A1F-4034-958E-8D6343D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2EA-1D97-41A7-9007-572192B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D1E3-3DB3-4412-9BA6-B66B9F3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7B5-D437-4681-9ED2-BE1BE022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7A74-2435-4CFE-A9A2-1236BFE8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994A-5D3B-47BB-A221-8687970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FF59-70CE-4146-A319-5380EDFD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34D0-0541-46D0-ACA3-D2F159C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4957-B15D-47EE-B448-C1CEFA1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F40-0777-4E9E-B8CE-2EF2A462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14E5-CB46-49D2-8499-86AA401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A82D-D3A5-44A7-BA19-18C8D47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C951-54D0-4985-AF4F-9472C07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AF75-D191-407C-9B49-425CC5B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9913-F8EC-45E9-8DDA-EEB87CD6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82E6-2332-4130-BE0C-63DF064B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7E3F-0277-48F3-8115-01424B9E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8E69-0CC4-4890-85A4-A778B1E9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DD6C-8E19-4A04-AC55-1AECE7F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CD07-D808-4F98-900F-404D33C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220-64B9-4716-872F-BCC1F6E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D734-D647-4C01-836A-FBB5F1CE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0E15-43F3-40EC-AA87-C9660B1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7C14-1FE0-4CE7-A230-849694B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5955-20B2-4606-A350-7BF074A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AEC1-5849-4780-95C4-4591086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2F49-A0C4-4A7E-A5F1-692340B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54961-F198-4C1C-909B-1CE2990D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1638-E3EA-48DD-A338-811D7C4B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F621-003B-469C-93FA-B95C82F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1FBE-C45E-4375-BA01-AB6A16F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938-6F0D-42DC-9766-56A199C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69F2-5DFF-4336-97A5-75877B0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DAC1-12D7-4297-B291-8D5EB4C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D80C-4604-4DBB-A18C-B0426BC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8D7C-D137-4C08-ACC0-678ACD5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4CD9-B344-4BD1-B565-DBFC541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9398-9C44-4402-B7EC-B08E8FD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0F09-4E6A-4EDF-BD8A-B91A1CDA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F41B-6BB0-42CF-81F9-1E6E4BC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6F58-C8F0-4D37-8018-1DEC7042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8D5C-5ED5-4E52-A7CD-81437553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6C9-CD59-4F35-9157-69E30BE2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D7EA-FC68-4CD5-AF38-203E5829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7756-9705-42CB-B084-D30384B3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BB53-9927-458A-8EDD-4816172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D2E8-8417-4B46-B31C-4E73952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EF072-6EE4-48E1-B2B0-4EEDA3DD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88D9-0893-4E08-8FE7-E775793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4D29-25D9-43C3-BC68-490FF19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B5E4-5C41-4A5D-AF35-3B5CDFC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14ED-5A17-4C16-A90A-0F6CD0B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8EEC-DBDC-48EF-9129-A49CDCD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A82-61F7-4191-B17F-103DD07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2CBFF-68FF-4CDF-80E0-DF2C47C5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7F70-83E4-4C09-BF03-BE8C4F81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C7081-3D67-4D4C-93C7-3147E45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65A4-8A3F-41F4-BA8C-EA4B3671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5772-2D78-4965-A064-ED02415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8086-7460-467F-A665-621E01FC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1777-8D6E-42C2-95E5-2C0D25E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573A-3079-4115-BF24-3850D951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23BD-BB78-4110-B443-B2BD5E85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1E5E-6528-4DB7-82CF-3CD21E8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6FE-6634-4C2B-9220-5DCCCD5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D53F-0635-4B2E-9415-5F981FA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D323-D86B-442A-8194-4900550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49E4-FE49-4DFE-AE59-CF8345A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A77D-3F25-434D-AB2B-9C83DD85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191A-24C6-45F9-8FDB-8720DC39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3CD2-3380-4A5B-B7F8-8E6DF9D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5CF7-0563-41F3-9257-BD105BC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DB39-4997-4617-BE7D-F943740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9C2B-7E09-4BCA-B602-A648E68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D804-CD29-4B06-8AFE-E62EE5E7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83C-7334-4B68-BFE7-3E03AFE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F8E49-4732-476B-B3C7-32C7532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95C1-BDBF-4BFC-B94B-4D8F9AE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1556-9E02-4C3B-9353-4D2A2B3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9560B-FB96-401C-8A58-CC4F41A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E635F-2BA5-4709-B03D-31D2C34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09F24-85A4-4D3E-B91B-4856A8CD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0F7C7-65E7-4962-BD18-8A569A10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4F9-12ED-4349-9BE8-616C2952ED01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46A0-EB4A-45DF-8613-9805AE296E8C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FA1E-1A2E-4434-A63A-6F269A0D4D50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DB38-96FB-47A9-BC52-3F8066ACCB89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129-7424-4DB0-A653-12012BB8B73A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CC2C-7EFC-413F-B69C-FB7E418D866E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AEB-BBEE-42FD-B17C-5DFFBA89D808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511-1245-41AF-A10D-4F22E8348206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mofilia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867280" y="5300640"/>
            <a:ext cx="2943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Curso de Coagulação –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Lineu A. Domit Filh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R3- Oncopediatr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5" descr="untitled.bmp"/>
          <p:cNvPicPr/>
          <p:nvPr/>
        </p:nvPicPr>
        <p:blipFill>
          <a:blip r:embed="rId1"/>
          <a:stretch/>
        </p:blipFill>
        <p:spPr>
          <a:xfrm>
            <a:off x="3643200" y="2575080"/>
            <a:ext cx="27147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esde período neonata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omas pós vacin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rragia SN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609480" indent="-280800"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ara1-2% H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iora dos sintomas quando começa a deambul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rtro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70-80% dos sangramento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rauma leve ou aus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Aura” (2h – calor e formigament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or, edema, limitação do movime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angramentos repet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Artropatia crônica, perda da fun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5" descr="child%20bleed%20in%20elbow.jpg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21416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1214280" y="5715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ARMENING 1997; MARQUES 1997; ZAGO e col. 2001; WF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7" name="Content Placeholder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4014360" y="61437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omas muscula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5-10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mplicaçõ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Infec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Obstrução de  VA´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índrome compartimen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Pseudotu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Frequênci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Panturrilha (comprometimento neurológic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ox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lúte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Antebraço (comprometimento neurológico – paralisia de Volkman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214280" y="6621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ARMENING 1997; MARQUES 1997; ZAGO e col. 2001; WFH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Ileopso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Dor abdominal – apendicite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lexão e rotação interna do quadril (posição antálgic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Movimento de rotação do quadril preserv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rande volume de san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G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Hematêmese e/ou mele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eralmente tem lesão primá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ú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eralmente após 12 anos de ida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Pode ocorrer espontaneam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Afastar outras causa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utros sangramentos: nasal, da mucosa oral, interior da língua, assoalho da boca e outros são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menos freqüent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aior gravid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NC ( &lt;5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Íleopso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gião cerv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trofari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omplicaçõ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Seqüelas osteoarticula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Inibid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seudotum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Sangramento intracrania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11" name="Text Box 7"/>
          <p:cNvGrpSpPr/>
          <p:nvPr/>
        </p:nvGrpSpPr>
        <p:grpSpPr>
          <a:xfrm>
            <a:off x="2755800" y="1481040"/>
            <a:ext cx="3407040" cy="828720"/>
            <a:chOff x="2755800" y="1481040"/>
            <a:chExt cx="3407040" cy="828720"/>
          </a:xfrm>
        </p:grpSpPr>
        <p:pic>
          <p:nvPicPr>
            <p:cNvPr id="412" name="Text Box 7" descr=""/>
            <p:cNvPicPr/>
            <p:nvPr/>
          </p:nvPicPr>
          <p:blipFill>
            <a:blip r:embed="rId1"/>
            <a:stretch/>
          </p:blipFill>
          <p:spPr>
            <a:xfrm>
              <a:off x="2755800" y="1481040"/>
              <a:ext cx="3407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843280" y="15573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Hemorragia recorrente em articulação al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Text Box 8"/>
          <p:cNvGrpSpPr/>
          <p:nvPr/>
        </p:nvGrpSpPr>
        <p:grpSpPr>
          <a:xfrm>
            <a:off x="2146320" y="2919240"/>
            <a:ext cx="4467240" cy="830520"/>
            <a:chOff x="2146320" y="2919240"/>
            <a:chExt cx="4467240" cy="830520"/>
          </a:xfrm>
        </p:grpSpPr>
        <p:pic>
          <p:nvPicPr>
            <p:cNvPr id="415" name="Text Box 8" descr=""/>
            <p:cNvPicPr/>
            <p:nvPr/>
          </p:nvPicPr>
          <p:blipFill>
            <a:blip r:embed="rId2"/>
            <a:stretch/>
          </p:blipFill>
          <p:spPr>
            <a:xfrm>
              <a:off x="2146320" y="2919240"/>
              <a:ext cx="4467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268360" y="2994120"/>
              <a:ext cx="41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Enzimas proteolíticas de granulócitos / produtos oxid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Text Box 11"/>
          <p:cNvGrpSpPr/>
          <p:nvPr/>
        </p:nvGrpSpPr>
        <p:grpSpPr>
          <a:xfrm>
            <a:off x="1109520" y="3932280"/>
            <a:ext cx="4260960" cy="554040"/>
            <a:chOff x="1109520" y="3932280"/>
            <a:chExt cx="4260960" cy="554040"/>
          </a:xfrm>
        </p:grpSpPr>
        <p:pic>
          <p:nvPicPr>
            <p:cNvPr id="418" name="Text Box 11" descr=""/>
            <p:cNvPicPr/>
            <p:nvPr/>
          </p:nvPicPr>
          <p:blipFill>
            <a:blip r:embed="rId3"/>
            <a:stretch/>
          </p:blipFill>
          <p:spPr>
            <a:xfrm>
              <a:off x="1109520" y="3932280"/>
              <a:ext cx="4260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87280" y="4005360"/>
              <a:ext cx="41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Inflamação e erosão da sinóv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14"/>
          <p:cNvGrpSpPr/>
          <p:nvPr/>
        </p:nvGrpSpPr>
        <p:grpSpPr>
          <a:xfrm>
            <a:off x="2444760" y="4937040"/>
            <a:ext cx="2004840" cy="993240"/>
            <a:chOff x="2444760" y="4937040"/>
            <a:chExt cx="2004840" cy="993240"/>
          </a:xfrm>
        </p:grpSpPr>
        <p:pic>
          <p:nvPicPr>
            <p:cNvPr id="421" name="Text Box 14" descr=""/>
            <p:cNvPicPr/>
            <p:nvPr/>
          </p:nvPicPr>
          <p:blipFill>
            <a:blip r:embed="rId4"/>
            <a:stretch/>
          </p:blipFill>
          <p:spPr>
            <a:xfrm>
              <a:off x="2444760" y="4937040"/>
              <a:ext cx="20048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556000" y="5013360"/>
              <a:ext cx="172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Maior risco de hemorra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Line 16" descr=""/>
          <p:cNvPicPr/>
          <p:nvPr/>
        </p:nvPicPr>
        <p:blipFill>
          <a:blip r:embed="rId5"/>
          <a:stretch/>
        </p:blipFill>
        <p:spPr>
          <a:xfrm>
            <a:off x="4303800" y="2219400"/>
            <a:ext cx="334800" cy="822240"/>
          </a:xfrm>
          <a:prstGeom prst="rect">
            <a:avLst/>
          </a:prstGeom>
          <a:ln w="0">
            <a:noFill/>
          </a:ln>
        </p:spPr>
      </p:pic>
      <p:grpSp>
        <p:nvGrpSpPr>
          <p:cNvPr id="424" name="Text Box 18"/>
          <p:cNvGrpSpPr/>
          <p:nvPr/>
        </p:nvGrpSpPr>
        <p:grpSpPr>
          <a:xfrm>
            <a:off x="4998960" y="4937040"/>
            <a:ext cx="1524240" cy="830520"/>
            <a:chOff x="4998960" y="4937040"/>
            <a:chExt cx="1524240" cy="830520"/>
          </a:xfrm>
        </p:grpSpPr>
        <p:pic>
          <p:nvPicPr>
            <p:cNvPr id="425" name="Text Box 18" descr=""/>
            <p:cNvPicPr/>
            <p:nvPr/>
          </p:nvPicPr>
          <p:blipFill>
            <a:blip r:embed="rId6"/>
            <a:stretch/>
          </p:blipFill>
          <p:spPr>
            <a:xfrm>
              <a:off x="4998960" y="4937040"/>
              <a:ext cx="1524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76720" y="5013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Sintomas de art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Text Box 19"/>
          <p:cNvGrpSpPr/>
          <p:nvPr/>
        </p:nvGrpSpPr>
        <p:grpSpPr>
          <a:xfrm>
            <a:off x="7205760" y="4937040"/>
            <a:ext cx="1541520" cy="993240"/>
            <a:chOff x="7205760" y="4937040"/>
            <a:chExt cx="1541520" cy="993240"/>
          </a:xfrm>
        </p:grpSpPr>
        <p:pic>
          <p:nvPicPr>
            <p:cNvPr id="428" name="Text Box 19" descr=""/>
            <p:cNvPicPr/>
            <p:nvPr/>
          </p:nvPicPr>
          <p:blipFill>
            <a:blip r:embed="rId7"/>
            <a:stretch/>
          </p:blipFill>
          <p:spPr>
            <a:xfrm>
              <a:off x="7205760" y="4937040"/>
              <a:ext cx="15415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308720" y="5013360"/>
              <a:ext cx="12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Anquilose arti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23"/>
          <p:cNvSpPr/>
          <p:nvPr/>
        </p:nvSpPr>
        <p:spPr>
          <a:xfrm>
            <a:off x="1692360" y="60148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articulações: joelho , quadril e cotov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Line 25" descr=""/>
          <p:cNvPicPr/>
          <p:nvPr/>
        </p:nvPicPr>
        <p:blipFill>
          <a:blip r:embed="rId8"/>
          <a:stretch/>
        </p:blipFill>
        <p:spPr>
          <a:xfrm>
            <a:off x="6059520" y="4297320"/>
            <a:ext cx="45720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Line 26" descr=""/>
          <p:cNvPicPr/>
          <p:nvPr/>
        </p:nvPicPr>
        <p:blipFill>
          <a:blip r:embed="rId9"/>
          <a:stretch/>
        </p:blipFill>
        <p:spPr>
          <a:xfrm>
            <a:off x="3895560" y="4290840"/>
            <a:ext cx="2329200" cy="768600"/>
          </a:xfrm>
          <a:prstGeom prst="rect">
            <a:avLst/>
          </a:prstGeom>
          <a:ln w="0">
            <a:noFill/>
          </a:ln>
        </p:spPr>
      </p:pic>
      <p:pic>
        <p:nvPicPr>
          <p:cNvPr id="433" name="Line 27" descr=""/>
          <p:cNvPicPr/>
          <p:nvPr/>
        </p:nvPicPr>
        <p:blipFill>
          <a:blip r:embed="rId10"/>
          <a:stretch/>
        </p:blipFill>
        <p:spPr>
          <a:xfrm>
            <a:off x="6907320" y="4218120"/>
            <a:ext cx="9255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34" name="Text Box 28"/>
          <p:cNvGrpSpPr/>
          <p:nvPr/>
        </p:nvGrpSpPr>
        <p:grpSpPr>
          <a:xfrm>
            <a:off x="6004080" y="3932280"/>
            <a:ext cx="2822400" cy="554040"/>
            <a:chOff x="6004080" y="3932280"/>
            <a:chExt cx="2822400" cy="554040"/>
          </a:xfrm>
        </p:grpSpPr>
        <p:pic>
          <p:nvPicPr>
            <p:cNvPr id="435" name="Text Box 28" descr=""/>
            <p:cNvPicPr/>
            <p:nvPr/>
          </p:nvPicPr>
          <p:blipFill>
            <a:blip r:embed="rId11"/>
            <a:stretch/>
          </p:blipFill>
          <p:spPr>
            <a:xfrm>
              <a:off x="6004080" y="3932280"/>
              <a:ext cx="28224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084720" y="400536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Proliferação sinov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Line 29" descr=""/>
          <p:cNvPicPr/>
          <p:nvPr/>
        </p:nvPicPr>
        <p:blipFill>
          <a:blip r:embed="rId12"/>
          <a:stretch/>
        </p:blipFill>
        <p:spPr>
          <a:xfrm>
            <a:off x="5419800" y="4065480"/>
            <a:ext cx="676080" cy="335160"/>
          </a:xfrm>
          <a:prstGeom prst="rect">
            <a:avLst/>
          </a:prstGeom>
          <a:ln w="0">
            <a:noFill/>
          </a:ln>
        </p:spPr>
      </p:pic>
      <p:pic>
        <p:nvPicPr>
          <p:cNvPr id="438" name="Line 17" descr=""/>
          <p:cNvPicPr/>
          <p:nvPr/>
        </p:nvPicPr>
        <p:blipFill>
          <a:blip r:embed="rId13"/>
          <a:stretch/>
        </p:blipFill>
        <p:spPr>
          <a:xfrm>
            <a:off x="4303800" y="3664080"/>
            <a:ext cx="334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0" name="Content Placeholder 20" descr="a12fig04.gif"/>
          <p:cNvPicPr/>
          <p:nvPr/>
        </p:nvPicPr>
        <p:blipFill>
          <a:blip r:embed="rId1"/>
          <a:stretch/>
        </p:blipFill>
        <p:spPr>
          <a:xfrm>
            <a:off x="1170000" y="1285920"/>
            <a:ext cx="3898800" cy="34290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41" name="Content Placeholder 21" descr="a12fig05.gif"/>
          <p:cNvPicPr/>
          <p:nvPr/>
        </p:nvPicPr>
        <p:blipFill>
          <a:blip r:embed="rId2"/>
          <a:stretch/>
        </p:blipFill>
        <p:spPr>
          <a:xfrm>
            <a:off x="5099040" y="1285920"/>
            <a:ext cx="3830760" cy="34034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2" name="Rectangle 24"/>
          <p:cNvSpPr/>
          <p:nvPr/>
        </p:nvSpPr>
        <p:spPr>
          <a:xfrm>
            <a:off x="1071720" y="4286160"/>
            <a:ext cx="80722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143000" y="1285920"/>
            <a:ext cx="7786800" cy="307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8"/>
          <p:cNvSpPr/>
          <p:nvPr/>
        </p:nvSpPr>
        <p:spPr>
          <a:xfrm>
            <a:off x="5070600" y="1285920"/>
            <a:ext cx="1440" cy="3073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000080" y="450072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teopenia, alargamento epifisário, aumento de densidade de partes moles, angulosidade do contorno epifisário, alargamento do espaço intercondilar e alguma irregularidade da superfície óssea subcondral, cistos subcondrais, porém sem diminuição importante de espaço articular da interlinha femoro-tib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troduçã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istóric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Citado no Talmud (cerca de 50-130dC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Século XII, o médico árabe Abulcasis descreveu um caso de uma família cujos homens haviam morrido de sangramento após pequenos ferimento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Em 1803, o médico norte-americano John Conrad constatou que havia "tendências a sangramentos em algumas familias"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O termo </a:t>
            </a:r>
            <a:r>
              <a:rPr b="0" i="1" lang="pt-BR" sz="1600" spc="-1" strike="noStrike">
                <a:solidFill>
                  <a:srgbClr val="000000"/>
                </a:solidFill>
                <a:latin typeface="Gill Sans MT"/>
              </a:rPr>
              <a:t>hemofilia</a:t>
            </a: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 apareceu pela primeira vez em 1823 Schonlein,  em 1828 foi usado para designar coagulopatia hereditária,  por Hopff,  da Universidade de Zuriqu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840  primeira transfusão de sangue com sucesso para tratar uma hemorragia pós-cirúrgica em um menino com hemofili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4 MacFarlane controlou sangramentos superficiais com aplicação local do veneno da cobra Russ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6, pela primeira vez, o plasma foi utilizado para o tratamento da hemofil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7, Patek e Taylor, dois médicos de Harvard descobriram a globulina anti-hemofílica. (FVIII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atamento precoce das hemartro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rticulação al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inovectom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dução da progressã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Radiosinoviorte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óte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ibid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14-25% dos hemofílicos A gra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lín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dução da eficácia do f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aixo título: &lt;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lto título: &gt;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aixa resposta: aumento len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lta resposta: &gt; 5 a qualquer mo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Pseudotumor hemofíl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7136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uco freqüente, porém gr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2" name="Rectangle 3"/>
          <p:cNvGrpSpPr/>
          <p:nvPr/>
        </p:nvGrpSpPr>
        <p:grpSpPr>
          <a:xfrm>
            <a:off x="1633680" y="2017800"/>
            <a:ext cx="4035240" cy="1358640"/>
            <a:chOff x="1633680" y="2017800"/>
            <a:chExt cx="4035240" cy="1358640"/>
          </a:xfrm>
        </p:grpSpPr>
        <p:pic>
          <p:nvPicPr>
            <p:cNvPr id="453" name="Rectangle 3" descr=""/>
            <p:cNvPicPr/>
            <p:nvPr/>
          </p:nvPicPr>
          <p:blipFill>
            <a:blip r:embed="rId1"/>
            <a:stretch/>
          </p:blipFill>
          <p:spPr>
            <a:xfrm>
              <a:off x="1633680" y="2017800"/>
              <a:ext cx="40352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714680" y="2071800"/>
              <a:ext cx="387324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Hematoma persiste como uma lesão cística encapsul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Rectangle 4"/>
          <p:cNvGrpSpPr/>
          <p:nvPr/>
        </p:nvGrpSpPr>
        <p:grpSpPr>
          <a:xfrm>
            <a:off x="3346560" y="3267000"/>
            <a:ext cx="4091040" cy="1470240"/>
            <a:chOff x="3346560" y="3267000"/>
            <a:chExt cx="4091040" cy="1470240"/>
          </a:xfrm>
        </p:grpSpPr>
        <p:pic>
          <p:nvPicPr>
            <p:cNvPr id="456" name="Rectangle 4" descr=""/>
            <p:cNvPicPr/>
            <p:nvPr/>
          </p:nvPicPr>
          <p:blipFill>
            <a:blip r:embed="rId2"/>
            <a:stretch/>
          </p:blipFill>
          <p:spPr>
            <a:xfrm>
              <a:off x="3346560" y="3267000"/>
              <a:ext cx="409104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429000" y="3357720"/>
              <a:ext cx="387360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Aumenta,  causando compressão e destruição dos músculos adjacentes, nervos e osso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Rectangle 6"/>
          <p:cNvGrpSpPr/>
          <p:nvPr/>
        </p:nvGrpSpPr>
        <p:grpSpPr>
          <a:xfrm>
            <a:off x="4919760" y="4657680"/>
            <a:ext cx="4120920" cy="1590840"/>
            <a:chOff x="4919760" y="4657680"/>
            <a:chExt cx="4120920" cy="1590840"/>
          </a:xfrm>
        </p:grpSpPr>
        <p:pic>
          <p:nvPicPr>
            <p:cNvPr id="459" name="Rectangle 6" descr=""/>
            <p:cNvPicPr/>
            <p:nvPr/>
          </p:nvPicPr>
          <p:blipFill>
            <a:blip r:embed="rId3"/>
            <a:stretch/>
          </p:blipFill>
          <p:spPr>
            <a:xfrm>
              <a:off x="4919760" y="4657680"/>
              <a:ext cx="4120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000760" y="4714920"/>
              <a:ext cx="39290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Pode causar erosão dos tecidos ao redor, penetrar e perfurar em vísceras ou a pele, propiciando infecção secundá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Curved Right Arrow 7"/>
          <p:cNvSpPr/>
          <p:nvPr/>
        </p:nvSpPr>
        <p:spPr>
          <a:xfrm>
            <a:off x="2786040" y="30002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rved Right Arrow 8"/>
          <p:cNvSpPr/>
          <p:nvPr/>
        </p:nvSpPr>
        <p:spPr>
          <a:xfrm>
            <a:off x="4357800" y="44276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thumb_02.jpg"/>
          <p:cNvPicPr/>
          <p:nvPr/>
        </p:nvPicPr>
        <p:blipFill>
          <a:blip r:embed="rId4"/>
          <a:stretch/>
        </p:blipFill>
        <p:spPr>
          <a:xfrm>
            <a:off x="1285920" y="478620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Sangramento intracranian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vento hemorrágico mais perigoso para o paciente hemofíl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de ocorrer devido a traumatismos ou espontaneament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6" name="Picture 3" descr="neurovascular43+.jpg"/>
          <p:cNvPicPr/>
          <p:nvPr/>
        </p:nvPicPr>
        <p:blipFill>
          <a:blip r:embed="rId1"/>
          <a:stretch/>
        </p:blipFill>
        <p:spPr>
          <a:xfrm>
            <a:off x="500040" y="4143240"/>
            <a:ext cx="2643120" cy="1890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neurotrauma4b++.jpg"/>
          <p:cNvPicPr/>
          <p:nvPr/>
        </p:nvPicPr>
        <p:blipFill>
          <a:blip r:embed="rId2"/>
          <a:stretch/>
        </p:blipFill>
        <p:spPr>
          <a:xfrm>
            <a:off x="3357720" y="4143240"/>
            <a:ext cx="2714400" cy="1886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neurotrauma8a+.jpg"/>
          <p:cNvPicPr/>
          <p:nvPr/>
        </p:nvPicPr>
        <p:blipFill>
          <a:blip r:embed="rId3"/>
          <a:stretch/>
        </p:blipFill>
        <p:spPr>
          <a:xfrm>
            <a:off x="6215040" y="4140360"/>
            <a:ext cx="2714760" cy="1885680"/>
          </a:xfrm>
          <a:prstGeom prst="rect">
            <a:avLst/>
          </a:prstGeom>
          <a:ln w="0">
            <a:noFill/>
          </a:ln>
        </p:spPr>
      </p:pic>
      <p:sp>
        <p:nvSpPr>
          <p:cNvPr id="469" name="Right Arrow 7"/>
          <p:cNvSpPr/>
          <p:nvPr/>
        </p:nvSpPr>
        <p:spPr>
          <a:xfrm rot="2332200">
            <a:off x="68400" y="389376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ight Arrow 8"/>
          <p:cNvSpPr/>
          <p:nvPr/>
        </p:nvSpPr>
        <p:spPr>
          <a:xfrm rot="2623800">
            <a:off x="6319440" y="449856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ight Arrow 9"/>
          <p:cNvSpPr/>
          <p:nvPr/>
        </p:nvSpPr>
        <p:spPr>
          <a:xfrm rot="2658000">
            <a:off x="3485880" y="4411440"/>
            <a:ext cx="1000080" cy="5713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Diagnóstico da hemofil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TTPA alarga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ção com plasma a 50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TPA pode ser normal com IX até 15-2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lher o fator se tiver suspei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Dosagens dos fat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vW e CoR norm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Diagnóstico Gené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2571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utações de base únic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PCR + seqüencia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Inversõe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Southern blotting (probe F8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eleçõ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randes deleçõe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Southern blot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Pequenas deleçõe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PCR + seqüenciame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Inserçõe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Southern blot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6" name="Picture 3" descr="HemofiliaA.jpg"/>
          <p:cNvPicPr/>
          <p:nvPr/>
        </p:nvPicPr>
        <p:blipFill>
          <a:blip r:embed="rId1"/>
          <a:stretch/>
        </p:blipFill>
        <p:spPr>
          <a:xfrm>
            <a:off x="6477120" y="5716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Diagnóstico Pré-Nat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mniocente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12-14ª semana de gestaçã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ilosidades Coriôn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9-11ª semana de gestaçã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anscervical x transabdomi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Orientaçõ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4896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AS, AINH (ibuprofen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plicações I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Limitar atividades de ris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punções arteriais, procedimentos invasivos, extrações dentári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nduta em caso de trauma ou sangra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Restituição da atividade defici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Manejo clín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entros especializ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quipes multidisciplina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valiações periód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ogramas de exercíci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oa higiene o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mofilia gra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nsiderar o nível de fator do paciente como 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Níveis hemostáticos 25-30%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5" name="Picture 3" descr="img_4_637_14042009_472.jpg"/>
          <p:cNvPicPr/>
          <p:nvPr/>
        </p:nvPicPr>
        <p:blipFill>
          <a:blip r:embed="rId1"/>
          <a:stretch/>
        </p:blipFill>
        <p:spPr>
          <a:xfrm>
            <a:off x="2786040" y="364320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troduçã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istórico</a:t>
            </a: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44, Cohn e seus colegas demonstraram que uma das frações do sangue (Fração Cohn 1) indicava atividade anti-hemofílic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50 foi descrito a deficiência do fator I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55,  patologistas americanos desenvolveram infusões intravenosas de FVIII human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64 Drª. Judith Pool desenvolveu o crioprecipitad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1977 o Prof. Pier descobriu que a desmopressina (DDAVP) aumentava FVIII e Fv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A estrutura do fator VIII foi identificada e reproduzida laboratorialmente em 198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de 1992  esta disponível o VIII desenvolvido por engenharia genética – fator VIIa recombinante e o FIX desde 1997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VII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combin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½ vida e eficácia igua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m risco de contamina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Não aumenta inibi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erivado do plas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raus diferentes de purez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Risco de contaminação e reaçõ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ri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Muitos doado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m inativação vir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Outras proteína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8" name="Picture 3" descr="untitled.bmp"/>
          <p:cNvPicPr/>
          <p:nvPr/>
        </p:nvPicPr>
        <p:blipFill>
          <a:blip r:embed="rId1"/>
          <a:stretch/>
        </p:blipFill>
        <p:spPr>
          <a:xfrm>
            <a:off x="4929120" y="4214880"/>
            <a:ext cx="11811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VII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U/kg eleva 2% o fator plasmát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eia vida 8-12 hor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U =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Gill Sans MT"/>
              </a:rPr>
              <a:t>Peso (Kg) x % de fator desej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U/kg eleva 1% o fator plasmát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eia vida 18 hor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U =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Gill Sans MT"/>
              </a:rPr>
              <a:t>Peso (Kg) x % de fator desej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22120" y="1557360"/>
          <a:ext cx="8742600" cy="5040360"/>
        </p:xfrm>
        <a:graphic>
          <a:graphicData uri="http://schemas.openxmlformats.org/drawingml/2006/table">
            <a:tbl>
              <a:tblPr/>
              <a:tblGrid>
                <a:gridCol w="2914920"/>
                <a:gridCol w="2912760"/>
                <a:gridCol w="29149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sangr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fator e freqü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 tra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axe / bo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m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don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-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rtrose / músc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-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uso, gelo, AI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80%, 3-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obiliz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22120" y="1557360"/>
          <a:ext cx="8742600" cy="5111640"/>
        </p:xfrm>
        <a:graphic>
          <a:graphicData uri="http://schemas.openxmlformats.org/drawingml/2006/table">
            <a:tbl>
              <a:tblPr/>
              <a:tblGrid>
                <a:gridCol w="2914920"/>
                <a:gridCol w="2912760"/>
                <a:gridCol w="2914920"/>
              </a:tblGrid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sangr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fator / Freqüên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 tra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operitôneo / retrofarínge / síndrome comparti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, 12/12h, 3-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nisona 1 mg/kg/d, 3-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ú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ós 24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uso, hidra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12/12h, 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ção H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%, 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30%, 7-1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r TC com 14 d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48960" y="1980720"/>
            <a:ext cx="7661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ielo: 3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Biópsia pele, mucosa, músculo: 50, 30, 5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EDA c/ ou s/ bx: 8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lono: 40%, 1x/d, 2-3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LCR: 10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Broncoscopia: 30-5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Litotripsia: 8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donto: transamin 24h antes e 5-7d após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ntifibrinolítico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ão usar se sangramentos em cavidade fech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Hematúria, hemartrose, sangramento muscul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Ácido tranexâmico (transami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20 mg/kg/dose, 6/6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Ácido épsilon-amino capró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00 mg/kg/dose, 6/6h, máx 30 g/d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DDAV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A leve/ m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obilização dos estoques de VIII e v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0,3 mcg/kg EV ou S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-2 x/dia, 3-4 di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feitos colaterai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ubor facial, retenção hídrica, hiponatrem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Evitar em menores de 2 a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INH ou corticó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bloqueadores da COX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demas extensos ou persistentes com alteração neurológ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Preven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Boa forma fís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Fisioterap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Boa saúde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Epidemiologi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3920" y="1428480"/>
            <a:ext cx="4000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eficiência do fator VI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80-85% dos cas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/ 10.000 dos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♂ nascidos v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ficiência de fator I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-15% dos cas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 / 30.000 dos ♂ nascidos v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381480" y="6500880"/>
            <a:ext cx="29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FFMAN e col. 2001; MARQUES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ranç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rança recessiva, ligada ao 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30% mutação no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rtadores sintomáticos (</a:t>
            </a:r>
            <a:r>
              <a:rPr b="0" lang="pt-BR" sz="3200" spc="-1" strike="noStrike">
                <a:solidFill>
                  <a:srgbClr val="000000"/>
                </a:solidFill>
                <a:latin typeface="Gill Sans MT"/>
                <a:ea typeface="Arial"/>
              </a:rPr>
              <a:t>♀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Lionização (inativação do X norm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urner (X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Homozigóticas (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ranç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3880" y="2384280"/>
          <a:ext cx="7224840" cy="3132360"/>
        </p:xfrm>
        <a:graphic>
          <a:graphicData uri="http://schemas.openxmlformats.org/drawingml/2006/table">
            <a:tbl>
              <a:tblPr/>
              <a:tblGrid>
                <a:gridCol w="1752840"/>
                <a:gridCol w="54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ótipo → Fenót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scul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Y → homem normal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Y → homem hemofíl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emin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norm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normal portadora </a:t>
                      </a:r>
                      <a:br>
                        <a:rPr sz="2800"/>
                      </a:b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hemofílic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Fisiopatologi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IIIa + IXa são essenciais na formação do complexo protrombinase (ativam X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mofili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ormação do coágulo é le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ombina reduzi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águlo friá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angramento excessi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ificuldade de cicatrizaçã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Picture 3" descr="sptlt041.jpg"/>
          <p:cNvPicPr/>
          <p:nvPr/>
        </p:nvPicPr>
        <p:blipFill>
          <a:blip r:embed="rId1"/>
          <a:stretch/>
        </p:blipFill>
        <p:spPr>
          <a:xfrm>
            <a:off x="5992920" y="3571920"/>
            <a:ext cx="30798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assifica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50-20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ível hemostático 25-3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Le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5-4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em sangramentos espontâne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oder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-5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Grav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&lt; 1% (50% dos cas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364920" y="6286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assifica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49320" y="1981080"/>
          <a:ext cx="7661160" cy="4114800"/>
        </p:xfrm>
        <a:graphic>
          <a:graphicData uri="http://schemas.openxmlformats.org/drawingml/2006/table">
            <a:tbl>
              <a:tblPr/>
              <a:tblGrid>
                <a:gridCol w="2554200"/>
                <a:gridCol w="2552760"/>
                <a:gridCol w="2554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filia / Classific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9" name="Rectangle 3"/>
          <p:cNvSpPr/>
          <p:nvPr/>
        </p:nvSpPr>
        <p:spPr>
          <a:xfrm>
            <a:off x="3722400" y="62866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0:57:18Z</dcterms:created>
  <dc:creator>marcela.santos</dc:creator>
  <dc:description/>
  <dc:language>en-US</dc:language>
  <cp:lastModifiedBy>Lineu</cp:lastModifiedBy>
  <dcterms:modified xsi:type="dcterms:W3CDTF">2009-06-09T10:58:05Z</dcterms:modified>
  <cp:revision>66</cp:revision>
  <dc:subject/>
  <dc:title>Hemofilias </dc:title>
</cp:coreProperties>
</file>