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8AD-9A4B-43A4-B055-98217512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05C-BD1E-431F-BEDF-BB559E55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B0D-1DEB-48B4-BBC4-10F11D67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683-36AC-4B8F-8E72-31360BF6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D66F-C217-4163-9D08-B40CC8A6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9228-6201-4D6E-8D84-CC08EC74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723B-FC57-4F0F-91DB-A47CDDC5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4E54-01C4-4A26-A0C7-EA1CAA18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CD2D-4ACF-46F3-AAB7-3C5B9148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41D7-7AAC-4331-A10B-ABA995FC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4B00-8156-4CE5-BD74-F16DF3E4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047-B636-4B4D-9843-51F0419B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C83B-DCE8-4B4B-9D79-229F8229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DC1F-BA24-46D0-9F49-4703A29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51F4-4E3D-4506-A5D0-0A5D2BF3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626A-DA5B-4C26-9F42-D43CB5A1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FE7A-23EB-4958-86EC-747532EA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B9F4-7AB4-4274-B291-66F9C3A6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A73B-06E6-425F-A296-0CA55F45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C78A-5334-4BC3-9B45-9CA822E6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DB47-CA05-4D35-9A85-37FA2453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0398-9D38-4B52-B3B0-7031132B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9A2-A8AA-4BA8-92B5-A6476442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8659-8E19-4E3A-A04A-AF58AA8F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7D32-64A9-4FD9-BD74-2E60BE2A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604E-01DC-41AB-BF1A-FD8ED6AC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7E1F-B882-4732-ABAD-7FB085EF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7EA4-B58D-4A3A-A6C9-4DC91242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FDE1-0CED-4E0A-A9AB-65936B89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8F74-4572-4F06-A3E2-4B3CFAEB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A769-BCA8-4633-809F-3E847D38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C39C-98DE-4A64-B7FE-AC9AB6D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6FDD-E788-411B-BAC9-AFCF27C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E57-E491-46BE-ADA6-5C8F7D01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4C3B0-53F9-4965-860E-41637F34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C309C-C21B-4A79-83D2-8B404438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1C26-0C02-4DB3-AD95-557CF4CE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DF3CC-456D-44DB-8E4A-10576D83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3651C-11A0-4E43-AD45-7D04480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AD15-2308-404E-A07F-2A180769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8F1C-DB0E-49F5-BD63-4A734153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6AF55-C03C-4653-BE10-210FE820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DC3A-244C-43AA-B734-F7FD6752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E70A-16D5-4814-8285-3EF4EB9B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C8B-CA8E-47EC-8F26-08BDC928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0E535-7BDA-47B8-A94D-56E28532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76F80-4C95-445B-A1CE-9A68A394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F5B07-4E85-4E15-8EDB-1D544CC0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EFFEB-C2ED-4667-8BCF-BF0D00DE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E77D-8DA7-4555-BA12-F4F14362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81B15-ABE5-424F-9209-D5AF230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3D443-636A-4208-85B5-DC80662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D45D8-5483-45EC-952A-3D37B0CD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ADC8F-2A20-400E-8C23-8F7208FA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1D2F3-5AB0-4BB3-B932-DA545626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B4F-DDF1-4C53-8393-B687334E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88FE-896B-4822-B041-8CD72DC8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7ABC5-0144-4916-92DD-A03B1EFB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3EA8E-8434-444B-BC8B-0129E7CC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DEA56-AEE0-459A-B146-A08BDD20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BD6A-49EE-496D-A0F0-77F2C52C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71A4-B989-4194-87D5-69DF7493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4E656-F898-4B97-B64E-D58DA817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B2154-C2AC-457A-B999-DCDC9500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02AD-9F77-4262-8AF7-35C75C8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8B58D-C5C5-4E79-B669-35315F86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A83-5039-4628-A2FB-06778112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849DF-D702-4008-8A44-5D953C1B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138C-1926-43C3-9026-3BE7973B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2DCF1-F699-4428-9021-F60FDD4D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DDD17-B3EA-485A-ABF0-66686DCF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0CE54-E7AF-47D6-963E-697FB619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1B010-BF7B-4774-8EA1-0A0851BF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7CE1D-16C0-4BEC-9900-68F3856C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C155B-5590-4734-867D-CCBBB1B2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757A-DDDB-42AD-8AA9-6D9BFE54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38D79-F49E-43E0-8C51-D9595F6E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067-FC0F-4476-9945-7043F204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E0F65-E52C-490F-B12C-47F8A95C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F5DBF-49EC-4622-8A44-38A2F075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42A30-4C02-4E5C-87A1-1867E00B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F4445-8F17-413A-A304-60B61C81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05ABE-86C6-4BCB-B596-06641E1A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6A01A-FF8F-472A-89D7-C4DC8E55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F61D4-CE4A-4673-9DE3-297FFE6C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C4976-4939-4F07-AA41-5794E931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0A363-CDB6-4229-80E0-29D44885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790FD-94A0-47EA-AE07-C37ED797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5DD-2370-404E-A97E-F60B0A5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1CFCD-4B0E-4EE6-9F68-16ACB25C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61662-CB86-4EE4-B9B3-6012A202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A2783-7697-40F6-8A4D-D38EC12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14B86-CB53-490A-960D-ADF9C3AA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4CD88-C59B-401C-BDA0-12DCA234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5D678-4C81-4C3A-ABE7-276EFD72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0B71F-B23D-4DD6-B8DC-463372A4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C63-BC9C-4F0F-A5A0-A0035BD31C9B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8DE0-04D9-4EC8-AF1A-370FF8FA5336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E42A-2DC7-4FB3-AEFA-A81E5B492733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6C72-52AF-436E-A9BD-96B6EDA76D88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ADE1-18DC-4987-8585-3933AF57EEF8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DA13-4727-40B1-88E0-9B468A766DEE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7422-4208-4A2D-B8B1-DC52218B4993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9ba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B908-4797-49FB-BF26-FFD380DD7A26}" type="slidenum">
              <a:rPr b="0" lang="pt-BR" sz="1200" spc="-1" strike="noStrike">
                <a:solidFill>
                  <a:srgbClr val="899ba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Hemofilia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5867280" y="5300640"/>
            <a:ext cx="2943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Curso de Coagulação – 200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Lineu A. Domit Filh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R3- Oncopediatri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5" descr="untitled.bmp"/>
          <p:cNvPicPr/>
          <p:nvPr/>
        </p:nvPicPr>
        <p:blipFill>
          <a:blip r:embed="rId1"/>
          <a:stretch/>
        </p:blipFill>
        <p:spPr>
          <a:xfrm>
            <a:off x="3643200" y="2575080"/>
            <a:ext cx="271476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Desde período neonata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atomas pós vacina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orragia SN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609480" indent="-280800"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ara1-2% H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Piora dos sintomas quando começa a deambul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artro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70-80% dos sangramento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Trauma leve ou aus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Aura” (2h – calor e formigament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Dor, edema, limitação do movimen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Sangramentos repeti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Artropatia crônica, perda da funçã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5" descr="child%20bleed%20in%20elbow.jpg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21416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/>
          <p:cNvSpPr/>
          <p:nvPr/>
        </p:nvSpPr>
        <p:spPr>
          <a:xfrm>
            <a:off x="1214280" y="5715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HARMENING 1997; MARQUES 1997; ZAGO e col. 2001; WFH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97" name="Content Placeholder 3" descr=""/>
          <p:cNvPicPr/>
          <p:nvPr/>
        </p:nvPicPr>
        <p:blipFill>
          <a:blip r:embed="rId1"/>
          <a:stretch/>
        </p:blipFill>
        <p:spPr>
          <a:xfrm>
            <a:off x="1434960" y="1447920"/>
            <a:ext cx="7499520" cy="48006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4014360" y="61437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FH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8040" indent="-261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atomas muscula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8040" indent="-261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5-10%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Complicaçõ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Infecçã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Obstrução de  VA´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Síndrome compartiment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Pseudotu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Frequênci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Panturrilha (comprometimento neurológic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Cox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Glúte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106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Antebraço (comprometimento neurológico – paralisia de Volkman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214280" y="6621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ARMENING 1997; MARQUES 1997; ZAGO e col. 2001; WFH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Ileopso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Dor abdominal – apendicite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Flexão e rotação interna do quadril (posição antálgic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Movimento de rotação do quadril preserv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Grande volume de sang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TG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Hematêmese e/ou mele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Geralmente tem lesão primár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atúr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Geralmente após 12 anos de ida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Pode ocorrer espontaneam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Afastar outras causa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utros sangramentos: nasal, da mucosa oral, interior da língua, assoalho da boca e outros são </a:t>
            </a: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menos freqüent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ínic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Maior gravida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SNC ( &lt;5%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Íleopso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egião cervic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etrofaring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omplicaçõe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Seqüelas osteoarticula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Inibid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Pseudotum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Sangramento intracranian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Artropatia crôn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11" name="Text Box 7"/>
          <p:cNvGrpSpPr/>
          <p:nvPr/>
        </p:nvGrpSpPr>
        <p:grpSpPr>
          <a:xfrm>
            <a:off x="2755800" y="1481040"/>
            <a:ext cx="3407040" cy="828720"/>
            <a:chOff x="2755800" y="1481040"/>
            <a:chExt cx="3407040" cy="828720"/>
          </a:xfrm>
        </p:grpSpPr>
        <p:pic>
          <p:nvPicPr>
            <p:cNvPr id="412" name="Text Box 7" descr=""/>
            <p:cNvPicPr/>
            <p:nvPr/>
          </p:nvPicPr>
          <p:blipFill>
            <a:blip r:embed="rId1"/>
            <a:stretch/>
          </p:blipFill>
          <p:spPr>
            <a:xfrm>
              <a:off x="2755800" y="1481040"/>
              <a:ext cx="3407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843280" y="155736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Hemorragia recorrente em articulação al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Text Box 8"/>
          <p:cNvGrpSpPr/>
          <p:nvPr/>
        </p:nvGrpSpPr>
        <p:grpSpPr>
          <a:xfrm>
            <a:off x="2146320" y="2919240"/>
            <a:ext cx="4467240" cy="830520"/>
            <a:chOff x="2146320" y="2919240"/>
            <a:chExt cx="4467240" cy="830520"/>
          </a:xfrm>
        </p:grpSpPr>
        <p:pic>
          <p:nvPicPr>
            <p:cNvPr id="415" name="Text Box 8" descr=""/>
            <p:cNvPicPr/>
            <p:nvPr/>
          </p:nvPicPr>
          <p:blipFill>
            <a:blip r:embed="rId2"/>
            <a:stretch/>
          </p:blipFill>
          <p:spPr>
            <a:xfrm>
              <a:off x="2146320" y="2919240"/>
              <a:ext cx="44672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2268360" y="2994120"/>
              <a:ext cx="417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Enzimas proteolíticas de granulócitos / produtos oxid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Text Box 11"/>
          <p:cNvGrpSpPr/>
          <p:nvPr/>
        </p:nvGrpSpPr>
        <p:grpSpPr>
          <a:xfrm>
            <a:off x="1109520" y="3932280"/>
            <a:ext cx="4260960" cy="554040"/>
            <a:chOff x="1109520" y="3932280"/>
            <a:chExt cx="4260960" cy="554040"/>
          </a:xfrm>
        </p:grpSpPr>
        <p:pic>
          <p:nvPicPr>
            <p:cNvPr id="418" name="Text Box 11" descr=""/>
            <p:cNvPicPr/>
            <p:nvPr/>
          </p:nvPicPr>
          <p:blipFill>
            <a:blip r:embed="rId3"/>
            <a:stretch/>
          </p:blipFill>
          <p:spPr>
            <a:xfrm>
              <a:off x="1109520" y="3932280"/>
              <a:ext cx="4260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87280" y="4005360"/>
              <a:ext cx="41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Inflamação e erosão da sinóv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14"/>
          <p:cNvGrpSpPr/>
          <p:nvPr/>
        </p:nvGrpSpPr>
        <p:grpSpPr>
          <a:xfrm>
            <a:off x="2444760" y="4937040"/>
            <a:ext cx="2004840" cy="993240"/>
            <a:chOff x="2444760" y="4937040"/>
            <a:chExt cx="2004840" cy="993240"/>
          </a:xfrm>
        </p:grpSpPr>
        <p:pic>
          <p:nvPicPr>
            <p:cNvPr id="421" name="Text Box 14" descr=""/>
            <p:cNvPicPr/>
            <p:nvPr/>
          </p:nvPicPr>
          <p:blipFill>
            <a:blip r:embed="rId4"/>
            <a:stretch/>
          </p:blipFill>
          <p:spPr>
            <a:xfrm>
              <a:off x="2444760" y="4937040"/>
              <a:ext cx="20048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556000" y="5013360"/>
              <a:ext cx="1726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Maior risco de hemorra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Line 16" descr=""/>
          <p:cNvPicPr/>
          <p:nvPr/>
        </p:nvPicPr>
        <p:blipFill>
          <a:blip r:embed="rId5"/>
          <a:stretch/>
        </p:blipFill>
        <p:spPr>
          <a:xfrm>
            <a:off x="4303800" y="2219400"/>
            <a:ext cx="334800" cy="822240"/>
          </a:xfrm>
          <a:prstGeom prst="rect">
            <a:avLst/>
          </a:prstGeom>
          <a:ln w="0">
            <a:noFill/>
          </a:ln>
        </p:spPr>
      </p:pic>
      <p:grpSp>
        <p:nvGrpSpPr>
          <p:cNvPr id="424" name="Text Box 18"/>
          <p:cNvGrpSpPr/>
          <p:nvPr/>
        </p:nvGrpSpPr>
        <p:grpSpPr>
          <a:xfrm>
            <a:off x="4998960" y="4937040"/>
            <a:ext cx="1524240" cy="830520"/>
            <a:chOff x="4998960" y="4937040"/>
            <a:chExt cx="1524240" cy="830520"/>
          </a:xfrm>
        </p:grpSpPr>
        <p:pic>
          <p:nvPicPr>
            <p:cNvPr id="425" name="Text Box 18" descr=""/>
            <p:cNvPicPr/>
            <p:nvPr/>
          </p:nvPicPr>
          <p:blipFill>
            <a:blip r:embed="rId6"/>
            <a:stretch/>
          </p:blipFill>
          <p:spPr>
            <a:xfrm>
              <a:off x="4998960" y="4937040"/>
              <a:ext cx="15242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076720" y="501336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Sintomas de artr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Text Box 19"/>
          <p:cNvGrpSpPr/>
          <p:nvPr/>
        </p:nvGrpSpPr>
        <p:grpSpPr>
          <a:xfrm>
            <a:off x="7205760" y="4937040"/>
            <a:ext cx="1541520" cy="993240"/>
            <a:chOff x="7205760" y="4937040"/>
            <a:chExt cx="1541520" cy="993240"/>
          </a:xfrm>
        </p:grpSpPr>
        <p:pic>
          <p:nvPicPr>
            <p:cNvPr id="428" name="Text Box 19" descr=""/>
            <p:cNvPicPr/>
            <p:nvPr/>
          </p:nvPicPr>
          <p:blipFill>
            <a:blip r:embed="rId7"/>
            <a:stretch/>
          </p:blipFill>
          <p:spPr>
            <a:xfrm>
              <a:off x="7205760" y="4937040"/>
              <a:ext cx="154152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308720" y="5013360"/>
              <a:ext cx="12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Anquilose arti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23"/>
          <p:cNvSpPr/>
          <p:nvPr/>
        </p:nvSpPr>
        <p:spPr>
          <a:xfrm>
            <a:off x="1692360" y="60148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articulações: joelho , quadril e cotov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Line 25" descr=""/>
          <p:cNvPicPr/>
          <p:nvPr/>
        </p:nvPicPr>
        <p:blipFill>
          <a:blip r:embed="rId8"/>
          <a:stretch/>
        </p:blipFill>
        <p:spPr>
          <a:xfrm>
            <a:off x="6059520" y="4297320"/>
            <a:ext cx="457200" cy="762120"/>
          </a:xfrm>
          <a:prstGeom prst="rect">
            <a:avLst/>
          </a:prstGeom>
          <a:ln w="0">
            <a:noFill/>
          </a:ln>
        </p:spPr>
      </p:pic>
      <p:pic>
        <p:nvPicPr>
          <p:cNvPr id="432" name="Line 26" descr=""/>
          <p:cNvPicPr/>
          <p:nvPr/>
        </p:nvPicPr>
        <p:blipFill>
          <a:blip r:embed="rId9"/>
          <a:stretch/>
        </p:blipFill>
        <p:spPr>
          <a:xfrm>
            <a:off x="3895560" y="4290840"/>
            <a:ext cx="2329200" cy="768600"/>
          </a:xfrm>
          <a:prstGeom prst="rect">
            <a:avLst/>
          </a:prstGeom>
          <a:ln w="0">
            <a:noFill/>
          </a:ln>
        </p:spPr>
      </p:pic>
      <p:pic>
        <p:nvPicPr>
          <p:cNvPr id="433" name="Line 27" descr=""/>
          <p:cNvPicPr/>
          <p:nvPr/>
        </p:nvPicPr>
        <p:blipFill>
          <a:blip r:embed="rId10"/>
          <a:stretch/>
        </p:blipFill>
        <p:spPr>
          <a:xfrm>
            <a:off x="6907320" y="4218120"/>
            <a:ext cx="9255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34" name="Text Box 28"/>
          <p:cNvGrpSpPr/>
          <p:nvPr/>
        </p:nvGrpSpPr>
        <p:grpSpPr>
          <a:xfrm>
            <a:off x="6004080" y="3932280"/>
            <a:ext cx="2822400" cy="554040"/>
            <a:chOff x="6004080" y="3932280"/>
            <a:chExt cx="2822400" cy="554040"/>
          </a:xfrm>
        </p:grpSpPr>
        <p:pic>
          <p:nvPicPr>
            <p:cNvPr id="435" name="Text Box 28" descr=""/>
            <p:cNvPicPr/>
            <p:nvPr/>
          </p:nvPicPr>
          <p:blipFill>
            <a:blip r:embed="rId11"/>
            <a:stretch/>
          </p:blipFill>
          <p:spPr>
            <a:xfrm>
              <a:off x="6004080" y="3932280"/>
              <a:ext cx="28224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084720" y="400536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Gill Sans MT"/>
                </a:rPr>
                <a:t>Proliferação sinov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" name="Line 29" descr=""/>
          <p:cNvPicPr/>
          <p:nvPr/>
        </p:nvPicPr>
        <p:blipFill>
          <a:blip r:embed="rId12"/>
          <a:stretch/>
        </p:blipFill>
        <p:spPr>
          <a:xfrm>
            <a:off x="5419800" y="4065480"/>
            <a:ext cx="676080" cy="335160"/>
          </a:xfrm>
          <a:prstGeom prst="rect">
            <a:avLst/>
          </a:prstGeom>
          <a:ln w="0">
            <a:noFill/>
          </a:ln>
        </p:spPr>
      </p:pic>
      <p:pic>
        <p:nvPicPr>
          <p:cNvPr id="438" name="Line 17" descr=""/>
          <p:cNvPicPr/>
          <p:nvPr/>
        </p:nvPicPr>
        <p:blipFill>
          <a:blip r:embed="rId13"/>
          <a:stretch/>
        </p:blipFill>
        <p:spPr>
          <a:xfrm>
            <a:off x="4303800" y="3664080"/>
            <a:ext cx="334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Artropatia crôn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0" name="Content Placeholder 20" descr="a12fig04.gif"/>
          <p:cNvPicPr/>
          <p:nvPr/>
        </p:nvPicPr>
        <p:blipFill>
          <a:blip r:embed="rId1"/>
          <a:stretch/>
        </p:blipFill>
        <p:spPr>
          <a:xfrm>
            <a:off x="1170000" y="1285920"/>
            <a:ext cx="3898800" cy="342900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pic>
        <p:nvPicPr>
          <p:cNvPr id="441" name="Content Placeholder 21" descr="a12fig05.gif"/>
          <p:cNvPicPr/>
          <p:nvPr/>
        </p:nvPicPr>
        <p:blipFill>
          <a:blip r:embed="rId2"/>
          <a:stretch/>
        </p:blipFill>
        <p:spPr>
          <a:xfrm>
            <a:off x="5099040" y="1285920"/>
            <a:ext cx="3830760" cy="34034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442" name="Rectangle 24"/>
          <p:cNvSpPr/>
          <p:nvPr/>
        </p:nvSpPr>
        <p:spPr>
          <a:xfrm>
            <a:off x="1071720" y="4286160"/>
            <a:ext cx="80722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1143000" y="1285920"/>
            <a:ext cx="7786800" cy="3071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8"/>
          <p:cNvSpPr/>
          <p:nvPr/>
        </p:nvSpPr>
        <p:spPr>
          <a:xfrm>
            <a:off x="5070600" y="1285920"/>
            <a:ext cx="1440" cy="3073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1"/>
          <p:cNvSpPr/>
          <p:nvPr/>
        </p:nvSpPr>
        <p:spPr>
          <a:xfrm>
            <a:off x="1000080" y="4500720"/>
            <a:ext cx="792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teopenia, alargamento epifisário, aumento de densidade de partes moles, angulosidade do contorno epifisário, alargamento do espaço intercondilar e alguma irregularidade da superfície óssea subcondral, cistos subcondrais, porém sem diminuição importante de espaço articular da interlinha femoro-tib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Introduçã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8040" indent="-261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istóric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Citado no Talmud (cerca de 50-130dC)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Século XII, o médico árabe Abulcasis descreveu um caso de uma família cujos homens haviam morrido de sangramento após pequenos ferimento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Em 1803, o médico norte-americano John Conrad constatou que havia "tendências a sangramentos em algumas familias"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O termo </a:t>
            </a:r>
            <a:r>
              <a:rPr b="0" i="1" lang="pt-BR" sz="1600" spc="-1" strike="noStrike">
                <a:solidFill>
                  <a:srgbClr val="000000"/>
                </a:solidFill>
                <a:latin typeface="Gill Sans MT"/>
              </a:rPr>
              <a:t>hemofilia</a:t>
            </a: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 apareceu pela primeira vez em 1823 Schonlein,  em 1828 foi usado para designar coagulopatia hereditária,  por Hopff,  da Universidade de Zurique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1840  primeira transfusão de sangue com sucesso para tratar uma hemorragia pós-cirúrgica em um menino com hemofilia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1934 MacFarlane controlou sangramentos superficiais com aplicação local do veneno da cobra Russ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1936, pela primeira vez, o plasma foi utilizado para o tratamento da hemofili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1937, Patek e Taylor, dois médicos de Harvard descobriram a globulina anti-hemofílica. (FVIII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Artropatia crôn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Prevençã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Tratamento precoce das hemartro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vitar articulação alv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Sinovectom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edução da progressã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Radiosinoviorte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Próte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Inibid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48960" y="1980720"/>
            <a:ext cx="7661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14-25% dos hemofílicos A grav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lín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edução da eficácia do f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Baixo título: &lt; 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Alto título: &gt; 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Baixa resposta: aumento len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Alta resposta: &gt; 5 a qualquer momen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46d7a"/>
                </a:solidFill>
                <a:latin typeface="Gill Sans MT"/>
              </a:rPr>
              <a:t>Pseudotumor hemofíl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71360" y="1356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Pouco freqüente, porém gr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2" name="Rectangle 3"/>
          <p:cNvGrpSpPr/>
          <p:nvPr/>
        </p:nvGrpSpPr>
        <p:grpSpPr>
          <a:xfrm>
            <a:off x="1633680" y="2017800"/>
            <a:ext cx="4035240" cy="1358640"/>
            <a:chOff x="1633680" y="2017800"/>
            <a:chExt cx="4035240" cy="1358640"/>
          </a:xfrm>
        </p:grpSpPr>
        <p:pic>
          <p:nvPicPr>
            <p:cNvPr id="453" name="Rectangle 3" descr=""/>
            <p:cNvPicPr/>
            <p:nvPr/>
          </p:nvPicPr>
          <p:blipFill>
            <a:blip r:embed="rId1"/>
            <a:stretch/>
          </p:blipFill>
          <p:spPr>
            <a:xfrm>
              <a:off x="1633680" y="2017800"/>
              <a:ext cx="403524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714680" y="2071800"/>
              <a:ext cx="3873240" cy="12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Gill Sans MT"/>
                </a:rPr>
                <a:t>Hematoma persiste como uma lesão cística encapsul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Rectangle 4"/>
          <p:cNvGrpSpPr/>
          <p:nvPr/>
        </p:nvGrpSpPr>
        <p:grpSpPr>
          <a:xfrm>
            <a:off x="3346560" y="3267000"/>
            <a:ext cx="4091040" cy="1470240"/>
            <a:chOff x="3346560" y="3267000"/>
            <a:chExt cx="4091040" cy="1470240"/>
          </a:xfrm>
        </p:grpSpPr>
        <p:pic>
          <p:nvPicPr>
            <p:cNvPr id="456" name="Rectangle 4" descr=""/>
            <p:cNvPicPr/>
            <p:nvPr/>
          </p:nvPicPr>
          <p:blipFill>
            <a:blip r:embed="rId2"/>
            <a:stretch/>
          </p:blipFill>
          <p:spPr>
            <a:xfrm>
              <a:off x="3346560" y="3267000"/>
              <a:ext cx="4091040" cy="14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429000" y="3357720"/>
              <a:ext cx="3873600" cy="12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Gill Sans MT"/>
                </a:rPr>
                <a:t>Aumenta,  causando compressão e destruição dos músculos adjacentes, nervos e osso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Rectangle 6"/>
          <p:cNvGrpSpPr/>
          <p:nvPr/>
        </p:nvGrpSpPr>
        <p:grpSpPr>
          <a:xfrm>
            <a:off x="4919760" y="4657680"/>
            <a:ext cx="4120920" cy="1590840"/>
            <a:chOff x="4919760" y="4657680"/>
            <a:chExt cx="4120920" cy="1590840"/>
          </a:xfrm>
        </p:grpSpPr>
        <p:pic>
          <p:nvPicPr>
            <p:cNvPr id="459" name="Rectangle 6" descr=""/>
            <p:cNvPicPr/>
            <p:nvPr/>
          </p:nvPicPr>
          <p:blipFill>
            <a:blip r:embed="rId3"/>
            <a:stretch/>
          </p:blipFill>
          <p:spPr>
            <a:xfrm>
              <a:off x="4919760" y="4657680"/>
              <a:ext cx="412092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000760" y="4714920"/>
              <a:ext cx="39290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Gill Sans MT"/>
                </a:rPr>
                <a:t>Pode causar erosão dos tecidos ao redor, penetrar e perfurar em vísceras ou a pele, propiciando infecção secundá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Curved Right Arrow 7"/>
          <p:cNvSpPr/>
          <p:nvPr/>
        </p:nvSpPr>
        <p:spPr>
          <a:xfrm>
            <a:off x="2786040" y="300024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Curved Right Arrow 8"/>
          <p:cNvSpPr/>
          <p:nvPr/>
        </p:nvSpPr>
        <p:spPr>
          <a:xfrm>
            <a:off x="4357800" y="442764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9" descr="thumb_02.jpg"/>
          <p:cNvPicPr/>
          <p:nvPr/>
        </p:nvPicPr>
        <p:blipFill>
          <a:blip r:embed="rId4"/>
          <a:stretch/>
        </p:blipFill>
        <p:spPr>
          <a:xfrm>
            <a:off x="1285920" y="4786200"/>
            <a:ext cx="235728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46d7a"/>
                </a:solidFill>
                <a:latin typeface="Gill Sans MT"/>
              </a:rPr>
              <a:t>Sangramento intracraniano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Evento hemorrágico mais perigoso para o paciente hemofílic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Pode ocorrer devido a traumatismos ou espontaneament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6" name="Picture 3" descr="neurovascular43+.jpg"/>
          <p:cNvPicPr/>
          <p:nvPr/>
        </p:nvPicPr>
        <p:blipFill>
          <a:blip r:embed="rId1"/>
          <a:stretch/>
        </p:blipFill>
        <p:spPr>
          <a:xfrm>
            <a:off x="500040" y="4143240"/>
            <a:ext cx="2643120" cy="1890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neurotrauma4b++.jpg"/>
          <p:cNvPicPr/>
          <p:nvPr/>
        </p:nvPicPr>
        <p:blipFill>
          <a:blip r:embed="rId2"/>
          <a:stretch/>
        </p:blipFill>
        <p:spPr>
          <a:xfrm>
            <a:off x="3357720" y="4143240"/>
            <a:ext cx="2714400" cy="1886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neurotrauma8a+.jpg"/>
          <p:cNvPicPr/>
          <p:nvPr/>
        </p:nvPicPr>
        <p:blipFill>
          <a:blip r:embed="rId3"/>
          <a:stretch/>
        </p:blipFill>
        <p:spPr>
          <a:xfrm>
            <a:off x="6215040" y="4140360"/>
            <a:ext cx="2714760" cy="1885680"/>
          </a:xfrm>
          <a:prstGeom prst="rect">
            <a:avLst/>
          </a:prstGeom>
          <a:ln w="0">
            <a:noFill/>
          </a:ln>
        </p:spPr>
      </p:pic>
      <p:sp>
        <p:nvSpPr>
          <p:cNvPr id="469" name="Right Arrow 7"/>
          <p:cNvSpPr/>
          <p:nvPr/>
        </p:nvSpPr>
        <p:spPr>
          <a:xfrm rot="2332200">
            <a:off x="68400" y="3893760"/>
            <a:ext cx="100008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16349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ight Arrow 8"/>
          <p:cNvSpPr/>
          <p:nvPr/>
        </p:nvSpPr>
        <p:spPr>
          <a:xfrm rot="2623800">
            <a:off x="6319440" y="4498560"/>
            <a:ext cx="100008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16349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ight Arrow 9"/>
          <p:cNvSpPr/>
          <p:nvPr/>
        </p:nvSpPr>
        <p:spPr>
          <a:xfrm rot="2658000">
            <a:off x="3485880" y="4411440"/>
            <a:ext cx="1000080" cy="5713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d16349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Diagnóstico da hemofil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TTPA alargad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rreção com plasma a 50%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ofilia 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TTPA pode ser normal com IX até 15-2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Colher o fator se tiver suspei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Dosagens dos fato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vW e CoR norma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46d7a"/>
                </a:solidFill>
                <a:latin typeface="Gill Sans MT"/>
              </a:rPr>
              <a:t>Diagnóstico Gené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71360" y="25714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Mutações de base única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 PCR + seqüenciamen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Inversões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 Southern blotting (probe F8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Deleçõ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Grandes deleçõe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Southern blot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Pequenas deleçõe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PCR + seqüenciamen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Inserções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 Southern blot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6" name="Picture 3" descr="HemofiliaA.jpg"/>
          <p:cNvPicPr/>
          <p:nvPr/>
        </p:nvPicPr>
        <p:blipFill>
          <a:blip r:embed="rId1"/>
          <a:stretch/>
        </p:blipFill>
        <p:spPr>
          <a:xfrm>
            <a:off x="6477120" y="5716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46d7a"/>
                </a:solidFill>
                <a:latin typeface="Gill Sans MT"/>
              </a:rPr>
              <a:t>Diagnóstico Pré-Nat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Amniocente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12-14ª semana de gestaçã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Vilosidades Coriôn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9-11ª semana de gestaçã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transcervical x transabdomin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Orientaçõe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48960" y="19810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lnSpc>
                <a:spcPct val="11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vitar AAS, AINH (ibuprofen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11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vitar aplicações I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11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Limitar atividades de ris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11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vitar punções arteriais, procedimentos invasivos, extrações dentári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11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nduta em caso de trauma ou sangramen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46d7a"/>
                </a:solidFill>
                <a:latin typeface="Gill Sans MT"/>
              </a:rPr>
              <a:t>Tratamen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Restituição da atividade defici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Manejo clín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entros especializ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quipes multidisciplina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avaliações periód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programas de exercíci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boa higiene o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Hemofilia gra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nsiderar o nível de fator do paciente como 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Níveis hemostáticos 25-30%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5" name="Picture 3" descr="img_4_637_14042009_472.jpg"/>
          <p:cNvPicPr/>
          <p:nvPr/>
        </p:nvPicPr>
        <p:blipFill>
          <a:blip r:embed="rId1"/>
          <a:stretch/>
        </p:blipFill>
        <p:spPr>
          <a:xfrm>
            <a:off x="2786040" y="364320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Introduçã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istórico</a:t>
            </a:r>
            <a:r>
              <a:rPr b="0" lang="pt-BR" sz="1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Em 1944, Cohn e seus colegas demonstraram que uma das frações do sangue (Fração Cohn 1) indicava atividade anti-hemofílic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Em 1950 foi descrito a deficiência do fator I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Em 1955,  patologistas americanos desenvolveram infusões intravenosas de FVIII human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Em 1964 Drª. Judith Pool desenvolveu o crioprecipitad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1977 o Prof. Pier descobriu que a desmopressina (DDAVP) aumentava FVIII e FvW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A estrutura do fator VIII foi identificada e reproduzida laboratorialmente em 1984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de 1992  esta disponível o VIII desenvolvido por engenharia genética – fator VIIa recombinante e o FIX desde 1997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Fator VII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ecombina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½ vida e eficácia igua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Sem risco de contaminaçã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Não aumenta inibid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Derivado do plas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Graus diferentes de purez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Risco de contaminação e reaçõ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Crio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Muitos doado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Sem inativação vir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lnSpc>
                <a:spcPct val="80000"/>
              </a:lnSpc>
              <a:spcBef>
                <a:spcPts val="499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Outras proteína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8" name="Picture 3" descr="untitled.bmp"/>
          <p:cNvPicPr/>
          <p:nvPr/>
        </p:nvPicPr>
        <p:blipFill>
          <a:blip r:embed="rId1"/>
          <a:stretch/>
        </p:blipFill>
        <p:spPr>
          <a:xfrm>
            <a:off x="4929120" y="4214880"/>
            <a:ext cx="11811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Fator VII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 U/kg eleva 2% o fator plasmáti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Meia vida 8-12 hor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U =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Gill Sans MT"/>
              </a:rPr>
              <a:t>Peso (Kg) x % de fator desej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Fator 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 U/kg eleva 1% o fator plasmátic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Meia vida 18 hor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U =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Gill Sans MT"/>
              </a:rPr>
              <a:t>Peso (Kg) x % de fator desej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222120" y="1557360"/>
          <a:ext cx="8742600" cy="5040360"/>
        </p:xfrm>
        <a:graphic>
          <a:graphicData uri="http://schemas.openxmlformats.org/drawingml/2006/table">
            <a:tbl>
              <a:tblPr/>
              <a:tblGrid>
                <a:gridCol w="2914920"/>
                <a:gridCol w="2912760"/>
                <a:gridCol w="29149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sangr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fator e freqü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 trat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staxe / bo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%,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m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dont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50%, 1-3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artrose / músc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50%, 1-3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uso, gelo, AIN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80%, 3-5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obiliz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22120" y="1557360"/>
          <a:ext cx="8742600" cy="5111640"/>
        </p:xfrm>
        <a:graphic>
          <a:graphicData uri="http://schemas.openxmlformats.org/drawingml/2006/table">
            <a:tbl>
              <a:tblPr/>
              <a:tblGrid>
                <a:gridCol w="2914920"/>
                <a:gridCol w="2912760"/>
                <a:gridCol w="2914920"/>
              </a:tblGrid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sangr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fator / Freqüên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 trat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operitôneo / retrofarínge / síndrome compartim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100%,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%, 12/12h, 3-7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nisona 1 mg/kg/d, 3-7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8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atú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ós 24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50%,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uso, hidrat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G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100%,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%12/12h, 5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ção H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100%, 1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0%, 7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30%, 7-14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r TC com 14 d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 - fa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48960" y="1980720"/>
            <a:ext cx="76611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Procedimen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Mielo: 3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Biópsia pele, mucosa, músculo: 50, 30, 5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EDA c/ ou s/ bx: 8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Colono: 40%, 1x/d, 2-3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LCR: 10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Broncoscopia: 30-5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Litotripsia: 80%, 1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Odonto: transamin 24h antes e 5-7d após</a:t>
            </a:r>
            <a:r>
              <a:rPr b="0" lang="pt-B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Antifibrinolítico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Não usar se sangramentos em cavidade fech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Hematúria, hemartrose, sangramento muscul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Ácido tranexâmico (transami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20 mg/kg/dose, 6/6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Ácido épsilon-amino caprói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00 mg/kg/dose, 6/6h, máx 30 g/d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DDAV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ofilia A leve/ m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Mobilização dos estoques de VIII e v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0,3 mcg/kg EV ou S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-2 x/dia, 3-4 di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feitos colaterai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Rubor facial, retenção hídrica, hiponatrem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4160" indent="-2268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Evitar em menores de 2 an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Tratament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AINH ou corticóid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vitar bloqueadores da COX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Edemas extensos ou persistentes com alteração neurológ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Prevenção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Boa forma físi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Fisioterap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Boa saúde o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Epidemiologi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3920" y="1428480"/>
            <a:ext cx="4000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ofilia 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Deficiência do fator VI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80-85% dos cas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 / 10.000 dos </a:t>
            </a:r>
            <a:r>
              <a:rPr b="0" lang="pt-BR" sz="2400" spc="-1" strike="noStrike">
                <a:solidFill>
                  <a:srgbClr val="000000"/>
                </a:solidFill>
                <a:latin typeface="Gill Sans MT"/>
                <a:ea typeface="Arial"/>
              </a:rPr>
              <a:t>♂ nascidos v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61040" y="1447560"/>
            <a:ext cx="367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Hemofilia 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eficiência de fator I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0-15% dos cas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  <a:ea typeface="Arial"/>
              </a:rPr>
              <a:t>1 / 30.000 dos ♂ nascidos v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3381480" y="6500880"/>
            <a:ext cx="29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FFMAN e col. 2001; MARQUES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Heranç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Herança recessiva, ligada ao 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30% mutação no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Portadores sintomáticos (</a:t>
            </a:r>
            <a:r>
              <a:rPr b="0" lang="pt-BR" sz="3200" spc="-1" strike="noStrike">
                <a:solidFill>
                  <a:srgbClr val="000000"/>
                </a:solidFill>
                <a:latin typeface="Gill Sans MT"/>
                <a:ea typeface="Arial"/>
              </a:rPr>
              <a:t>♀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  <a:ea typeface="Arial"/>
              </a:rPr>
              <a:t>Lionização (inativação do X norm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  <a:ea typeface="Arial"/>
              </a:rPr>
              <a:t>Turner (X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  <a:ea typeface="Arial"/>
              </a:rPr>
              <a:t>Homozigóticas (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Gill Sans MT"/>
                <a:ea typeface="Arial"/>
              </a:rPr>
              <a:t>H</a:t>
            </a:r>
            <a:r>
              <a:rPr b="0" lang="pt-BR" sz="2800" spc="-1" strike="noStrike">
                <a:solidFill>
                  <a:srgbClr val="000000"/>
                </a:solidFill>
                <a:latin typeface="Gill Sans MT"/>
                <a:ea typeface="Arial"/>
              </a:rPr>
              <a:t>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Gill Sans MT"/>
                <a:ea typeface="Arial"/>
              </a:rPr>
              <a:t>H</a:t>
            </a:r>
            <a:r>
              <a:rPr b="0" lang="pt-BR" sz="2800" spc="-1" strike="noStrike">
                <a:solidFill>
                  <a:srgbClr val="000000"/>
                </a:solidFill>
                <a:latin typeface="Gill Sans MT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Heranç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523880" y="2384280"/>
          <a:ext cx="7224840" cy="3132360"/>
        </p:xfrm>
        <a:graphic>
          <a:graphicData uri="http://schemas.openxmlformats.org/drawingml/2006/table">
            <a:tbl>
              <a:tblPr/>
              <a:tblGrid>
                <a:gridCol w="1752840"/>
                <a:gridCol w="54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x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ótipo → Fenóti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scul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HY → homem normal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hY → homem hemofíl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87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emin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HXH → mulher norm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4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HXh → mulher normal portadora </a:t>
                      </a:r>
                      <a:br>
                        <a:rPr sz="2800"/>
                      </a:b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XhXh → mulher hemofílic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Fisiopatologia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4932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278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VIIIa + IXa são essenciais na formação do complexo protrombinase (ativam X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9640" indent="-278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 MT"/>
              </a:rPr>
              <a:t>Hemofili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Formação do coágulo é le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Trombina reduzi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Coágulo friá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Sangramento excessiv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Dificuldade de cicatrizaçã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3" name="Picture 3" descr="sptlt041.jpg"/>
          <p:cNvPicPr/>
          <p:nvPr/>
        </p:nvPicPr>
        <p:blipFill>
          <a:blip r:embed="rId1"/>
          <a:stretch/>
        </p:blipFill>
        <p:spPr>
          <a:xfrm>
            <a:off x="5992920" y="3571920"/>
            <a:ext cx="30798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assificação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50-20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Nível hemostático 25-3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Lev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5-40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Sem sangramentos espontâne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Moder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1-5%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116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 MT"/>
              </a:rPr>
              <a:t>Grav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ill Sans MT"/>
              </a:rPr>
              <a:t>&lt; 1% (50% dos cas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364920" y="628668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FH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300" spc="-1" strike="noStrike">
                <a:solidFill>
                  <a:srgbClr val="5f688b"/>
                </a:solidFill>
                <a:latin typeface="Gill Sans MT"/>
              </a:rPr>
              <a:t>Classificação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49320" y="1981080"/>
          <a:ext cx="7661160" cy="4114800"/>
        </p:xfrm>
        <a:graphic>
          <a:graphicData uri="http://schemas.openxmlformats.org/drawingml/2006/table">
            <a:tbl>
              <a:tblPr/>
              <a:tblGrid>
                <a:gridCol w="2554200"/>
                <a:gridCol w="2552760"/>
                <a:gridCol w="2554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filia / Classifica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9" name="Rectangle 3"/>
          <p:cNvSpPr/>
          <p:nvPr/>
        </p:nvSpPr>
        <p:spPr>
          <a:xfrm>
            <a:off x="3722400" y="62866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FH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0:57:18Z</dcterms:created>
  <dc:creator>marcela.santos</dc:creator>
  <dc:description/>
  <dc:language>en-US</dc:language>
  <cp:lastModifiedBy>Lineu</cp:lastModifiedBy>
  <dcterms:modified xsi:type="dcterms:W3CDTF">2009-06-09T10:58:05Z</dcterms:modified>
  <cp:revision>66</cp:revision>
  <dc:subject/>
  <dc:title>Hemofilias </dc:title>
</cp:coreProperties>
</file>