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11223-31B9-4F2C-98D8-BDFE2B1D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0EDB9-9E0D-488C-B25C-D72D98D3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C1C4C-48E8-4D27-A332-3552CEC8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B3443-B430-40BF-AA6A-3B369FC5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0588-354B-49E3-8B75-DB088CD3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A06A-CF91-41FF-8AFC-AB061C4E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2A94-AF3F-4883-AF7F-A853CB3B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CF1E-708C-4088-8EA9-F0B693DA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6402-DC21-426A-988C-8F4B3ABE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A350-43BB-4AC6-9197-9D674A3C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2D0A-9807-4D4A-A7C9-7CB2A725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6129-0975-4B36-95B8-A6E32E3A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5ACC-80E6-48F0-9996-504A38C1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E8A6-8ED6-45BE-A2A9-168620BF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3456-C4B6-4DE1-8FB5-61875036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8970-0B26-4266-B600-9581837E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9934-36BE-40EA-89C7-1419D369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7815E-4AD0-4F13-BFFE-950E3B2B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21AD4-4700-49CB-9256-3A2FDA72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42558-6147-4DD4-8540-2F2474DF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3D7B-7735-4C7B-8BB0-AD70B5C2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A1F3-4F4E-4271-BA4F-3B2FCDA5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96E19-E521-41DB-8B75-B76CDDAE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B8616-19D0-4A3C-A187-65C69CB5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8A68-DE0B-40DA-97D2-A43648038E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6E2D-E0FD-4585-8D0F-D3A4D74424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Suporte transfusion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788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ernanda Maria Sa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esio Vi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3. Aloimuniz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nto &gt; o nº de transfusão, &gt; a chance de formação de Ac anti H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ce de rejeição do enxer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ce de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fratariedade plaquet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fusão de hemocomponentes do doador no receptor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bilização contra antigeno HLA menor - ↑rejeição do enx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3. Aloimuniz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anemia aplá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to &gt; o nº de tx, &gt; o risco de rejeição do enxerto e &gt; a mort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s doenças oncológicas a taxa de aloimunização é menor, pela imunossupressão da doença + tra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Uso racional do sa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↓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cidência de GVHDta, infecção por CMV, aloimunização e outras reações adver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do de hemá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&gt; 10,0 - choque hemorrá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&gt; 9,0: doença cardiovascular ou respiratória ou sangramento 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mia sinto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Uso racional do sa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fusão de plaqu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atilho: 10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iderar presença de mucosite, uso de Vancomicina, anfotericina, SOS, febre para gatilho = 20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angramento ativo: cisite hemorrágica, enterorragia, hemorragia alveolar = 50 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Uso racional do sa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fusão de granulóc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ilática 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apêu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fusão de linfóc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derar tipo de doença, tipo de doador (relacionado, não relacionado), estágio da doença na recid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rovado benefício na LMC - qto mais precoce, mel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posta esperada em 3 - 4 m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162920" cy="4038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58388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Uso racional do sa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u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se total em bus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↑GVHD ag e 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e escalo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e: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3/kg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usão das células progenitor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ula, sangue periférico ou cordã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esco x congelad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 ocorrer qualquer tipo de reação transfus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equência das reações é proporcional ao volume infundido, à quantidade de DMSO e à velocidade de inf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usão das células progenit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eitos adve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itose – gosto e hálito de alho/palm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áusea/vôm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e e calafrios: debris celulares, citoc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 torácica e dispnéia por ↑DM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pertensão por ↑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potensão: histamina liberada pelo DM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usão das células progenit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dicardia, arritmias – 1h-24h após a infu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faléia: hipervolem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ulsão, encefalopatia, amnésia transitória, AVCh – imediatamente apó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ficiência renal: por restos cel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ólise passiva e i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ção bacteriana: coleta, criopreservação, descongel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érgica, T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76e"/>
                </a:solidFill>
                <a:latin typeface="Arial"/>
              </a:rPr>
              <a:t>No Transplante de medula óss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5001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usão das células progenit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edicação: antitermico, antihistaminico, corticó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usão de solução sal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zação: sinais vitais pre, a cada 15 min durante e a cada 30min por 2- 4h apó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zação cardiaca por até 24h apó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sso venoso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usão 10mL/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 máxima de DMSO: 1g/kg/dia - fracionar (1g = 1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Incompatibilidade A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286000"/>
            <a:ext cx="1218960" cy="11430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2362320"/>
            <a:ext cx="1219320" cy="11430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648320"/>
            <a:ext cx="1219320" cy="114300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25909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2743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48769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3581280"/>
            <a:ext cx="685800" cy="1219320"/>
          </a:xfrm>
          <a:prstGeom prst="downArrow">
            <a:avLst>
              <a:gd name="adj1" fmla="val 50000"/>
              <a:gd name="adj2" fmla="val 44449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3505320"/>
            <a:ext cx="685800" cy="1218960"/>
          </a:xfrm>
          <a:prstGeom prst="downArrow">
            <a:avLst>
              <a:gd name="adj1" fmla="val 50000"/>
              <a:gd name="adj2" fmla="val 44436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259092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2971800"/>
            <a:ext cx="1600200" cy="152280"/>
          </a:xfrm>
          <a:prstGeom prst="leftArrow">
            <a:avLst>
              <a:gd name="adj1" fmla="val 50000"/>
              <a:gd name="adj2" fmla="val 26270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3657600"/>
            <a:ext cx="228600" cy="1447920"/>
          </a:xfrm>
          <a:prstGeom prst="upArrow">
            <a:avLst>
              <a:gd name="adj1" fmla="val 50000"/>
              <a:gd name="adj2" fmla="val 158346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3733920"/>
            <a:ext cx="228600" cy="1447560"/>
          </a:xfrm>
          <a:prstGeom prst="upArrow">
            <a:avLst>
              <a:gd name="adj1" fmla="val 50000"/>
              <a:gd name="adj2" fmla="val 158307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2209680"/>
            <a:ext cx="1676520" cy="152640"/>
          </a:xfrm>
          <a:prstGeom prst="leftArrow">
            <a:avLst>
              <a:gd name="adj1" fmla="val 50000"/>
              <a:gd name="adj2" fmla="val 274587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327672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Incompatibilidade A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 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rdo do enxerto de eritrócitos e plaqu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aumenta a incidência de GV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altera a sobre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patibilidade me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Hemólise ag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índrome dos linfócitos passageir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fócitos infundidos com a medula se proliferam e produzem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dispon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20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iclosporina sem antiprolif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20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MO de sangue perifé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20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dicionamento não mieloabl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20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ador mul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492120"/>
            <a:ext cx="609480" cy="3808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1330200"/>
            <a:ext cx="609480" cy="38124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3808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43800" y="12333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24760" y="888840"/>
            <a:ext cx="114120" cy="482760"/>
          </a:xfrm>
          <a:prstGeom prst="upArrow">
            <a:avLst>
              <a:gd name="adj1" fmla="val 50000"/>
              <a:gd name="adj2" fmla="val 105757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patibilidade me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dro clín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e D+3 e D+15 - hemólise intrava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siste por 5 -10 dias - linfócitos não são enxer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ame laborato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D + (IgG e complemento) com eluato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ítulo ant-A e ant-B do doador não se correlaciona com hemól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492120"/>
            <a:ext cx="609480" cy="3808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91520" y="1330200"/>
            <a:ext cx="609480" cy="38124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3808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43800" y="12333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24760" y="888840"/>
            <a:ext cx="114120" cy="482760"/>
          </a:xfrm>
          <a:prstGeom prst="upArrow">
            <a:avLst>
              <a:gd name="adj1" fmla="val 50000"/>
              <a:gd name="adj2" fmla="val 105757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patibilidade me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os Ac que não A ou B: mais raro, hemólise menos intensa. Mais comum: anti-D, E, s, Jkb e J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492120"/>
            <a:ext cx="609480" cy="3808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330200"/>
            <a:ext cx="609480" cy="38124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3808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43800" y="12333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24760" y="888840"/>
            <a:ext cx="114120" cy="482760"/>
          </a:xfrm>
          <a:prstGeom prst="upArrow">
            <a:avLst>
              <a:gd name="adj1" fmla="val 50000"/>
              <a:gd name="adj2" fmla="val 105757"/>
            </a:avLst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mpatibilidade Ma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emólise tardia/ Aplasia pura de série vermel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persistência de Ac do receptor ( até anos!). Inicia no D+37 a 105, dura 10 a 94 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tamento de suporte - hemácia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minuir imunosupressão para induzir GV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rdo do início da eritropoi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457200"/>
            <a:ext cx="761760" cy="4572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1523880"/>
            <a:ext cx="762120" cy="45720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380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15238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7840" y="990720"/>
            <a:ext cx="428760" cy="487080"/>
          </a:xfrm>
          <a:prstGeom prst="downArrow">
            <a:avLst>
              <a:gd name="adj1" fmla="val 50000"/>
              <a:gd name="adj2" fmla="val 28401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óstico difere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 produzidos pelo sistema imune do doador contra hemácias do do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 1,2 - 28,2 m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alidade de 50% (infecção pela imunossupress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Problema da quimera m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ado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pância na tipagem A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po misto nas reações de aglutin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48120" y="3695760"/>
            <a:ext cx="297180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Problema da quimera m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 que transfundir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idados especi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ção de GVHD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ção de C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oimun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racional do s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usão das células progenit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atibilidade A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as da quimera m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41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660240" y="1011240"/>
          <a:ext cx="8048880" cy="503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0240" y="1011240"/>
                    <a:ext cx="8048880" cy="50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 transplante de órgã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281120"/>
            <a:ext cx="8229600" cy="15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tibil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tígenos ABO são expressos no endotélio 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compatibilidade ABO maior pode levar a rejeição do enxerto por lesão e trombose endotel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is importante em tecidos muito vascularizados: rim, coração, fígado, pâ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fundir hemocomponentes compatíveis ao doador e re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esso do enx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ores que interferem no sucesso do enxer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atibilidade A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ça de anticorpos anti-HLA( gestação, transfusão, transplante prév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s de dessensibilização para tx ABOi e em pacientes aloimun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es pré transpl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agem ABO e 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atus C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agem HLA e anticorpos H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indrome do linfócito passag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tre 3-24 pós transpl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porcional à massa linfocitária transplantada – pequena no rim; média no fígado e alta no coração/pulm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emólise, TAD+, Ac pres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emólise auto-limitada de curta du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indrome do linfócito passag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hemácia a ser transfundida deve ser compatível com o re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quetas e plasma devem ser compatíveis com ambos: doador e re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nter perfusão re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rticóide – empí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severo – plasmaferese, eritrocitafé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Prevenção de GVHD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erença de histocompatibilidade genética entre doador/re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élulas imunocompetentes do enx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unossupressão do re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ência???(Japão 1981-1986:0,1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Prevenção de GVHD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ita diagnóstic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e, rash, disfunção hepática, diarréia - ausência de pega: 4 a 30d pós transfu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componentes envolvi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ácia, plaqueta, granulócito, plasma fre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óstico: DNA do doador no tecido acome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Prevenção de GVHD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BB preconiza: gama irradiação com 25Gy – inibe proliferação de linfóc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de quan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m que o TMO for indic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é quan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? Até recuperação imunológica – 2 anos ou mais, a depender do GVHDc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Prevenção de CM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e causa de mortalidade e morb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a de infec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tivação de vírus la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ção primária adquirida de transfusão ou do doad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ção primária de outras f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Prevenção de CM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86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 de CMV positivo (doador ou receptor) com filtro??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71640" y="4292640"/>
          <a:ext cx="6768720" cy="1095120"/>
        </p:xfrm>
        <a:graphic>
          <a:graphicData uri="http://schemas.openxmlformats.org/drawingml/2006/table">
            <a:tbl>
              <a:tblPr/>
              <a:tblGrid>
                <a:gridCol w="2475360"/>
                <a:gridCol w="1679760"/>
                <a:gridCol w="2613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 CMV n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x sem scre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xa de soroconver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476360" y="378936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iente e doador CMV nega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1628640"/>
            <a:ext cx="835344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 Comparison of Filtered Leukocyte-Reduced and Cytomegalovirus (CM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eronegative Blood Products for the Prevention of Transfusion-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MV Infection After Marrow Trans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By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aleigh A. Bowden, Sherrill J. Slichter, Merlin Sayers, Daniel Weisdorf, Monica Cays, Gary Scho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eera Banaji, Robert Haake, Kevin Welk, Lloyd Fisher, Jeffrey McCullough, and Wesley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Blood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Vol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86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9 (November l), 1995: pp 3598-3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543560"/>
            <a:ext cx="849780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Transfusion-transmitted cytomegalovirus infection after rece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f leukoreduced bloo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W. Garrett Nichols, Thomas H. Price, Ted Gooley, Lawrence Corey, and Michael Boec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BLOOD, 15 MAY 2003  VOLUME 101, NUMBER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765000"/>
            <a:ext cx="856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fusão de hemocomp CMV negativo  = transfusão com filtro de leucócito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18:07:28Z</dcterms:created>
  <dc:creator>MICHELUTTI</dc:creator>
  <dc:description/>
  <dc:language>en-US</dc:language>
  <cp:lastModifiedBy>anesio</cp:lastModifiedBy>
  <cp:lastPrinted>2008-08-20T13:56:28Z</cp:lastPrinted>
  <dcterms:modified xsi:type="dcterms:W3CDTF">2009-09-24T14:22:45Z</dcterms:modified>
  <cp:revision>95</cp:revision>
  <dc:subject/>
  <dc:title>Suporte transfusional</dc:title>
</cp:coreProperties>
</file>