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3701-76F7-4801-AB57-964963E8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183E-FFEB-4C86-87A5-FDFF0C34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C51D-3113-4D75-B1C7-50A73879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91AF-59AE-463C-A8B4-3129A764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44DE-2BA3-4470-8E7A-B4D53700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6768-90B4-45DA-BD2D-A9882EEE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EAD0-CB57-489B-90EF-C033BD47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9D38-1579-4F4F-A94B-9747BB52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5E66-3216-46ED-935C-5EDF8B5E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2BC1-9B5A-4137-AF75-5C200418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E048-8B57-4880-8089-3C6CE27C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6FAC-BD4A-4EDB-8BC6-B3BE362D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9D43-DAD7-4527-8F2B-DFBF8B61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00A4-0F76-44A6-B027-03414246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8C71-6C0C-4524-96CE-B2951645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817A-7E84-4355-A90A-A9DE1E09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8212-852F-4463-934C-D5F22F7D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1B4F-0E77-4774-B838-4C620DB7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BBCF-806A-425D-B9EA-4BAF83D3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C3A2-FDC4-4DBA-8912-C354B331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D705-D0CE-47DE-B00B-784E2FE1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E4A8-BA77-4D07-BEEA-DFFF326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2F62-619A-41EA-8C26-55D1A4CB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4588-AB42-41DE-AA0B-4EB7E14F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E82E-9427-4308-89AD-26B0323CC0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BE78-4650-4FFB-8B19-E16BF5252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Suporte transfusio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788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ernanda Maria Sa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esio Vi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3. Aloimuniz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to &gt; o nº de transfusão, &gt; a chance de formação de Ac anti H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de rejeição do enxer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de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fratariedade plaque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usão de hemocomponentes do doador no receptor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bilização contra antigeno HLA menor - ↑rejeição do enx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3. Aloimuniz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anemia aplá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&gt; o nº de tx, &gt; o risco de rejeição do enxerto e &gt; a mort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s doenças oncológicas a taxa de aloimunização é menor, pela imunossupressão da doença + 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Uso racional do sa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↓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cidência de GVHDta, infecção por CMV, aloimunização e outras reações adver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do de hemá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&gt; 10,0 - choque hemorrá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&gt; 9,0: doença cardiovascular ou respiratória ou sangramento 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ia sinto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Uso racional do sa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usão de plaqu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atilho: 10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iderar presença de mucosite, uso de Vancomicina, anfotericina, SOS, febre para gatilho = 20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ngramento ativo: cisite hemorrágica, enterorragia, hemorragia alveolar = 50 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Uso racional do sa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usão de granulóc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ilática 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apêu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fusão de linfóc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derar tipo de doença, tipo de doador (relacionado, não relacionado), estágio da doença na recid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rovado benefício na LMC - qto mais precoce, mel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sta esperada em 3 - 4 m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162920" cy="4038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58388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Uso racional do sa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u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se total em bus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↑GVHD ag e 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e escalo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e: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3/kg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usão das células progenitor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ula, sangue periférico ou cord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esco x congelad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 ocorrer qualquer tipo de reação transfu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equência das reações é proporcional ao volume infundido, à quantidade de DMSO e à velocidade de inf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usão das células progenit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eitos adve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itose – gosto e hálito de alho/palm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áusea/vôm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e e calafrios: debris celulares, citoc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 torácica e dispnéia por ↑DM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ertensão por ↑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otensão: histamina liberada pelo DM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usão das células progenit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dicardia, arritmias – 1h-24h após a infu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faléia: hipervolem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ulsão, encefalopatia, amnésia transitória, AVCh – imediatamente ap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ficiência renal: por restos cel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ólise passiva e i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ção bacteriana: coleta, criopreservação, descongel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érgica, T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76e"/>
                </a:solidFill>
                <a:latin typeface="Arial"/>
              </a:rPr>
              <a:t>No Transplante de medula óss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5001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usão das células progenit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edicação: antitermico, antihistaminico, corticó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usão de solução sal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zação: sinais vitais pre, a cada 15 min durante e a cada 30min por 2- 4h ap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zação cardiaca por até 24h ap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sso venoso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usão 10mL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 máxima de DMSO: 1g/kg/dia - fracionar (1g = 1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Incompatibilidade A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286000"/>
            <a:ext cx="1218960" cy="1143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362320"/>
            <a:ext cx="1219320" cy="1143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648320"/>
            <a:ext cx="1219320" cy="114300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5909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743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4876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581280"/>
            <a:ext cx="685800" cy="1219320"/>
          </a:xfrm>
          <a:prstGeom prst="downArrow">
            <a:avLst>
              <a:gd name="adj1" fmla="val 50000"/>
              <a:gd name="adj2" fmla="val 44449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3505320"/>
            <a:ext cx="685800" cy="1218960"/>
          </a:xfrm>
          <a:prstGeom prst="downArrow">
            <a:avLst>
              <a:gd name="adj1" fmla="val 50000"/>
              <a:gd name="adj2" fmla="val 44436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259092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297180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3657600"/>
            <a:ext cx="228600" cy="1447920"/>
          </a:xfrm>
          <a:prstGeom prst="upArrow">
            <a:avLst>
              <a:gd name="adj1" fmla="val 50000"/>
              <a:gd name="adj2" fmla="val 158346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3733920"/>
            <a:ext cx="228600" cy="1447560"/>
          </a:xfrm>
          <a:prstGeom prst="upArrow">
            <a:avLst>
              <a:gd name="adj1" fmla="val 50000"/>
              <a:gd name="adj2" fmla="val 158307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209680"/>
            <a:ext cx="1676520" cy="152640"/>
          </a:xfrm>
          <a:prstGeom prst="leftArrow">
            <a:avLst>
              <a:gd name="adj1" fmla="val 50000"/>
              <a:gd name="adj2" fmla="val 274587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327672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Incompatibilidade A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rdo do enxerto de eritrócitos e plaqu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aumenta a incidência de GV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altera a sobre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atibilidade me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Hemólise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índrome dos linfócitos passageir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fócitos infundidos com a medula se proliferam e produzem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dispon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closporina sem antiprolif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MO de sangue perif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cionamento não mieloabl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ador mul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492120"/>
            <a:ext cx="609480" cy="3808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1330200"/>
            <a:ext cx="609480" cy="38124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3808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12333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24760" y="888840"/>
            <a:ext cx="114120" cy="482760"/>
          </a:xfrm>
          <a:prstGeom prst="upArrow">
            <a:avLst>
              <a:gd name="adj1" fmla="val 50000"/>
              <a:gd name="adj2" fmla="val 105757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atibilidade me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dro clín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e D+3 e D+15 - hemólise intrava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siste por 5 -10 dias - linfócitos não são enxer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ame laborato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D + (IgG e complemento) com eluato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ítulo ant-A e ant-B do doador não se correlaciona com hemól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92120"/>
            <a:ext cx="609480" cy="3808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91520" y="1330200"/>
            <a:ext cx="609480" cy="38124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3808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12333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24760" y="888840"/>
            <a:ext cx="114120" cy="482760"/>
          </a:xfrm>
          <a:prstGeom prst="upArrow">
            <a:avLst>
              <a:gd name="adj1" fmla="val 50000"/>
              <a:gd name="adj2" fmla="val 105757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atibilidade me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os Ac que não A ou B: mais raro, hemólise menos intensa. Mais comum: anti-D, E, s, Jkb e J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492120"/>
            <a:ext cx="609480" cy="3808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330200"/>
            <a:ext cx="609480" cy="38124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808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12333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24760" y="888840"/>
            <a:ext cx="114120" cy="482760"/>
          </a:xfrm>
          <a:prstGeom prst="upArrow">
            <a:avLst>
              <a:gd name="adj1" fmla="val 50000"/>
              <a:gd name="adj2" fmla="val 105757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atibilidade Ma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emólise tardia/ Aplasia pura de série vermel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persistência de Ac do receptor ( até anos!). Inicia no D+37 a 105, dura 10 a 94 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tamento de suporte - hemáci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minuir imunosupressão para induzir GV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rdo do início da eritropoi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57200"/>
            <a:ext cx="761760" cy="4572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1523880"/>
            <a:ext cx="762120" cy="45720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380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15238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7840" y="990720"/>
            <a:ext cx="428760" cy="487080"/>
          </a:xfrm>
          <a:prstGeom prst="downArrow">
            <a:avLst>
              <a:gd name="adj1" fmla="val 50000"/>
              <a:gd name="adj2" fmla="val 28401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óstico difer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 produzidos pelo sistema imune do doador contra hemácias do do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 1,2 - 28,2 m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idade de 50% (infecção pela imunossupress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Problema da quimera m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ado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ância na tipagem A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po misto nas reações de agluti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48120" y="3695760"/>
            <a:ext cx="297180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Problema da quimera m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que transfundir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idados especi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ção de GVHD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ção de C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imun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racional do s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ão das células progeni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atibilidade A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as da quimera 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660240" y="1011240"/>
          <a:ext cx="8048880" cy="503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0240" y="1011240"/>
                    <a:ext cx="804888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 transplante de órgã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281120"/>
            <a:ext cx="8229600" cy="15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tibil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tígenos ABO são expressos no endotélio 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compatibilidade ABO maior pode levar a rejeição do enxerto por lesão e trombose endotel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s importante em tecidos muito vascularizados: rim, coração, fígado, pâ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ndir hemocomponentes compatíveis ao doador e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esso do enx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ores que interferem no sucesso do enxer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atibilidade A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ça de anticorpos anti-HLA( gestação, transfusão, transplante prév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s de dessensibilização para tx ABOi e em pacientes aloimun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es pré transpl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agem ABO e 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atus C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agem HLA e anticorpos H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indrome do linfócito passag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re 3-24 pós transpl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orcional à massa linfocitária transplantada – pequena no rim; média no fígado e alta no coração/pulm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emólise, TAD+, Ac pres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emólise auto-limitada de curta du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indrome do linfócito passag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hemácia a ser transfundida deve ser compatível com o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quetas e plasma devem ser compatíveis com ambos: doador e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ter perfusão re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rticóide – empí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severo – plasmaferese, eritrocitafé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Prevenção de GVHD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erença de histocompatibilidade genética entre doador/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élulas imunocompetentes do enx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unossupressão do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ência???(Japão 1981-1986:0,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Prevenção de GVHD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ita diagnóstic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e, rash, disfunção hepática, diarréia - ausência de pega: 4 a 30d pós transfu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componentes envolvi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ácia, plaqueta, granulócito, plasma fre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óstico: DNA do doador no tecido acome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Prevenção de GVHD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BB preconiza: gama irradiação com 25Gy – inibe proliferação de linfóc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de quan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m que o TMO for indic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é quan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 Até recuperação imunológica – 2 anos ou mais, a depender do GVHDc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revenção de C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e causa de mortalidade e morb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a de infec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tivação de vírus la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ção primária adquirida de transfusão ou do doa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ção primária de outras f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revenção de C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86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de CMV positivo (doador ou receptor) com filtro?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71640" y="4292640"/>
          <a:ext cx="6768720" cy="1095120"/>
        </p:xfrm>
        <a:graphic>
          <a:graphicData uri="http://schemas.openxmlformats.org/drawingml/2006/table">
            <a:tbl>
              <a:tblPr/>
              <a:tblGrid>
                <a:gridCol w="2475360"/>
                <a:gridCol w="1679760"/>
                <a:gridCol w="2613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CMV 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m scre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xa de soroconver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476360" y="378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iente e doador CMV nega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628640"/>
            <a:ext cx="835344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Comparison of Filtered Leukocyte-Reduced and Cytomegalovirus (C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eronegative Blood Products for the Prevention of Transfusion-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MV Infection After Marrow Trans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y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aleigh A. Bowden, Sherrill J. Slichter, Merlin Sayers, Daniel Weisdorf, Monica Cays, Gary Scho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eera Banaji, Robert Haake, Kevin Welk, Lloyd Fisher, Jeffrey McCullough, and Wesley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lood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Vol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86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9 (November l), 1995: pp 3598-3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543560"/>
            <a:ext cx="849780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ransfusion-transmitted cytomegalovirus infection after rece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f leukoreduced bloo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W. Garrett Nichols, Thomas H. Price, Ted Gooley, Lawrence Corey, and Michael Boec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LOOD, 15 MAY 2003  VOLUME 101, NUMBER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765000"/>
            <a:ext cx="856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fusão de hemocomp CMV negativo  = transfusão com filtro de leucócit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8:07:28Z</dcterms:created>
  <dc:creator>MICHELUTTI</dc:creator>
  <dc:description/>
  <dc:language>en-US</dc:language>
  <cp:lastModifiedBy>anesio</cp:lastModifiedBy>
  <cp:lastPrinted>2008-08-20T13:56:28Z</cp:lastPrinted>
  <dcterms:modified xsi:type="dcterms:W3CDTF">2009-09-24T14:22:45Z</dcterms:modified>
  <cp:revision>95</cp:revision>
  <dc:subject/>
  <dc:title>Suporte transfusional</dc:title>
</cp:coreProperties>
</file>