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993-B797-4194-B4E5-82110DBC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9FE-7124-485E-835E-B1A011C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5D5-433B-4CF6-9E0F-AC625BC3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24B-54FC-402A-9867-3FE31E56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869E-893F-4F27-8F5C-A06CE9DD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673E-9312-404F-B353-71790A9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BC6C-1BB8-4F79-95CE-840256C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F8FD-BAFB-4D7B-B33C-3F95D53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99E6-A786-4378-B290-960D4FD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99F-6238-451B-92DB-A8D59133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AA4F-0612-41C3-A99C-26CBB05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950-A28A-40BC-A5D0-A631215A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EC63-9173-41D9-A4CF-19D0D7C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69E9-E167-4021-BC1B-9A9FD90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4AF-5778-4808-992D-7A9E2F2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0C6-4DA5-4344-A296-A0537EA7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384A-9250-4B82-8B5B-A28A3CB9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494-DA66-49B4-92BA-19B2E81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969-3EA8-4A18-B771-02E53AF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23A-7336-46CD-94CA-808CD95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236-DB1D-4432-95C9-4FE70CE7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EC4-0034-4217-8D78-18ADF13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060-D0D6-4105-B90F-D522888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034-5221-406F-B240-A49020B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BBA-A1C6-4D69-9D16-F25EFDAFBE24}" type="slidenum"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EFC-9A1D-4A49-9135-C25628503DE8}" type="slidenum"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ítu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1320" y="4929120"/>
            <a:ext cx="7854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nstantia"/>
              </a:rPr>
              <a:t>Alessandra A. Gom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nstantia"/>
              </a:rPr>
              <a:t>C2-Oncologia Pediátri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rioprecipit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Contra-indicações: quando houver produtos mais seguros, não deve ser utilizado nos pacientes com Hemofilia ou doença de von Willebra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8f8f8"/>
                </a:solidFill>
                <a:latin typeface="Calibri"/>
              </a:rPr>
              <a:t>Concentrado de complexo protrombínico</a:t>
            </a:r>
            <a:endParaRPr b="0" lang="en-US" sz="36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1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É utilizado no tratamento das deficiências de fatores II, VII e X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2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nos hemofílicos B que não apresentam risco de trombose (isto é, aqueles que não apresentam insuficiência hepática, trauma, trombofilias, coagulopatia de consumo ou quando são necessárias poucas infusões)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3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quando não se dispõe de concentrado de FIX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4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em pacientes hemofílicos A que desenvolveram inibidores (anticorpos específicos contra o FVIII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35000"/>
          <a:ext cx="8229600" cy="3826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ici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se ini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se de manuten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nogên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U/ cada 10 k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o níveis no plas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romb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a cada 12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V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FX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U/ cada 10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ada 2 ou 3 seman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ada 28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O fator VII derivado do plasma ainda não é distribuído pelo Ministério da Saúde . O fator VII ativado recombinante é utilizado para os pacientes portadores de Hemofilia com inibid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O conc. FXII não é disponibilizado pelo Ministério da Saúde, porém disponibilizado por alguns hemocentros no Brasi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36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760" y="1428840"/>
          <a:ext cx="8229600" cy="4602240"/>
        </p:xfrm>
        <a:graphic>
          <a:graphicData uri="http://schemas.openxmlformats.org/drawingml/2006/table">
            <a:tbl>
              <a:tblPr/>
              <a:tblGrid>
                <a:gridCol w="1571400"/>
                <a:gridCol w="1720800"/>
                <a:gridCol w="1644840"/>
                <a:gridCol w="1646280"/>
                <a:gridCol w="1646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tor defic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nog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oncentrate (20-30 mg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Cryoprecipitate (1 bag per 10 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hylaxis with weekly concen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es (20-30 mg/kg) i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 is frequ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seve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hromb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PCC (20-30 U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PCC, FVII, FIX, and FX shou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ceed 15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vailable concen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rFVIIa (15-30 g/kg at 12-h interva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Concentrate (30-40 U/kg at 12-h interva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 with factor VII 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8760" y="1643040"/>
          <a:ext cx="8229600" cy="4694400"/>
        </p:xfrm>
        <a:graphic>
          <a:graphicData uri="http://schemas.openxmlformats.org/drawingml/2006/table">
            <a:tbl>
              <a:tblPr/>
              <a:tblGrid>
                <a:gridCol w="1542960"/>
                <a:gridCol w="1714320"/>
                <a:gridCol w="1785960"/>
                <a:gridCol w="1643040"/>
                <a:gridCol w="1543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tor defic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PCC (20-30 U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PCC, FII, FVII, and FIX shou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ceed 1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 levels of FXI can usually 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hieved also with infusions 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e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oncentrate (10-20 U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Cryoprecipitate (1 bag per 10 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hylaxis in all patients.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acement material can 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used every 20-30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Deve ser feito por uma equipe composta por hematologista/hemoterapeuta, pediatra, ortopedista/fisiatra, enfermeiro, cirurgião-dentista, fisioterapeuta, psicólogo, assistente social, pedagogo e terapeuta ocupaciona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Os pais de bebês acometidos por coagulopatias devem seguir  as rotinas da puericultura. Como qualquer outra criança, o bebê necessita crescer  em um ambiente seguro. Desde o início do acompanhamento, os pais devem ser estimulados ao convívio social e familiar, permitindo a natural evolução da vida escolar  e profissional do filh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Encaminhar para orientação genética em centros capacitad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Estimular a prática de natação, ginástica, caminhada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sestimular esportes de contato, prática de “skate”, patins e esportes radica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azer seguimento ambulatorial com controles periódicos de exam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ornecer orientações ao paciente e familiares sobre a doença e os cuidados a serem tomados de forma verbal compreensível e, se possível, fornecer folhetos explicativ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ornecer  ao paciente um cartão de identificação constando nome, endereço, contatos, diagnóstico da doença, precauções, conduta em caso de emergência/hemorragias, orientações básicas quanto aos medicamentos derivados de aspirina e punções/cirurgi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Obrigada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32" name="Espaço Reservado para Conteúdo 5" descr="dont-worry-bebês.jpg"/>
          <p:cNvPicPr/>
          <p:nvPr/>
        </p:nvPicPr>
        <p:blipFill>
          <a:blip r:embed="rId1"/>
          <a:stretch/>
        </p:blipFill>
        <p:spPr>
          <a:xfrm>
            <a:off x="1828800" y="2071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8f8f8"/>
                </a:solidFill>
                <a:latin typeface="Calibri"/>
              </a:rPr>
              <a:t>Coagulopatias Raras </a:t>
            </a:r>
            <a:endParaRPr b="0" lang="en-US" sz="45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As coagulopatias hereditárias são doenças hemorrágicas resultantes da deficiência quantitativa e/ou qualitativa de uma ou mais das proteínas plasmáticas (fatores) de coagulaçã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Apresentam herança genética, quadro clínico e laboratorial distintos, mas apresentam em comum a redução da formação de tromb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ntre as coagulopatias raras estão as deficiências dos fatores I (fibrinogênio), II (protrombina), V, VII, X, XI e XII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Tratamento das Coagulopatias Raras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ara as coagulopatias hereditárias, o tratamento baseia-se na reposição dos fatores de coagulação deficientes (quando disponível), uso de componentes plasmáticos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ara que o tratamento seja feito de forma adequada, é necessário, além do diagnóstico correto da deficiência, o conhecimento do nível hemostático mínimo do fator, a vida média da proteína, o volume de distribuição e a concentração do fator no produto que será utiliz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Propriedade dos fatores “in vivo”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8760" y="1214280"/>
          <a:ext cx="8229600" cy="53946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ntra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smát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cessária pa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mosta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ia-vi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 fat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und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cupera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san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% do 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undi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abilida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 plasma líquido (estocado a 4º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fibrinogêni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mg/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6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rotrombin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UI/dl (40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 UI/dl (10-15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5 UI/dl (5-15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40UI/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2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4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 10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omponentes utilizados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Plasma fresco congelado (PFC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é derivado do sangue total, sendo separado por centrifugação e congelado em até 8 horas. Contém todos os fatores de coagulação e a transfusão deve ser ABO compatíve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Crioprecipitado (Crio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preparado pelo descongelamento  de uma unidade de PFC, removendo-se o sobrenadante. O precipitado contém fator VIII, fibrinogênio, fator XIII e fator de vWF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omponentes utilizados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Concentrado de complexo protrombínico (CCP)</a:t>
            </a:r>
            <a:r>
              <a:rPr b="0" lang="pt-BR" sz="26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é obtido por fracionamento de “pool” de plasma e contém os fatores II, VII, IX e X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Plasma fresco congel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Terapia de reposiçã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Quando concentrados de fatores específicos não estiverem disponívei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TP &gt; 1,5 x a faixa média do valor normal relacionado à idade e/ou TTPa &gt; 1,5 x o limite superior do valor normal relacionado à idad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urante Plasmaférese terapêutica (usado como fluido de reposição) para PTT e SH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Plasma fresco congel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2)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Reversão de warfarin em uma situação de emergência (ex: pré procedimento invasivo, presença de sangramento ativo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Contra-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Não deve ser usado como expansor de volume, nem como fonte protéica para suporte nutricion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rioprecipit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Hipofibrinogenemia ou Disfibrinogenemia com sangramento ativo ou submetido a procedimentos invasivo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ficiência do fator XIII com sangramento ativo ou submetido a procedimentos invasivo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oações dirigidas da crioprecipitado para sangramentos em crianças pequenas com Hemof. A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oença de von Willebrand quando o DDAVP é contra-indicado ou não está disponível e há sangramento ativo ou pré procedimento invasiv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0:29:57Z</dcterms:created>
  <dc:creator>Alessandra</dc:creator>
  <dc:description/>
  <dc:language>en-US</dc:language>
  <cp:lastModifiedBy>Alessandra</cp:lastModifiedBy>
  <dcterms:modified xsi:type="dcterms:W3CDTF">2009-07-08T05:21:40Z</dcterms:modified>
  <cp:revision>76</cp:revision>
  <dc:subject/>
  <dc:title>Transfusão de derivados plasmáticos nas coagulopatias</dc:title>
</cp:coreProperties>
</file>