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906-2D7B-4C1A-B90D-709AFBC6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A3A-792E-4F72-A084-9D1378A9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839-19FF-4D60-A5CB-9E6615FD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1DA-5B8A-4C5C-8ABB-6BF530F7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DB9D-5A72-467D-972E-D926D8E4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EADE-6C21-40E0-B8A4-4055753A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8B7B-205E-4DD3-BD13-09EE406A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B3E3-4DF2-4493-8328-208DB4ED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8288-81DF-49A8-B343-842DEC88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767B-ED60-4FFD-B723-8D37A465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EE18-3FFB-4FE3-B32D-2647E126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494-89F7-4B73-8552-9B6DA0A6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0E54-7A40-4828-9969-D399D481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6FA4-428B-4096-8F88-7C08559D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F534-8CCF-4E42-AD27-22CB2077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EE1E-B86B-4813-A444-E0561854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305F-FD27-41DC-B514-61BC0336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AA0A-ECF9-4939-8150-B50CA069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E00-D43E-4B1B-B239-D8E02CB8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C819-7DDA-4856-BC87-5BD82455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522D-55AE-49FC-A09F-0992BB51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A22-4F31-4003-AC60-C8FC05F7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39C-C7C9-4F7F-B098-D4AE5709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A47-8FA7-47C8-BE1A-C23470BD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orma liv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ededed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ded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ededed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9295-6452-495C-BDA3-90FC11F4D06B}" type="slidenum">
              <a:rPr b="0" lang="pt-BR" sz="1200" spc="-1" strike="noStrike">
                <a:solidFill>
                  <a:srgbClr val="eded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orma liv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ângulo com Único Canto Aparado e Arredondado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Triângulo retângu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Forma livre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Forma livre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ededed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ded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ededed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2322-06A2-4559-BACB-9CC363B905BF}" type="slidenum">
              <a:rPr b="0" lang="pt-BR" sz="1200" spc="-1" strike="noStrike">
                <a:solidFill>
                  <a:srgbClr val="eded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ítulo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54960" cy="2011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71320" y="4929120"/>
            <a:ext cx="7854840" cy="9144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nstantia"/>
              </a:rPr>
              <a:t>Alessandra A. Gomes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nstantia"/>
              </a:rPr>
              <a:t>C2-Oncologia Pediátric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Crioprecipitado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Contra-indicações: quando houver produtos mais seguros, não deve ser utilizado nos pacientes com Hemofilia ou doença de von Willebran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8f8f8"/>
                </a:solidFill>
                <a:latin typeface="Calibri"/>
              </a:rPr>
              <a:t>Concentrado de complexo protrombínico</a:t>
            </a:r>
            <a:endParaRPr b="0" lang="en-US" sz="36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Indicaçõ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a6a6a6"/>
                </a:solidFill>
                <a:latin typeface="Constantia"/>
              </a:rPr>
              <a:t>1)</a:t>
            </a: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 É utilizado no tratamento das deficiências de fatores II, VII e X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a6a6a6"/>
                </a:solidFill>
                <a:latin typeface="Constantia"/>
              </a:rPr>
              <a:t>2)</a:t>
            </a: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 nos hemofílicos B que não apresentam risco de trombose (isto é, aqueles que não apresentam insuficiência hepática, trauma, trombofilias, coagulopatia de consumo ou quando são necessárias poucas infusões)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a6a6a6"/>
                </a:solidFill>
                <a:latin typeface="Constantia"/>
              </a:rPr>
              <a:t>3)</a:t>
            </a: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 quando não se dispõe de concentrado de FIX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a6a6a6"/>
                </a:solidFill>
                <a:latin typeface="Constantia"/>
              </a:rPr>
              <a:t>4)</a:t>
            </a: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 em pacientes hemofílicos A que desenvolveram inibidores (anticorpos específicos contra o FVIII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Terapia de Reposição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935000"/>
          <a:ext cx="8229600" cy="3826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ficiê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du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se ini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se de manuten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brinogên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 U/ cada 10 k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ndo níveis no plas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romb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F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C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ml/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UI/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l/kg, 1 x d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UI/kg, 1 x 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tor 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F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ml/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l/kg, a cada 12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tor V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F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C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l/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UI/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 ml/kg, 1 x d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UI/kg, 1 x 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tor 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F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C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ml/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UI/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l/kg, 1 x d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UI/kg, 1 x 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tor X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F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l/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 ml/kg, 1 x d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tor XI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. FXI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U/ cada 10 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UI/k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cada 2 ou 3 seman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cada 28 d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Terapia de Reposição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O fator VII derivado do plasma ainda não é distribuído pelo Ministério da Saúde . O fator VII ativado recombinante é utilizado para os pacientes portadores de Hemofilia com inibid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O conc. FXII não é disponibilizado pelo Ministério da Saúde, porém disponibilizado por alguns hemocentros no Brasi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8f8f8"/>
                </a:solidFill>
                <a:latin typeface="Calibri"/>
              </a:rPr>
              <a:t>Terapia de Reposição</a:t>
            </a:r>
            <a:endParaRPr b="0" lang="en-US" sz="3600" spc="-1" strike="noStrike">
              <a:solidFill>
                <a:srgbClr val="f8f8f8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28760" y="1428840"/>
          <a:ext cx="8229600" cy="4602240"/>
        </p:xfrm>
        <a:graphic>
          <a:graphicData uri="http://schemas.openxmlformats.org/drawingml/2006/table">
            <a:tbl>
              <a:tblPr/>
              <a:tblGrid>
                <a:gridCol w="1571400"/>
                <a:gridCol w="1720800"/>
                <a:gridCol w="1644840"/>
                <a:gridCol w="1646280"/>
                <a:gridCol w="1646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tor defici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jor surge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or surge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ntaneous bl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brinog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Concentrate (20-30 mg/kg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FFP (15-20 mL/kg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 Cryoprecipitate (1 bag per 10 kg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50 mg/dL until healing is comple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FP (15-20 mL/kg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50 mg/dL for 2-3 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FP (15-20 mL/kg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50 mg/dL until bleeding sto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hylaxis with weekly concent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ses (20-30 mg/kg) i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ntaneous bleeding is frequ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seve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hromb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PCC (20-30 U/kg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FFP (15-20 mL/kg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30% until healing is comple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FP (15-20 mL/kg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30% for 2-3 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FP (15-20 mL/kg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30% until bleeding sto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 PCC, FVII, FIX, and FX shou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exceed 15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FP (15-20 mL/kg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until healing is comple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or major surg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for 2-3 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or major surg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until bleeding sto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available concent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rFVIIa (15-30 g/kg at 12-h interval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Concentrate (30-40 U/kg at 12-h interval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until healing is comple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or major surg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for 2-3 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or major surg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until bleeding sto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itor with factor VII 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ay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8f8f8"/>
                </a:solidFill>
                <a:latin typeface="Calibri"/>
              </a:rPr>
              <a:t>Terapia de Reposição</a:t>
            </a:r>
            <a:endParaRPr b="0" lang="en-US" sz="4000" spc="-1" strike="noStrike">
              <a:solidFill>
                <a:srgbClr val="f8f8f8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28760" y="1643040"/>
          <a:ext cx="8229600" cy="4694400"/>
        </p:xfrm>
        <a:graphic>
          <a:graphicData uri="http://schemas.openxmlformats.org/drawingml/2006/table">
            <a:tbl>
              <a:tblPr/>
              <a:tblGrid>
                <a:gridCol w="1542960"/>
                <a:gridCol w="1714320"/>
                <a:gridCol w="1785960"/>
                <a:gridCol w="1643040"/>
                <a:gridCol w="1543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tor defici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jor surge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or surge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ntaneous bl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PCC (20-30 U/k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FFP (15-20 mL/k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until healing is comple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FP (15-20 mL/k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for 2-3 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or major surge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until bleeding sto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 PCC, FII, FVII, and FIX shou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exceed 1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FP (15-20 mL/k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until healing is comple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or major surge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for 2-3 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or major surge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20% until bleeding sto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 levels of FXI can usually b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hieved also with infusions a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te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Concentrate (10-20 U/k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FFP (15-20 mL/k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 Cryoprecipitate (1 bag per 10 k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5% until healing is comple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or major surge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5% for 2-3 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for major surge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: 5% until bleeding sto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hylaxis in all patients. T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lacement material can b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used every 20-30 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Acompanhamento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nstantia"/>
              </a:rPr>
              <a:t>Deve ser feito por uma equipe composta por hematologista/hemoterapeuta, pediatra, ortopedista/fisiatra, enfermeiro, cirurgião-dentista, fisioterapeuta, psicólogo, assistente social, pedagogo e terapeuta ocupacional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nstantia"/>
              </a:rPr>
              <a:t>Os pais de bebês acometidos por coagulopatias devem seguir  as rotinas da puericultura. Como qualquer outra criança, o bebê necessita crescer  em um ambiente seguro. Desde o início do acompanhamento, os pais devem ser estimulados ao convívio social e familiar, permitindo a natural evolução da vida escolar  e profissional do filho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Acompanhamento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Encaminhar para orientação genética em centros capacitado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Estimular a prática de natação, ginástica, caminhada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Desestimular esportes de contato, prática de “skate”, patins e esportes radicai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Fazer seguimento ambulatorial com controles periódicos de exam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Acompanhamento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Fornecer orientações ao paciente e familiares sobre a doença e os cuidados a serem tomados de forma verbal compreensível e, se possível, fornecer folhetos explicativo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Fornecer  ao paciente um cartão de identificação constando nome, endereço, contatos, diagnóstico da doença, precauções, conduta em caso de emergência/hemorragias, orientações básicas quanto aos medicamentos derivados de aspirina e punções/cirurgia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Obrigada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pic>
        <p:nvPicPr>
          <p:cNvPr id="132" name="Espaço Reservado para Conteúdo 5" descr="dont-worry-bebês.jpg"/>
          <p:cNvPicPr/>
          <p:nvPr/>
        </p:nvPicPr>
        <p:blipFill>
          <a:blip r:embed="rId1"/>
          <a:stretch/>
        </p:blipFill>
        <p:spPr>
          <a:xfrm>
            <a:off x="1828800" y="2071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500" spc="-1" strike="noStrike">
                <a:solidFill>
                  <a:srgbClr val="f8f8f8"/>
                </a:solidFill>
                <a:latin typeface="Calibri"/>
              </a:rPr>
              <a:t>Coagulopatias Raras </a:t>
            </a:r>
            <a:endParaRPr b="0" lang="en-US" sz="45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As coagulopatias hereditárias são doenças hemorrágicas resultantes da deficiência quantitativa e/ou qualitativa de uma ou mais das proteínas plasmáticas (fatores) de coagulaçã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Apresentam herança genética, quadro clínico e laboratorial distintos, mas apresentam em comum a redução da formação de trombin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Dentre as coagulopatias raras estão as deficiências dos fatores I (fibrinogênio), II (protrombina), V, VII, X, XI e XIII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8f8f8"/>
                </a:solidFill>
                <a:latin typeface="Calibri"/>
              </a:rPr>
              <a:t>Tratamento das Coagulopatias Raras</a:t>
            </a:r>
            <a:endParaRPr b="0" lang="en-US" sz="4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Para as coagulopatias hereditárias, o tratamento baseia-se na reposição dos fatores de coagulação deficientes (quando disponível), uso de componentes plasmáticos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Para que o tratamento seja feito de forma adequada, é necessário, além do diagnóstico correto da deficiência, o conhecimento do nível hemostático mínimo do fator, a vida média da proteína, o volume de distribuição e a concentração do fator no produto que será utilizad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2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8f8f8"/>
                </a:solidFill>
                <a:latin typeface="Calibri"/>
              </a:rPr>
              <a:t>Propriedade dos fatores “in vivo”</a:t>
            </a:r>
            <a:endParaRPr b="0" lang="en-US" sz="4000" spc="-1" strike="noStrike">
              <a:solidFill>
                <a:srgbClr val="f8f8f8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28760" y="1214280"/>
          <a:ext cx="8229600" cy="5394600"/>
        </p:xfrm>
        <a:graphic>
          <a:graphicData uri="http://schemas.openxmlformats.org/drawingml/2006/table">
            <a:tbl>
              <a:tblPr/>
              <a:tblGrid>
                <a:gridCol w="1646280"/>
                <a:gridCol w="1645920"/>
                <a:gridCol w="1644840"/>
                <a:gridCol w="1646280"/>
                <a:gridCol w="164628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entraçã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lasmátic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cessária par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mosta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ia-vi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 fato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ransfundi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cuperaçã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sang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% do to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ransfundid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abilidad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m plasma líquido (estocado a 4º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fibrinogêni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mg/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 6 d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á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I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rotrombin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UI/dl (40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 d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8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á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5 UI/dl (10-15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hor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á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15 UI/dl (5-15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6 hor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-8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á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40UI/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12 hor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8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á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4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24 hor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á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d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á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-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á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- 10 d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52280"/>
                          <a:tab algn="l" pos="30492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á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Componentes utilizados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ffc000"/>
                </a:solidFill>
                <a:uFillTx/>
                <a:latin typeface="Constantia"/>
              </a:rPr>
              <a:t>Plasma fresco congelado (PFC)</a:t>
            </a: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: é derivado do sangue total, sendo separado por centrifugação e congelado em até 8 horas. Contém todos os fatores de coagulação e a transfusão deve ser ABO compatíve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ffc000"/>
                </a:solidFill>
                <a:uFillTx/>
                <a:latin typeface="Constantia"/>
              </a:rPr>
              <a:t>Crioprecipitado (Crio)</a:t>
            </a: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: preparado pelo descongelamento  de uma unidade de PFC, removendo-se o sobrenadante. O precipitado contém fator VIII, fibrinogênio, fator XIII e fator de vWF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Componentes utilizados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ffc000"/>
                </a:solidFill>
                <a:uFillTx/>
                <a:latin typeface="Constantia"/>
              </a:rPr>
              <a:t>Concentrado de complexo protrombínico (CCP)</a:t>
            </a:r>
            <a:r>
              <a:rPr b="0" lang="pt-BR" sz="26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: é obtido por fracionamento de “pool” de plasma e contém os fatores II, VII, IX e X 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Plasma fresco congelado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Indicaçõ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Terapia de reposiçã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Quando concentrados de fatores específicos não estiverem disponíveis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TP &gt; 1,5 x a faixa média do valor normal relacionado à idade e/ou TTPa &gt; 1,5 x o limite superior do valor normal relacionado à idad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Durante Plasmaférese terapêutica (usado como fluido de reposição) para PTT e SHU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Plasma fresco congelado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Indicaçõ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a6a6a6"/>
                </a:solidFill>
                <a:latin typeface="Constantia"/>
              </a:rPr>
              <a:t>2) </a:t>
            </a: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Reversão de warfarin em uma situação de emergência (ex: pré procedimento invasivo, presença de sangramento ativo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Contra-indicaçõ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Não deve ser usado como expansor de volume, nem como fonte protéica para suporte nutriciona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8f8f8"/>
                </a:solidFill>
                <a:latin typeface="Calibri"/>
              </a:rPr>
              <a:t>Crioprecipitado</a:t>
            </a:r>
            <a:endParaRPr b="0" lang="en-US" sz="50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Indicaçõ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969696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Hipofibrinogenemia ou Disfibrinogenemia com sangramento ativo ou submetido a procedimentos invasivos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969696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Deficiência do fator XIII com sangramento ativo ou submetido a procedimentos invasivos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969696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Doações dirigidas da crioprecipitado para sangramentos em crianças pequenas com Hemof. A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969696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Doença de von Willebrand quando o DDAVP é contra-indicado ou não está disponível e há sangramento ativo ou pré procedimento invasiv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0:29:57Z</dcterms:created>
  <dc:creator>Alessandra</dc:creator>
  <dc:description/>
  <dc:language>en-US</dc:language>
  <cp:lastModifiedBy>Alessandra</cp:lastModifiedBy>
  <dcterms:modified xsi:type="dcterms:W3CDTF">2009-07-08T05:21:40Z</dcterms:modified>
  <cp:revision>76</cp:revision>
  <dc:subject/>
  <dc:title>Transfusão de derivados plasmáticos nas coagulopatias</dc:title>
</cp:coreProperties>
</file>