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AF61-9077-4C7C-8E52-00A76D4D45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C5DC-AE91-4E2B-98AF-F5C7EB5EF89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895B-166A-4E55-BCA4-1D3862F408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DE66-7726-48E8-B24F-935470EBB11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E8A9-5CE1-4A78-8B30-F68DA2DECE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BDB2-59AA-4E1A-942F-EC3BAFD661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6A46-5411-4B72-90D1-F78D7728561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B74F-72E3-488B-9B83-8BF0A83CDB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4EE1-84FA-4051-A37C-28F05430544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E790-B687-418E-B1ED-A95A20A85C5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4CBC-B133-4605-B456-1FDEBFB81A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83F6-5DAB-49EA-8330-FBE675D482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D741-7092-4DF9-9D0E-C2E593C87E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3346-7F4A-44CA-8B53-61EBC8406BF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8D31-ACDB-4D2F-B703-C93F6B7CC7F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90CA-A179-46F3-9EAE-E461DF14621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DD2B-B894-4026-9B2D-F54FB55D08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707-8B1C-437F-B960-FCC78B4F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0BF-A9C3-4F14-9E16-B26A8D69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217-E039-4DAF-BC5C-14754090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84D-F794-4EBB-ADD3-72C380F2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C836-BF38-474A-A599-FEEBD550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795E-1500-46BE-9B14-251D049D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BFFA-5329-43D9-BDFF-A3EE281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4068-893D-4032-BD61-5AD6C12A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A9FC-348C-4617-A552-A1D46288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C037-F690-4A1F-97B9-763B607F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EC4D-1C4F-41B2-9912-8DD9496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B57-8B66-4BFF-8F94-F456EA13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5B21-4A31-45F8-A414-AAC5E68F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4997-297A-4B32-A198-05CE7914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A310-B245-4879-9483-2815B66F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F130-FA2B-4A6D-887E-E43943E1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5E60-CEFD-413D-8A09-8D545271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3E2E-A3B7-48C5-8527-94AAD86D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0DF1-15F2-4708-9A39-E9DFF7C4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A62C-A936-49FD-8037-8941D6AC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F2B3-C26A-4F7B-8FD6-C5EBEEFD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8417-2CAC-42BB-B0AF-5D3646B5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457-4D5F-4D68-990D-44355BE2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8388-6468-4C88-9C39-AE4EF9CA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F133-B38A-46DB-8921-95F7A917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5293-6DBD-4AAB-ABAC-C9858117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A623-1519-450E-8C0A-97695C73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FC7C-B63E-438A-9B33-6BCC7F1B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F667-9D4A-4390-8A9F-9F34B081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C90F-08E2-45A9-8BD7-ED0A526F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73727-EDA7-4BCA-B05F-74BAE06B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F3EE-E86F-4F41-A233-B01AF31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3C5F-B7B4-4898-A611-D232389D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0AA-ED0D-4275-9F67-1F48710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221F5-FFCB-4DF3-AECF-F64361E6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015F-1D55-4079-B2A3-EEA69C14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8618-7136-48D3-B9DE-118DE386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57FDC-CA46-41C8-AF01-C0EC3D6B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BDA7F-0AA1-48B5-AFAC-A07042C6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7B7F6-E39C-4B27-8578-C31145A0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6752-9B1F-44F7-B341-CAC69A5F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FC32B-AA8B-4E39-9316-49EF1FC4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A73F-EC86-4762-A730-297AFFF6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E0ED-4F45-48E3-B07E-9721E4E3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0BD-6FEE-4230-BFC2-42D4D97A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4877-2780-4754-A0F0-39C60771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A4711-CC67-4309-A0CB-66891CF1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0398-F379-4987-87B8-259A2F91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68FAF-B154-42E8-B7F8-9BC0C1C3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72B3-5178-4270-89CA-55F7DCF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F15FD-284D-4D59-A984-2D20AFC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C7A17-74F1-40A7-88FD-DED1A94B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3EC0-2A0D-4442-8C00-2FAD63C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FDA7-7BC1-4847-A4B1-5DDD17FA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8E4C5-63E7-4F28-BC1A-CF905224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E68-BA42-470A-AE42-28E58642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5058-53B9-4E1C-8A0A-5B8AE535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90F-C013-4ADE-B821-1655FD5D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29E-A9D7-44D1-8478-CE0154B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2D8-4D72-4EFF-85DE-7221168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90C5-87A9-4B5B-829D-ECFB740A090A}" type="slidenum">
              <a:rPr b="0" lang="pt-B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tângulo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tângulo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Conector reto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E790-BF10-4B57-A53B-7716539C99C1}" type="slidenum">
              <a:rPr b="0" lang="pt-BR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80B1-B149-4D2F-8C68-559D072548BD}" type="slidenum">
              <a:rPr b="0" lang="pt-B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tângulo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9174-6332-4C12-94DD-4931A713B7B6}" type="slidenum">
              <a:rPr b="0" lang="pt-BR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3E40-0566-4D5D-AA73-8B66D554B405}" type="slidenum">
              <a:rPr b="0" lang="pt-B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ítulo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2276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Aula para Residentes da Hematologia e Hemoterapia  HCFMUS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ítulo 1" descr=""/>
          <p:cNvPicPr/>
          <p:nvPr/>
        </p:nvPicPr>
        <p:blipFill>
          <a:blip r:embed="rId1"/>
          <a:stretch/>
        </p:blipFill>
        <p:spPr>
          <a:xfrm>
            <a:off x="285840" y="-365040"/>
            <a:ext cx="7419960" cy="11570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500040"/>
            <a:ext cx="723888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Definição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Hemólise intravascular de hemácias incompatíve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xtremamente grave e de mau prognóstico, diretamente relacionada ao volume de hemácias infundido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tiologia e incidênci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Anticorpos ativadores de complemento do plasma do receptor contra  antígeno eritrocitário presente nas hemácias do doado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Deve-se à incompatibilidade do Sistema ABO, porém, anti-Lea , anti-vel, anti-PP1Pk e anti-P1podem ocorrer 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Incidência estimada é de 1:70.000 - 38.000 transfusões, sendo o número de mortes de 1 por 1.000.000 unidades transfundida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Sua principal caus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rros de identificação do receptor ou das amostras coletadas para os testes pré-transfusiona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ítulo 1" descr=""/>
          <p:cNvPicPr/>
          <p:nvPr/>
        </p:nvPicPr>
        <p:blipFill>
          <a:blip r:embed="rId1"/>
          <a:stretch/>
        </p:blipFill>
        <p:spPr>
          <a:xfrm>
            <a:off x="285840" y="30240"/>
            <a:ext cx="7419960" cy="761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999720"/>
            <a:ext cx="72388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15280" indent="-2152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Quadro Clín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rave, dor no tórax, local da infusão, abdome e/ou flancos, hipotensão grave, febre, calafrios, hemoglobinúria, hemoglobinemia, ansiedade, inquietação e sensação de morte iminente. Pode evoluir com insuficiência renal aguda por necrose tubular aguda e coagulação intravascular disseminada (CIVD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chados laboratoriai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ntiglobulina direto (TAD) - Coombs direto - positivo; aumento da hemoglobina livre e, após algumas horas, elevação dos níveis de bilirrubina indireta e queda da hemoglobina/ hematócrito; aumento da desidrogenase láctica(DHL) e diminuição da haptoglobin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iagnóstico diferencial - contaminação bacteriana da bolsa, uma vez que o quadro clínico inicial de ambas é semelhante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rata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iurese de 100 mL/h por pelo menos 18 a 24 horas por meio da infusão de solução cristalóide, diuréticos s/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hipotensão  -  aminas vasoativ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IVD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Título 1"/>
          <p:cNvSpPr/>
          <p:nvPr/>
        </p:nvSpPr>
        <p:spPr>
          <a:xfrm>
            <a:off x="500040" y="28584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ítulo 1" descr=""/>
          <p:cNvPicPr/>
          <p:nvPr/>
        </p:nvPicPr>
        <p:blipFill>
          <a:blip r:embed="rId1"/>
          <a:stretch/>
        </p:blipFill>
        <p:spPr>
          <a:xfrm>
            <a:off x="285840" y="-365040"/>
            <a:ext cx="7419960" cy="11570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28760" y="999720"/>
            <a:ext cx="723888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fini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fine-se como RA o aparecimento de reação de hipersensibilidade –alergia(s) – em decorrência da transfusão de sangu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tiologi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c anti-IgE ou anti-IgG do receptor reage com alérgenos ou proteínas do sangu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c anti-IgA classe ou subclasse específico do receptor reagindo contra IgA da bolsa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gG ou IgE  do receptor reage contra formas de proteínas  alotipo do doado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3a e C5a presentes na bolsa ligam-se aos receptores dos mastócito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ransfusão de citoquinas, bradicininas, histamina ou outros mediadores biológicos produzidos durante a estocage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dutos alergênicos aos quais os receptores já estejam sensibilizados (penicilina ou aspirina; substâncias químicas como o óxido de etileno; aprotinina presente na cola de fibrina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ficiência de Ig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ncidênci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1 a 3%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5 a 6%  nas crianças recebendo transfusão de plaquetas</a:t>
            </a:r>
            <a:r>
              <a:rPr b="0" lang="pt-BR" sz="7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7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ítulo 1" descr=""/>
          <p:cNvPicPr/>
          <p:nvPr/>
        </p:nvPicPr>
        <p:blipFill>
          <a:blip r:embed="rId1"/>
          <a:stretch/>
        </p:blipFill>
        <p:spPr>
          <a:xfrm>
            <a:off x="285840" y="-433440"/>
            <a:ext cx="7419960" cy="1152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maioria das manifestações é dermatológica (cutânea) – caracterizada como eritema local, prurido, pápulas e 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rash. </a:t>
            </a:r>
            <a:r>
              <a:rPr b="0" i="1" lang="pt-BR" sz="1600" spc="-1" strike="noStrike">
                <a:solidFill>
                  <a:srgbClr val="e36406"/>
                </a:solidFill>
                <a:latin typeface="Trebuchet MS"/>
              </a:rPr>
              <a:t>Usualmente, essas manifestações </a:t>
            </a:r>
            <a:r>
              <a:rPr b="0" lang="pt-BR" sz="1600" spc="-1" strike="noStrike">
                <a:solidFill>
                  <a:srgbClr val="e36406"/>
                </a:solidFill>
                <a:latin typeface="Trebuchet MS"/>
              </a:rPr>
              <a:t>são afebri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erca de 10% das reações alérgicas apresentam sinais e sintomas pulmonares sem manifestação cutânea. As manifestações das vias áreas superiores envolvem tosse, edema de laringe, rouquidão, estridor e sensação de aperto na garganta; e as das vias inferiores envolvem sibilos, aperto torácico, dor subesternal, dispnéia, ansiedade e cianos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s manifestações gastrointestinais incluem náusea, vômitos, dor abdominal e diarréi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riptase sérica, enzima dos mastócitos, pode ser considerada como um marcador de anafilaxia, o seu encontro exclui TRALI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ítulo 1" descr=""/>
          <p:cNvPicPr/>
          <p:nvPr/>
        </p:nvPicPr>
        <p:blipFill>
          <a:blip r:embed="rId1"/>
          <a:stretch/>
        </p:blipFill>
        <p:spPr>
          <a:xfrm>
            <a:off x="285840" y="-365040"/>
            <a:ext cx="7419960" cy="1157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A reação alérgica pode ser classificada 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1. Reação alérgica: lesões pruriginosas e urticariformes na pele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2. Reação anafilactóide: lesões pruriginosas e urticariformes na pele combinadas com sintomas de hipotensão, dispnéia, estridor, sibilos pulmonares, diarréia e outros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3. Reação anafilática: evolução para hipotensão de difícil tratamento com perda de consciênci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Tratame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RA persistente - anti-histamínico – difenidramina na dose de 3 - 5mg/Kg/dia (50 - 100 mg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R Anafilática - epinefrina subcutânea 0,3 - 0,5 mg (0,3 - 0,5 mL da solução de 1:1000), repetida a cada 20 - 30 minutos por até 3 dose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Broncoespasmo - aminofilina 6 mg/Kg e, se os sintomas persistirem, hidrocortisona 500 mg endovenosa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ítulo 1" descr=""/>
          <p:cNvPicPr/>
          <p:nvPr/>
        </p:nvPicPr>
        <p:blipFill>
          <a:blip r:embed="rId1"/>
          <a:stretch/>
        </p:blipFill>
        <p:spPr>
          <a:xfrm>
            <a:off x="353880" y="-219240"/>
            <a:ext cx="7473960" cy="1152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lgumas condutas devem ser prontamente iniciadas para o atendimento das reações transfusionais imediatas, tais como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1. Interromper a transfusã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2. Manter acesso venoso com solução fisiológica 0,9%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3. Verificar, à beira de leito, se o hemocomponente foi corretamente administrado ao paciente destinad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4. Verificar sinais vitai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5. Comunicar o ocorrido ao </a:t>
            </a:r>
            <a:r>
              <a:rPr b="0" lang="pt-BR" sz="2000" spc="-1" strike="noStrike">
                <a:solidFill>
                  <a:srgbClr val="8a2e4e"/>
                </a:solidFill>
                <a:latin typeface="Trebuchet MS"/>
              </a:rPr>
              <a:t>R1 que sabe tudo de IT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6. Notificar a reação ao serviço de hemoterapia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7. Enviar as amostras do receptor, e se indicado, e seu equipo para a agência tx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8. Quando indicado, enviar amostras de sangue e/ou urina do receptor ao laboratóri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9. Registrar em prontuári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ítulo 1" descr=""/>
          <p:cNvPicPr/>
          <p:nvPr/>
        </p:nvPicPr>
        <p:blipFill>
          <a:blip r:embed="rId1"/>
          <a:stretch/>
        </p:blipFill>
        <p:spPr>
          <a:xfrm>
            <a:off x="3267000" y="530280"/>
            <a:ext cx="5462640" cy="28782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354480" y="518436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Aline monteiro /DMT/FP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Agosto/2009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ão agravos ocorridos durante ou após a transfusão sangüínea, e a ela relacionad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Podem ser complicações relacionadas com a contaminação bacteriana, reações hemolíticas agudas - especialmente as ocasionadas por incompatibilidade do sistema AB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Os incidentes transfusionais podem ser classificados em imediatos ou tardios, de acordo com o tempo decorrido entre a transfusão e a ocorrência do inciden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e36406"/>
                </a:solidFill>
                <a:latin typeface="Trebuchet MS"/>
              </a:rPr>
              <a:t>Incidente transfusional imediato</a:t>
            </a:r>
            <a:r>
              <a:rPr b="0" lang="pt-BR" sz="2600" spc="-1" strike="noStrike">
                <a:solidFill>
                  <a:srgbClr val="e36406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é aquele que ocorre durante a transfusão ou em até 24 hor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Incidente transfusional tardio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é aquele que ocorre após 24 horas da transfusão realizad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939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hemolítica agud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febril não hemolít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alérgica leve,moderada e gra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obrecarga volêm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ontaminação bacterian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Edema pulmonar não cardiogênico / TRAL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hipotensiv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emólise não imun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2480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hemolítica tard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BV / Hepatite B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CV / Hepatite C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IV / AID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Doença de Chaga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ífili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Malári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Dç do enxerto contra o hospedeiro / GVH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parecimento de anticorpos irregulares / isoimuniz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ítulo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71280" y="1503360"/>
            <a:ext cx="7561440" cy="1354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1533600" y="2867040"/>
            <a:ext cx="66103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ítulo 3" descr=""/>
          <p:cNvPicPr/>
          <p:nvPr/>
        </p:nvPicPr>
        <p:blipFill>
          <a:blip r:embed="rId1"/>
          <a:stretch/>
        </p:blipFill>
        <p:spPr>
          <a:xfrm>
            <a:off x="317520" y="420840"/>
            <a:ext cx="7759800" cy="65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3579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ítulo 1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7309080" cy="725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Definição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RFNH é definida como aumento da temperatura corporal acima de 1°C, durante ou após a transfusão de sangue, sem outra explicação. A RFNH é o efeito adverso mais comumente descrito na literatura. A reação é observada mais freqüentemente com a infusão de concentrado de plaquetas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Etiologias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Anticorpos anti-leucocitários presentes no paciente reagem com antígenos leucocitários (HLA) do doador, há formação do complexo antígeno-anticorpo, ligação do complemento e liberação de pirógenos endógenos;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Liberação de interleucinas, citoquinas pró-inflamatórias derivadas dos leucócitos, presentes nas bolsas de sangue;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Após desleucocitação, a presença de CD40L (CD154) derivado de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plaquetas ou a presença de outros mediadores solúveis, tais como fator de crescimento endotelial vascular ou de fatores de crescimento β-1, podem estar envolvidos na reação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Incidência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0,33% a 6%  tx CH não-desleucocitados e 0,11% a 0,5%  para os desleucocitad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1,7% - 38% tx CP não-desleucocitad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ítulo 1" descr=""/>
          <p:cNvPicPr/>
          <p:nvPr/>
        </p:nvPicPr>
        <p:blipFill>
          <a:blip r:embed="rId1"/>
          <a:stretch/>
        </p:blipFill>
        <p:spPr>
          <a:xfrm>
            <a:off x="285840" y="-433440"/>
            <a:ext cx="7419960" cy="1152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99972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rata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nterrupção da transfusão de sangue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nter acesso venoso com solução fisiológica isotônica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dministração de antitérmico: dose de acetaminofeno (500 mg) ou aspirina para hipertemia e para o alívio dos sintomas. Nos casos graves de calafrios persistentes,meperidina pode ser utilizada EV na dose de 25 a 50 m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filaxi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Habitualmente, a utilização de filtro de remoção de leucócitos está indicada após duas ou mais RFNHs, exceto quando a primeira reação for considerada grave. O filtro reduz o número de leucócitos para menos que 5x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Trebuchet MS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, minimizando e/ou eliminando a rea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CH, o filtro de bancada, remove leucócitos do doador antes da apoptose ou da necrose,e antes da liberação de citoquinas e dos produtos da desintegração pela baixa temperatura.Há poucas evidências sugerindo que essas reações possam ser prevenidas com a utilização de filtros de remoção de leucócitos à beira de lei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pacientes com repetidas reações com produtos desleucocitados, opta-se por prescrever concentrado de hemácias e plaquetas com tempo de estocagem menor (3 dias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2:13:24Z</dcterms:created>
  <dc:creator>Aline Monteiro</dc:creator>
  <dc:description/>
  <dc:language>en-US</dc:language>
  <cp:lastModifiedBy>Leandro</cp:lastModifiedBy>
  <dcterms:modified xsi:type="dcterms:W3CDTF">2009-09-18T17:21:59Z</dcterms:modified>
  <cp:revision>45</cp:revision>
  <dc:subject/>
  <dc:title>Reações Transfusionais</dc:title>
</cp:coreProperties>
</file>