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EC8-710F-4DEA-A2FE-C481C618B3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BEE-8FC2-4F8E-933F-D40A06716B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A09C-2E06-486A-BB85-54FB1C8805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90FB-A8B8-4C6E-87B8-6E02D5D1DD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FF4-76D5-4197-BE28-1AF4D2D9528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002-A8F6-4B91-B8F1-5DC8E865CD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CF9-7212-4353-8FA8-00554F191C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8D7B-FBF6-408D-875F-2F5C052816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9D4B-E2E7-4833-ADD6-6064EE04BE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82F1-5284-47DB-83FF-072873E840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33C-E89C-4719-8268-A2B6DDFD31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252-24CB-4C88-84E6-B64A141547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4953-AAEF-4146-BA48-D3EB860131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2882-277D-400D-89F4-6920DC4036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F05-B00C-4F53-91E5-F7780DD312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1617-9B7D-4CDF-84AE-70D46BE2011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4EE-D21D-4541-9275-0E718CA8AC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F22-F9CB-4652-B1A8-DC91D8D1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286-6D7A-4D76-8F95-3BE89FF6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9CC-CE66-4602-B35E-A3B598FE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16B-E1D8-40F7-A4E8-643DD65B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015D-0A2B-4357-B449-34900735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E1B-FFAE-412F-AA59-8FC5027C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03DF-14D6-4F72-BC78-E4F4705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3E06-59F8-4540-A67B-4FECFF47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CD40-DB8D-49B2-A594-10EE5C12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4255-D487-4761-804A-9A18BBB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2B88-0A94-4C10-9077-7DFDBD08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3A6-7E5F-4CCD-80E1-908B6F5E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326F-C680-4B4D-8D02-2C1CBE13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9E43-3A96-4F11-A1B5-B63215D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D20-2BDC-4757-A5CA-902AC8B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C88B-7079-4106-9C35-BFA8D91E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5680-B16D-4AD1-AEBD-871C673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33E1-88A6-4A53-B0AC-D7192E5E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61B9-1679-4725-8055-BE3F57D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2FB6-365D-48A2-B992-EBFF441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9E46-D833-4C06-B4D1-9EDF126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60DA-9184-4638-A29B-906C68E5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B70-879F-486E-B89E-20CC0D4F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E50F-84E7-42AF-8A85-4141B39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B677-2A03-48A0-9338-17B3BA0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799E-0E8E-4892-B531-E78F1E80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B557-C4AC-4060-B539-55AD13C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30B6-E5EC-4493-AAC4-7C08164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3B2F-2653-4B5A-BD41-EF064DD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C6B5-ABBB-4E06-BD3B-989141B6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6FB1-EB89-4D40-80B5-8FAB81EA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9B62-738C-413F-AD5A-1CE30022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B127-DB27-46AB-8429-6216B83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16D-3EE3-4833-9A0C-674D3E3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0ACE-D952-4A9D-B82C-6598937B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12DC8-BBA1-41DC-8F07-BE2B273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9CD5-30BE-4200-873A-DE74FB5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3427-768B-4C1F-AF07-0EF7B3DA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51D91-55F0-4559-B8EA-ADD7578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E540-B196-4396-959C-6D7128B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87BF-A1FF-4530-AD82-EA8B07D7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9EBE-5890-4B2D-BF36-1A4F8FE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B8D9-411E-4E9D-9B90-E8F0C62C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8D433-EDAD-4880-BBA5-0217F839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A71-CA1D-432E-9A84-C98E278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2D7A6-7BA1-4BC9-BED4-8BFC774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2F58-59E6-45DF-8444-09E811C2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397DE-EEF5-410D-B9B6-2EA1CB8F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15D5-AE84-4485-B74F-81479E7C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246F3-06D7-4880-8205-9AA6C50F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BA27-F715-472A-BBD4-0619BD4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12A5-C56C-4A36-BE74-821B15B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B4AE3-A15A-4042-8248-89808D2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C120-9D46-45ED-91A6-40E81B68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A197-4E88-49BF-A780-CEBFC868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3E9-BC81-4484-8CEF-D6F2CAB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9C5D-A58A-4FA0-A6CE-80BEB09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CAE-977A-432F-8C74-86089BF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60-B180-4664-AC41-02B87C2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62B-E9F3-435E-B579-3BA6525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0111-2F15-4E8B-9A08-CCA4511EDD7C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ângu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ângu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Conector reto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D92-D953-442D-94FD-915291D8EEA8}" type="slidenum">
              <a:rPr b="0" lang="pt-B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88C-847D-40A3-A774-A2ECC652B66A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tângu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9A3B-796E-460A-A9CD-35FECE7C89F2}" type="slidenum">
              <a:rPr b="0" lang="pt-BR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ângu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ângu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F14-293F-4B42-BD05-A4415D93EEE1}" type="slidenum">
              <a:rPr b="0" lang="pt-B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2276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ula para Residentes da Hematologia e Hemoterapia  HCFMUS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500040"/>
            <a:ext cx="723888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finição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Hemólise intravascular de hemácias incompatíve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xtremamente grave e de mau prognóstico, diretamente relacionada ao volume de hemácias infundido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tiologia e incidênc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nticorpos ativadores de complemento do plasma do receptor contra  antígeno eritrocitário presente nas hemácias do doado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Deve-se à incompatibilidade do Sistema ABO, porém, anti-Lea , anti-vel, anti-PP1Pk e anti-P1podem ocorrer 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Incidência estimada é de 1:70.000 - 38.000 transfusões, sendo o número de mortes de 1 por 1.000.000 unidades transfundida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Sua principal caus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Erros de identificação do receptor ou das amostras coletadas para os testes pré-transfusiona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ítulo 1" descr=""/>
          <p:cNvPicPr/>
          <p:nvPr/>
        </p:nvPicPr>
        <p:blipFill>
          <a:blip r:embed="rId1"/>
          <a:stretch/>
        </p:blipFill>
        <p:spPr>
          <a:xfrm>
            <a:off x="285840" y="30240"/>
            <a:ext cx="7419960" cy="7617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99972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Quadro Clín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Grave, dor no tórax, local da infusão, abdome e/ou flancos, hipotensão grave, febre, calafrios, hemoglobinúria, hemoglobinemia, ansiedade, inquietação e sensação de morte iminente. Pode evoluir com insuficiência renal aguda por necrose tubular aguda e coagulação intravascular disseminada (CIVD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hados laboratoriai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ntiglobulina direto (TAD) - Coombs direto - positivo; aumento da hemoglobina livre e, após algumas horas, elevação dos níveis de bilirrubina indireta e queda da hemoglobina/ hematócrito; aumento da desidrogenase láctica(DHL) e diminuição da haptoglobin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agnóstico diferencial - contaminação bacteriana da bolsa, uma vez que o quadro clínico inicial de ambas é semelhante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urese de 100 mL/h por pelo menos 18 a 24 horas por meio da infusão de solução cristalóide, diuréticos s/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ipotensão  -  aminas vasoativa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IV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15280" indent="-2152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ítulo 1"/>
          <p:cNvSpPr/>
          <p:nvPr/>
        </p:nvSpPr>
        <p:spPr>
          <a:xfrm>
            <a:off x="500040" y="28584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28760" y="999720"/>
            <a:ext cx="72388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içã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ne-se como RA o aparecimento de reação de hipersensibilidade –alergia(s) – em decorrência da transfusão de sangu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Etiologi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 anti-IgE ou anti-IgG do receptor reage com alérgenos ou proteínas do sangu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c anti-IgA classe ou subclasse específico do receptor reagindo contra IgA da bols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gG ou IgE  do receptor reage contra formas de proteínas  alotipo do doado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3a e C5a presentes na bolsa ligam-se aos receptores dos mastócito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nsfusão de citoquinas, bradicininas, histamina ou outros mediadores biológicos produzidos durante a estocage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dutos alergênicos aos quais os receptores já estejam sensibilizados (penicilina ou aspirina; substâncias químicas como o óxido de etileno; aprotinina presente na cola de fibrina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eficiência de Ig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cidênc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1 a 3%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5 a 6%  nas crianças recebendo transfusão de plaquetas</a:t>
            </a: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7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ítulo 1" descr=""/>
          <p:cNvPicPr/>
          <p:nvPr/>
        </p:nvPicPr>
        <p:blipFill>
          <a:blip r:embed="rId1"/>
          <a:stretch/>
        </p:blipFill>
        <p:spPr>
          <a:xfrm>
            <a:off x="285840" y="-43344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 maioria das manifestações é dermatológica (cutânea) – caracterizada como eritema local, prurido, pápulas e </a:t>
            </a:r>
            <a:r>
              <a:rPr b="0" i="1" lang="pt-BR" sz="1600" spc="-1" strike="noStrike">
                <a:solidFill>
                  <a:srgbClr val="000000"/>
                </a:solidFill>
                <a:latin typeface="Trebuchet MS"/>
              </a:rPr>
              <a:t>rash. </a:t>
            </a:r>
            <a:r>
              <a:rPr b="0" i="1" lang="pt-BR" sz="1600" spc="-1" strike="noStrike">
                <a:solidFill>
                  <a:srgbClr val="e36406"/>
                </a:solidFill>
                <a:latin typeface="Trebuchet MS"/>
              </a:rPr>
              <a:t>Usualmente, essas manifestações </a:t>
            </a:r>
            <a:r>
              <a:rPr b="0" lang="pt-BR" sz="1600" spc="-1" strike="noStrike">
                <a:solidFill>
                  <a:srgbClr val="e36406"/>
                </a:solidFill>
                <a:latin typeface="Trebuchet MS"/>
              </a:rPr>
              <a:t>são afebris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Cerca de 10% das reações alérgicas apresentam sinais e sintomas pulmonares sem manifestação cutânea. As manifestações das vias áreas superiores envolvem tosse, edema de laringe, rouquidão, estridor e sensação de aperto na garganta; e as das vias inferiores envolvem sibilos, aperto torácico, dor subesternal, dispnéia, ansiedade e cianos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s manifestações gastrointestinais incluem náusea, vômitos, dor abdominal e diarréia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iptase sérica, enzima dos mastócitos, pode ser considerada como um marcador de anafilaxia, o seu encontro exclui TRALI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ítulo 1" descr=""/>
          <p:cNvPicPr/>
          <p:nvPr/>
        </p:nvPicPr>
        <p:blipFill>
          <a:blip r:embed="rId1"/>
          <a:stretch/>
        </p:blipFill>
        <p:spPr>
          <a:xfrm>
            <a:off x="285840" y="-365040"/>
            <a:ext cx="7419960" cy="1157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A reação alérgica pode ser classificada 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1. Reação alérgica: lesões pruriginosas e urticariformes na pel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2. Reação anafilactóide: lesões pruriginosas e urticariformes na pele combinadas com sintomas de hipotensão, dispnéia, estridor, sibilos pulmonares, diarréia e outros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3. Reação anafilática: evolução para hipotensão de difícil tratamento com perda de consciênci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RA persistente - anti-histamínico – difenidramina na dose de 3 - 5mg/Kg/dia (50 - 100 mg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R Anafilática - epinefrina subcutânea 0,3 - 0,5 mg (0,3 - 0,5 mL da solução de 1:1000), repetida a cada 20 - 30 minutos por até 3 dos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Broncoespasmo - aminofilina 6 mg/Kg e, se os sintomas persistirem, hidrocortisona 500 mg endovenosa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ítulo 1" descr=""/>
          <p:cNvPicPr/>
          <p:nvPr/>
        </p:nvPicPr>
        <p:blipFill>
          <a:blip r:embed="rId1"/>
          <a:stretch/>
        </p:blipFill>
        <p:spPr>
          <a:xfrm>
            <a:off x="353880" y="-219240"/>
            <a:ext cx="747396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lgumas condutas devem ser prontamente iniciadas para o atendimento das reações transfusionais imediatas, tais como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1. Interromper a transfusã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2. Manter acesso venoso com solução fisiológica 0,9%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3. Verificar, à beira de leito, se o hemocomponente foi corretamente administrado ao paciente destinad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4. Verificar sinais vitai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5. Comunicar o ocorrido ao </a:t>
            </a:r>
            <a:r>
              <a:rPr b="0" lang="pt-BR" sz="2000" spc="-1" strike="noStrike">
                <a:solidFill>
                  <a:srgbClr val="8a2e4e"/>
                </a:solidFill>
                <a:latin typeface="Trebuchet MS"/>
              </a:rPr>
              <a:t>R1 que sabe tudo de IT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6. Notificar a reação ao serviço de hemoterapi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7. Enviar as amostras do receptor, e se indicado, e seu equipo para a agência tx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8. Quando indicado, enviar amostras de sangue e/ou urina do receptor ao laboratório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9. Registrar em prontuári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ítulo 1" descr=""/>
          <p:cNvPicPr/>
          <p:nvPr/>
        </p:nvPicPr>
        <p:blipFill>
          <a:blip r:embed="rId1"/>
          <a:stretch/>
        </p:blipFill>
        <p:spPr>
          <a:xfrm>
            <a:off x="3267000" y="530280"/>
            <a:ext cx="5462640" cy="28782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354480" y="518436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line monteiro /DMT/FP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rebuchet MS"/>
              </a:rPr>
              <a:t>Agosto/200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ão agravos ocorridos durante ou após a transfusão sangüínea, e a ela relacionad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odem ser complicações relacionadas com a contaminação bacteriana, reações hemolíticas agudas - especialmente as ocasionadas por incompatibilidade do sistema AB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ítu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s incidentes transfusionais podem ser classificados em imediatos ou tardios, de acordo com o tempo decorrido entre a transfusão e a ocorrência do incident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e36406"/>
                </a:solidFill>
                <a:latin typeface="Trebuchet MS"/>
              </a:rPr>
              <a:t>Incidente transfusional imediato</a:t>
            </a:r>
            <a:r>
              <a:rPr b="0" lang="pt-BR" sz="2600" spc="-1" strike="noStrike">
                <a:solidFill>
                  <a:srgbClr val="e36406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é aquele que ocorre durante a transfusão ou em até 24 hor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Incidente transfusional tardio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é aquele que ocorre após 24 horas da transfusão realizad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939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emolítica agud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febril não hemolít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alérgica leve,moderada e gra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obrecarga volêm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ontaminação bacterian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Edema pulmonar não cardiogênico / TRAL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ipotensiv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emólise não imun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ítu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2480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Reação hemolítica tard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BV / Hepatite B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CV / Hepatite C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IV / AID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oença de Chaga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ífili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Malári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Dç do enxerto contra o hospedeiro / GVH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parecimento de anticorpos irregulares / isoimuniz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ítulo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71280" y="1503360"/>
            <a:ext cx="7561440" cy="135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1533600" y="2867040"/>
            <a:ext cx="66103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ítulo 3" descr=""/>
          <p:cNvPicPr/>
          <p:nvPr/>
        </p:nvPicPr>
        <p:blipFill>
          <a:blip r:embed="rId1"/>
          <a:stretch/>
        </p:blipFill>
        <p:spPr>
          <a:xfrm>
            <a:off x="317520" y="420840"/>
            <a:ext cx="7759800" cy="65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63579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ítulo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7309080" cy="725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Definição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RFNH é definida como aumento da temperatura corporal acima de 1°C, durante ou após a transfusão de sangue, sem outra explicação. A RFNH é o efeito adverso mais comumente descrito na literatura. A reação é observada mais freqüentemente com a infusão de concentrado de plaquetas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Etiologias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Anticorpos anti-leucocitários presentes no paciente reagem com antígenos leucocitários (HLA) do doador, há formação do complexo antígeno-anticorpo, ligação do complemento e liberação de pirógenos endógenos;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Liberação de interleucinas, citoquinas pró-inflamatórias derivadas dos leucócitos, presentes nas bolsas de sangue;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Após desleucocitação, a presença de CD40L (CD154) derivado de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plaquetas ou a presença de outros mediadores solúveis, tais como fator de crescimento endotelial vascular ou de fatores de crescimento β-1, podem estar envolvidos na reação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Incidência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0,33% a 6%  tx CH não-desleucocitados e 0,11% a 0,5%  para os desleucocitad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Trebuchet MS"/>
              </a:rPr>
              <a:t>1,7% - 38% tx CP não-desleucocitad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ítulo 1" descr=""/>
          <p:cNvPicPr/>
          <p:nvPr/>
        </p:nvPicPr>
        <p:blipFill>
          <a:blip r:embed="rId1"/>
          <a:stretch/>
        </p:blipFill>
        <p:spPr>
          <a:xfrm>
            <a:off x="285840" y="-43344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99972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Trat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Interrupção da transfusão de sangue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Manter acesso venoso com solução fisiológica isotônica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Administração de antitérmico: dose de acetaminofeno (500 mg) ou aspirina para hipertemia e para o alívio dos sintomas. Nos casos graves de calafrios persistentes,meperidina pode ser utilizada EV na dose de 25 a 50 m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rofilaxi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Habitualmente, a utilização de filtro de remoção de leucócitos está indicada após duas ou mais RFNHs, exceto quando a primeira reação for considerada grave. O filtro reduz o número de leucócitos para menos que 5x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, minimizando e/ou eliminando a reaçã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CH, o filtro de bancada, remove leucócitos do doador antes da apoptose ou da necrose,e antes da liberação de citoquinas e dos produtos da desintegração pela baixa temperatura.Há poucas evidências sugerindo que essas reações possam ser prevenidas com a utilização de filtros de remoção de leucócitos à beira de lei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rebuchet MS"/>
              </a:rPr>
              <a:t>Para pacientes com repetidas reações com produtos desleucocitados, opta-se por prescrever concentrado de hemácias e plaquetas com tempo de estocagem menor (3 dias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22:13:24Z</dcterms:created>
  <dc:creator>Aline Monteiro</dc:creator>
  <dc:description/>
  <dc:language>en-US</dc:language>
  <cp:lastModifiedBy>Leandro</cp:lastModifiedBy>
  <dcterms:modified xsi:type="dcterms:W3CDTF">2009-09-18T17:21:59Z</dcterms:modified>
  <cp:revision>45</cp:revision>
  <dc:subject/>
  <dc:title>Reações Transfusionais</dc:title>
</cp:coreProperties>
</file>