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9BFA-74FC-4CCE-BCE9-69786299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1424-CE47-4CC1-94A3-64B63203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9600-2C7C-4500-8BB7-44FD7D45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B0E4-BF1E-4EAD-B35A-7C3E3A8E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C558-31EA-4F37-9A94-01240268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7448-B670-473E-A222-E50CC5EF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1546-8560-465D-B47F-BC19E293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09FE-B178-4716-940D-1F9CFE07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8D4E-5CB8-407D-ABA5-18814E77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D7A7-696E-40AF-AA1B-5D45B948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35BD-1A6D-4BBF-96C1-B62F62F6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5C29-B292-4F97-9D31-83EC0EC1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FAE6-D584-428D-A1A8-C4D65986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A6D0-6152-478B-A8CD-E86C7E7A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9F2C-ECD7-40FD-8CDF-79691EB9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8F77-906D-4A4A-B248-527F9DE3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6210-B8C3-4C29-A106-63087688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2C77-35F8-41AF-8B7B-88DE6CEE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12EC-CB5D-462E-9086-D10E455C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CE85-0E29-4F2D-9953-A5A60D01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1C05-A96F-47AB-93C8-FAC065C2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4542-5310-4CBB-B4D2-0592EE28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7E1C-E62C-4C05-A9FC-2EF65306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2C66-8B5A-437C-A59F-FD02AC24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885D-8A0E-43EF-AE9E-BD7D45777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0A4-2E3C-4964-A031-A006A1900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Suporte transfusio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788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ernanda Maria Sa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esio Vi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plicação termorregulató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poter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minui a atividade dos fatores de coagulação e a função plaque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minui metabolização do citrato e lact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menta afinidade de Hb-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rit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nfusão de 1U de CH a 4ºC diminui a temperatura corporal em 0.25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TORES DA COAGULAÇÃ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296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8008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hemo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 Coagulopatia dil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lucional: ↓10% dos fatores de coagulação para cada 500ml de Conc de hemácias transfu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troca de uma volemia pode-se ter ↑TP e TTPA com sang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quetopenia &lt; 50.000 com sangramento geralmente ocorre após troca de 2 volem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hemo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- CI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tores de risco: local e extensão do trauma, a duração do choque e hipot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corre em 5-30% dos tra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rtalidade de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↑ ↑ ↑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P e TTPA, ↓ ↓ ↓plaquetas e fibrinogênio, ↑ D-dí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metabó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 Toxicidade do citr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trato de sódio: anticoagulante da bolsa - ↑ concentração em plasma e plaqu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trato é metabolizado pelo fígado e eliminado pela ur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minuição da metabolização: hipotensão severa e prolongada, hipotermia, lesão hepática atual ou pregr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metabó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 Toxicidade do citr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to final do metabolismo: bicarbonato: alcalo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finidade de O2 pela H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função miocár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ela cálcio e magné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metabó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76080" indent="-259920"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 Toxicidade do citr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pocalcem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sodilataç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ora do sangramen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citabilidade neuromuscul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ritmias, prolongamento de Q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pomagnesem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t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rit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metabó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 Hipercal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. Acid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↓ 2,3 D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 impacto cl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as com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ól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â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unossupre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nsfusão Maciç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348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agulopatia do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são tecidual extensa ( principalmente S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ivação/ Consumo de fatores de coagulação e plaqu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brinól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pot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idose: pelo acúmulo de ácido l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liação labora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emog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agem ABO e Rh, P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P, TTPA, TT, Fibrinogêni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em alguns casos podem não estar alterados frente a coagulopatia clínica, visto que os teste são feitos a 37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oquímica (Ca iônico, K, Mg,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asome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uporte transfusiona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 Concentrado de hemá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ter oxigenação, volemia, hemost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or laboratorial inicial normal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luencia na decisão: velocidade da perda, reserva cardiorespiratória, doença ateroscleró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gue total x 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525600" y="2070000"/>
          <a:ext cx="8435880" cy="41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2070000"/>
                    <a:ext cx="843588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uporte transfusional- 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são imedi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perda &gt; 30-40% da vo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e trauma: bacia, tórax, pescoço, múltiplos fer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necessidade de &gt;2L de cristalóide para ressucitação volêmica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roles: FC, PA, DU, DC, P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x O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emergência: fornecer  1-2 CH O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/ O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quanto faz a tipagem ABO, Rh e P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homens e mulheres &gt; 45 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rianças, mulheres&lt;45 anos e anti D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catástrofes: oferecer sempre O, para evitar tro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PAI+: 0,04% - 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uporte transfusional- Plaqu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permitir&lt;50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-se prever a queda &lt; 50mil quando transfunde-se 2 vole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undir para manter plaquetas &gt; 100mil se trauma múltiplo ou lesão em S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uporte transfusional- PFC/C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brinogênio&lt;100mg/dL qdo há perda de 1,5 volem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nter INR &gt; 1,5 (AP &gt; 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VINIR É MELHOR QUE REMEDI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udos recentes mostram benefício de transfusão de PFC desde o início do suporte transfusional na coagulopatia do trau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as dro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lexo protrombín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há coagulopatia pré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VI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derar em perda&gt;300mL/h, sem efeito de heparina ou warfarina, não indicado controle cirúrgico, reposição adequada de Hemácia, plaquetas, PFC e c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0880" y="457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duta na transfusão maci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9907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990720"/>
            <a:ext cx="8229600" cy="67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cesso venoso calibroso/ Acesso cent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acesso calibroso infunde 1000mL/min de cristalóide e 500mL/min de 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Diluir hemácia em SF 0,9% (nunca em RL ou SG!) - em SAGM não prec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anter paciente aquecido e infundir cristalóides aquecidos a 40-42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quecer hemácia 37- 42ºC se infusão &gt; 50mL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Controlar temperatura, PA, pulso, FR e débito urinário (&gt;0,5mL/Kg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anter TP e TTPA &lt;1,5 o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anter fibrinogênio &gt;100mg/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Plaquetas &gt; 50 m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anter C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gt; 50% do valor de referencia (Ca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são maciç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são de uma volemia em 2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são de 50% da volemia em 3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são de 150m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rtalidade :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rurgias de grande porte, transplante hepático, HDA, obstétrica, tra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u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ÇÃO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co de s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e cirúr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IDADO COM IDENTIFICAÇÃ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No Perioperatór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4643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828800" y="1114560"/>
          <a:ext cx="5562720" cy="469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14560"/>
                    <a:ext cx="556272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200400" y="38088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6019920"/>
            <a:ext cx="4419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iente cirúr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imativa de transfusão para as diferentes cirur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dicação corr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stes pré transfus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.Eletivas: tipagem ABO e Rh, PAI, retipagem da bolsa, prova compat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29718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º pacientes transfund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5053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º cirurgias re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5053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648320"/>
            <a:ext cx="8001000" cy="13716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Times New Roman"/>
              </a:rPr>
              <a:t>IPT ≥ 10%: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preparo prévio do s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Times New Roman"/>
              </a:rPr>
              <a:t>IPT 1 - 10%: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somente tipagem sanguínea e P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Times New Roman"/>
              </a:rPr>
              <a:t>IPT &lt; 1%: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não necessita preparo pré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828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Índice de Pacientes Transfund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perioperató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stória clínica pessoal e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agulopatia congênita ou adquirida, falciforme, PTI, hepatopatia, nefropatia, doença cardioplumo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o de medica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ticoagul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ames laborator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MG, coagul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continuar medicamentos anticoagu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AS e clopidogrel: 7 dias; Warfarina: 72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dministrar drogas profil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tifibrinolítico: antes de cirurgias com alto risco de sang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PO: IRC, anemia DC, Je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itamina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uzir transfusão alogê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á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ole intra e pós operatório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da sanguínea: inspeção de campo cirúr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fusão e oxigenação: FC, PA, DU, SatO2, E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b/Ht : qdo perda exce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cessidade transfusional alogênica ou autó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á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l o valor de Hb pré operató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940: Adams e Lundy: 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A: 6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enso em Paris: 8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rbidades (doenças cardiopulmonares, vascular, urêmicos): 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á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un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pre que Hb&lt;6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necessário se Hb&gt;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re 6-10: ?? Comorbidades , ↑consumo O2, risco de sangramento, isqu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USÃO MACI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3284640"/>
            <a:ext cx="3406680" cy="21254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que por pe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ci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rom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284640"/>
            <a:ext cx="3556080" cy="20494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erfusão tec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a oxige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76680" y="4149720"/>
            <a:ext cx="1657440" cy="216000"/>
          </a:xfrm>
          <a:prstGeom prst="rightArrow">
            <a:avLst>
              <a:gd name="adj1" fmla="val 50000"/>
              <a:gd name="adj2" fmla="val 1918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dic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upos sanguíneos ra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venção de aloimun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ção severa pré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en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oques sanguín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visão de grande perda sangu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utotransfusão pré depósi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de que sangramento previsto&gt;5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lementar fe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valo de 7 dias até 72h antes da ciru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smos critérios de triagem para o doador alogê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b&gt;11 ou Ht&gt;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ta exata da ciru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IDADOS: troca de bolsa, infec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ó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co de contaminação - vírus emer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: coleta x infu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ção a do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ção bacteriana (triagem mais flexí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emodiluição normovolêmica agu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rurgias com grande perda sanguí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ngue total fre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indução anestés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 = volemia x (Hti – Htf) / Htmé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T final: 35-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letar em bolsa própria, Identificar com nome do paciente e do hospital, hora de coleta e número  sequ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TER NA SALA CIRÚRGICA! Temp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osição volêmica: cristalóide ou coló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infusão em ordem inversa em até 8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a-indicação: cardiopatia isquêmica, ICC, nefro ou hepatopatia, DPOC, coagulopatia, fe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peração intraoperató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cuperação e processamento do sangue em campo cirúrgico (cell sa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pre que haja grande perda (&gt;2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0% de economia nos estoques de s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rurgias cardíacas, vasculares, Tx hepático, politra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ngue é aspirado, anticoagulado, centrifugado, lavado e reinfu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a-indic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aminação bacteriana, fúngica e neoplá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íquido amnió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la de fib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mento óss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agulopa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ngramento microvascular excessivo: campo cirúrgico, compressas, drenos, sug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P, TTPA, TT, fibrinogênio, plaquetas, tromboelastogr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qu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mpre que &lt;50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aro se &gt;100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plaquetopa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re 50-100m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houver plaquetopa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pendendo do risco de sang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paço confinado: olho e S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sangramento excessivo com TP&gt;1,5 ou INR&gt;2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TTPA&gt;2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houve troca de mais de uma vol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versão de warfarina urgente (5-8ml/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usão maci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1628640"/>
            <a:ext cx="3809880" cy="1944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das de até 75% da ma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itrocitária pode ser tole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de que seja mantid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lem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4648320"/>
            <a:ext cx="4038480" cy="1944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das volêmicas com cerc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% s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requentemente fat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971800"/>
            <a:ext cx="3617640" cy="2114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lhos clí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is mostram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14800" y="2971800"/>
            <a:ext cx="74124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508640"/>
            <a:ext cx="58896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rioprecipi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fibriongênio&lt;100mg/dL em presença de sang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ciência congênita de fibrinogê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EMOTERAPIA R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3141720"/>
            <a:ext cx="280836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moterapia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ibui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3124080"/>
            <a:ext cx="2286000" cy="1828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vitar o u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devid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emo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64000" y="1197000"/>
            <a:ext cx="2017800" cy="1295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lhorar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o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5334120"/>
            <a:ext cx="2452680" cy="1261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ne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emocompo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2113200" cy="1376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efícios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pa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3933720"/>
            <a:ext cx="503280" cy="142920"/>
          </a:xfrm>
          <a:prstGeom prst="leftRightArrow">
            <a:avLst>
              <a:gd name="adj1" fmla="val 50000"/>
              <a:gd name="adj2" fmla="val 701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3933720"/>
            <a:ext cx="503280" cy="142920"/>
          </a:xfrm>
          <a:prstGeom prst="leftRightArrow">
            <a:avLst>
              <a:gd name="adj1" fmla="val 50000"/>
              <a:gd name="adj2" fmla="val 701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00720" y="4797360"/>
            <a:ext cx="144360" cy="433440"/>
          </a:xfrm>
          <a:prstGeom prst="upDownArrow">
            <a:avLst>
              <a:gd name="adj1" fmla="val 50000"/>
              <a:gd name="adj2" fmla="val 597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637000"/>
            <a:ext cx="144360" cy="43308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14200" y="1301760"/>
          <a:ext cx="8750520" cy="4556160"/>
        </p:xfrm>
        <a:graphic>
          <a:graphicData uri="http://schemas.openxmlformats.org/drawingml/2006/table">
            <a:tbl>
              <a:tblPr/>
              <a:tblGrid>
                <a:gridCol w="1819440"/>
                <a:gridCol w="1784160"/>
                <a:gridCol w="1778040"/>
                <a:gridCol w="1784520"/>
                <a:gridCol w="158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da-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é 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-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da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é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stól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↓↓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iastól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↓↓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é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-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ur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emid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ál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ál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cie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s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nol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u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 Box 108"/>
          <p:cNvSpPr/>
          <p:nvPr/>
        </p:nvSpPr>
        <p:spPr>
          <a:xfrm>
            <a:off x="468360" y="260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ificação do choque hipovolêmico - Comitê do Trauma da Sociedade Americana de Ciru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9"/>
          <p:cNvSpPr/>
          <p:nvPr/>
        </p:nvSpPr>
        <p:spPr>
          <a:xfrm>
            <a:off x="324000" y="609300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RRAGIA NO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são direta dos                 Sang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sos maci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ngramento                      coagulopatia 2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ar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494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ctr">
              <a:spcBef>
                <a:spcPts val="1001"/>
              </a:spcBef>
              <a:buClr>
                <a:srgbClr val="00007d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GOLDEN H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buClr>
                <a:srgbClr val="00007d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restabelecimento da vol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00007d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venção de F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4572000" y="213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4572000" y="4267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corre após a troca de 2 vole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licação termorregulat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licação hemost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licação meta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veridade e duração do choque contribuem para as complic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8:07:28Z</dcterms:created>
  <dc:creator>MICHELUTTI</dc:creator>
  <dc:description/>
  <dc:language>en-US</dc:language>
  <cp:lastModifiedBy>anesio</cp:lastModifiedBy>
  <cp:lastPrinted>2008-08-20T13:56:28Z</cp:lastPrinted>
  <dcterms:modified xsi:type="dcterms:W3CDTF">2009-09-24T15:10:07Z</dcterms:modified>
  <cp:revision>86</cp:revision>
  <dc:subject/>
  <dc:title>Suporte transfusional</dc:title>
</cp:coreProperties>
</file>