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E8D-4FF3-4665-AF08-61BECFF2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2006-436E-4F29-A9ED-CCBFF7B1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9EAF-4071-4D3C-9BC5-2F47D855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E9D1-B60E-4DEA-89C5-53137C0A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CBC-09A0-435A-9CDD-7D19B69A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A0E-C5F1-455E-A050-CEFCEC34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950-007A-446D-8608-3E280166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15B-701B-4BF1-A1BB-E30BDA35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95280" y="259920"/>
            <a:ext cx="676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BBF-165A-488D-91A9-CD60544E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412-0155-46A1-B812-BA03D8CC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189-28B9-4A2A-8946-E96F25D9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0F47-6899-40B2-819D-F7B5F5CC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4d7d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6c4d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6c4d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6c4d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0601-5E31-4153-973F-2BC9F775137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http://www.apm.org.br/publico_leigo/materias/image/Hemograma_plaqueta.jpg"/>
          <p:cNvPicPr/>
          <p:nvPr/>
        </p:nvPicPr>
        <p:blipFill>
          <a:blip r:embed="rId2"/>
          <a:stretch/>
        </p:blipFill>
        <p:spPr>
          <a:xfrm>
            <a:off x="0" y="0"/>
            <a:ext cx="1979640" cy="1484280"/>
          </a:xfrm>
          <a:prstGeom prst="rect">
            <a:avLst/>
          </a:prstGeom>
          <a:ln w="0">
            <a:noFill/>
          </a:ln>
        </p:spPr>
      </p:pic>
      <p:sp>
        <p:nvSpPr>
          <p:cNvPr id="6" name="Retângulo 9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913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icron.uerj.br/atlas/Sangue/Sangue2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PÚRPURA TROMBOCITOPÊNICA IMUNE NA CRIANÇ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98989"/>
                </a:solidFill>
                <a:latin typeface="Calibri"/>
              </a:rPr>
              <a:t>           </a:t>
            </a:r>
            <a:r>
              <a:rPr b="0" lang="pt-BR" sz="2400" spc="-1" strike="noStrike">
                <a:solidFill>
                  <a:srgbClr val="898989"/>
                </a:solidFill>
                <a:latin typeface="Calibri"/>
              </a:rPr>
              <a:t>Priscila Griz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98989"/>
                </a:solidFill>
                <a:latin typeface="Calibri"/>
              </a:rPr>
              <a:t>                          </a:t>
            </a:r>
            <a:r>
              <a:rPr b="0" lang="pt-BR" sz="2400" spc="-1" strike="noStrike">
                <a:solidFill>
                  <a:srgbClr val="898989"/>
                </a:solidFill>
                <a:latin typeface="Calibri"/>
              </a:rPr>
              <a:t>Hematologia Pediát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Diagnósticos Diferenciais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upus eritematoso sistêm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indrome do anticorpo anti fosfolip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munodeficiencia (hipogamaglobulinem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IV / Hepatite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rogas ( quinidina e quinin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eningococcemia - emergê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aixaDeTexto 3"/>
          <p:cNvSpPr/>
          <p:nvPr/>
        </p:nvSpPr>
        <p:spPr>
          <a:xfrm>
            <a:off x="0" y="6093000"/>
            <a:ext cx="89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rr Opin Hematol 2007 14:520-5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Diagnósticos Diferenciais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indrome Wiskott – Aldri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czema e imunodeficiencia + plaquetas peque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ernard Soul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laquetas giga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nemia de Fanco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nchas café com leite, baixa estatura, anormalidades esquelétic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aixaDeTexto 3"/>
          <p:cNvSpPr/>
          <p:nvPr/>
        </p:nvSpPr>
        <p:spPr>
          <a:xfrm>
            <a:off x="0" y="6093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rr Opin Hematol 2007 14:520-5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ormalidades esquelétic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queratose congen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Hipopigmentação reticulada, anormalidades ungueais, leucopla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oença de von Willebrand tipo II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Diagnósticos Diferenciais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82" name="CaixaDeTexto 3"/>
          <p:cNvSpPr/>
          <p:nvPr/>
        </p:nvSpPr>
        <p:spPr>
          <a:xfrm>
            <a:off x="0" y="6093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rr Opin Hematol 2007 14:520-5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Diagnósticos Diferenciais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oenças linfoproliferativ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nemia aplás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oenças auto imu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intomas atípicos: febre, infecções recorrentes, perda de peso, fadiga, dor oss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aixaDeTexto 3"/>
          <p:cNvSpPr/>
          <p:nvPr/>
        </p:nvSpPr>
        <p:spPr>
          <a:xfrm>
            <a:off x="0" y="60930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rr Opin Hematol 2007 14:520-5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Diagnóstico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namnese detalh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xcluir outras causas de plaquetope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tecedentes pessoais e familia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xame Fís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emog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fregaço de sangue perifér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0" y="6093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rr Opin Hematol 2007, 14:526-53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Quadro Clínico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téqu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quimoses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pistaxe &lt; 3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angramento mucoso &lt; 3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ematúria &lt; 1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elena &lt; 1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enorrag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plenomegalia 1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m 3" descr="alp2-petechiae.jpg"/>
          <p:cNvPicPr/>
          <p:nvPr/>
        </p:nvPicPr>
        <p:blipFill>
          <a:blip r:embed="rId1"/>
          <a:stretch/>
        </p:blipFill>
        <p:spPr>
          <a:xfrm>
            <a:off x="5003640" y="2349360"/>
            <a:ext cx="383868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Sangramento no SNC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cidencia:  0,2 – 1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quetas &lt; 10 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atores de ris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raum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edicações antiplaquetár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aixaDeTexto 4"/>
          <p:cNvSpPr/>
          <p:nvPr/>
        </p:nvSpPr>
        <p:spPr>
          <a:xfrm>
            <a:off x="0" y="6093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 Engl J Med 2003, 346(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Hemogram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ritrócitos norma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emia 15% das crianç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eucócitos norma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quetop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80% das crianças &lt; 20000 plaque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have esquerda 3"/>
          <p:cNvSpPr/>
          <p:nvPr/>
        </p:nvSpPr>
        <p:spPr>
          <a:xfrm>
            <a:off x="4284720" y="2349360"/>
            <a:ext cx="214200" cy="78588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785880"/>
              <a:gd name="textAreaBottom" fmla="*/ 78048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570560" y="206064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angr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4570200" y="292428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ciência de fer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58800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0" y="609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H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Esfregaço de sangue periférico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3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xcluir pseudoplaquetop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acroplaque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bservar morfologia da série vermelha e da série bran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www.micron.uerj.br/atlas/Sangue/Plaquetas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2060640"/>
            <a:ext cx="3888000" cy="2990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05" name="Text Box 9"/>
          <p:cNvSpPr/>
          <p:nvPr/>
        </p:nvSpPr>
        <p:spPr>
          <a:xfrm>
            <a:off x="0" y="609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H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Anticorpo Anti-Plaquetário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nsibilidade 49-66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pecificidade 78-9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Valor preditivo positivo 80-8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ão faz distinção entre agudo, crônico, primário, secundá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egativo não exclui a patolo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a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aixaDeTexto 3"/>
          <p:cNvSpPr/>
          <p:nvPr/>
        </p:nvSpPr>
        <p:spPr>
          <a:xfrm>
            <a:off x="214200" y="5805360"/>
            <a:ext cx="89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Arial"/>
              </a:rPr>
              <a:t>Curr Opin Hematol 2007 14:520-525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ixaDeTexto 6"/>
          <p:cNvSpPr/>
          <p:nvPr/>
        </p:nvSpPr>
        <p:spPr>
          <a:xfrm>
            <a:off x="0" y="60930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 Engl J Med, vol.346,No.13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ângulo 4"/>
          <p:cNvSpPr/>
          <p:nvPr/>
        </p:nvSpPr>
        <p:spPr>
          <a:xfrm>
            <a:off x="322200" y="273996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ordem autoimune caracterizada por trombocitopenia causada por destruição prematura plaquetária por ação do sistema retículo endotelial, especialmente no baç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0" y="6093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athan and Oski Hematology of infance and childhhod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Púrpura Trombocitopênica Imune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Mielogram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úvida ao diagnóst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intomas atíp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quetopenia persistente pós trata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aixaDeTexto 3"/>
          <p:cNvSpPr/>
          <p:nvPr/>
        </p:nvSpPr>
        <p:spPr>
          <a:xfrm>
            <a:off x="-1440" y="6093000"/>
            <a:ext cx="91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 Engl J Med, vol.346,No.13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Tratamento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British Guideline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Avalia a clín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Severidade do sangram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Associado a contagem plaquetá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9480" y="1628640"/>
            <a:ext cx="4038480" cy="4525920"/>
          </a:xfrm>
          <a:prstGeom prst="rect">
            <a:avLst/>
          </a:prstGeom>
          <a:solidFill>
            <a:srgbClr val="cc66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American Society of Hematology  19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Contagem plaquetá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&lt; 20 000 plaquetas + sangramento muco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&lt; 10 000 plaque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Corticoesteróides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umento da produção plaquetária mais rapidamente que o tratamento expect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ais barato e efe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ão altera a morbi- mortalid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ecanismo de açã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z a produção de anticorpos anti-plaquetár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z a destruição plaquetária pelo S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menta a produção plaquetá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tua na estabilidade vascu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Corticoesteróides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osage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ednisona VO 1-2mg/Kg/d por 21 d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ednisona VO 4mg/Kg/d por 4 a 7 d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etilprednisolona IV 30mg/Kg/d por 3 a 7 d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xametasona menos efetivo em crianç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5"/>
          <p:cNvGraphicFramePr/>
          <p:nvPr/>
        </p:nvGraphicFramePr>
        <p:xfrm>
          <a:off x="1332000" y="0"/>
          <a:ext cx="7632720" cy="640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0"/>
                    <a:ext cx="7632720" cy="64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Imunoglobulina intra venoso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umento da produção plaquetária mais rapidamente que o tratamento expectante e com 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ais ca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servado para emergência, sangramento severo e para pacientes que não responderam ao 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 </a:t>
            </a: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Imunoglobulina intra venoso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ecanismo de 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Bloqueia os receptores Fc dos macrofag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tiva vias inibitór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z a produção de auto anticorp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osagem da gamaglobulin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0,4g/Kg por 5 dias – pouco us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0,8 – 1g/Kg por 1 a 2 d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250-500mg/Kg por 2 dias – em estu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Gráfico 5"/>
          <p:cNvGraphicFramePr/>
          <p:nvPr/>
        </p:nvGraphicFramePr>
        <p:xfrm>
          <a:off x="971640" y="1989000"/>
          <a:ext cx="7561080" cy="40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Grá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89000"/>
                    <a:ext cx="756108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Efeitos colaterais da Gamaglobulin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Anti Rh (D)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munoglobulina contra o antigeno Rh dos eritróci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penas para pacientes Rh posi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iminuição da destruição plaquetá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enos efetiva que a IVI e 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usto al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osage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50 a 75 ug/ Kg IV dose ún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feitos colaterai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Hemólise ( decrescimo do Hb de 0,5-2g/d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Insuficiência re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IV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Orientações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vitar AAS, A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tividades físicas com risco de trau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vitar punções arteriais, procedimentos invasivos, extrações dentá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vitar aplicações 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Púrpura Trombocitopênica Imune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xclusão de outras causas de trombocitop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guda remissão até 6 me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rônica persiste por periodo &gt; que 6 me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azonal: inverno/primav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requentemente é precedida por infecção viral ou vacinaçã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Emergênci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uporte clín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fusão de plaque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etilpredinisolona 30mg/Kg/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amaglobulina 1g/Kg/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plenectomia - controve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PTI crônic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rombocitopenia persistente por mais de 6 me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20-30% cronifi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dolescentes, mulheres e adul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ssociação com outra doenças auto-imu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33% remissão dentro de meses ou a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0" y="53006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. Philip Steuber, MD 2009 upto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rr Opin Hematol 2007 14;526-5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ritish guideline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H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PTI crônic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ratar PTI aguda não reduz o risco de desenvolver cronicid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acientes &lt; 10 anos tem maior chance de remissão espontân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comum plaquetas &lt; 10 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erapia baseada em sintomas e menos na contagem plaquetá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0" y="5157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. Philip Steuber, MD 2009 upto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rr Opin Hematol 2007 14;526-5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ritish guideline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H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Investigação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namnese detalh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xame fís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emog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fregaço de sangue perifér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ielog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riagem para imunodeficiê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riagem para doenças auto-imu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unção tireoide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I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Tratamento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minuir episódios de sangramento e não a cura da doenç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angramentos signific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irurgia ou extração dentá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enorra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rticoesteró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vitar tratamentos prolong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munoglobuli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rianças resistentes a 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angramento sev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Indicações de esplenectomi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88000" y="1628640"/>
            <a:ext cx="4038480" cy="4525920"/>
          </a:xfrm>
          <a:prstGeom prst="rect">
            <a:avLst/>
          </a:prstGeom>
          <a:solidFill>
            <a:srgbClr val="cc66ff"/>
          </a:solidFill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American Society of Hemat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Trombocitopenia &gt; 1 ano + sangramento + plaquetas &lt;10 000 (3 a 12an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10 000- 30 000 plaquetas + sangramento + tratamento com CE ou imunoglobulina com sucesso apenas transitório + sem contra indicações cirurgic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Emergência - controver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520" y="1628640"/>
            <a:ext cx="4038480" cy="4525920"/>
          </a:xfrm>
          <a:prstGeom prst="rect">
            <a:avLst/>
          </a:prstGeom>
          <a:solidFill>
            <a:srgbClr val="4f81bd"/>
          </a:solidFill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British Guide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Sangramento gr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Trombocitopenia persistente  &gt; 1 ano + alteração qualidade de v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Esplenectomi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72% obtiveram remissão após esplenect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umento plaquetário dentro de 2 sem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ão definido indicações precisas e tempo id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isco operatório de sangra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fecções pós operatórias principalmente em &lt; 5 a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isco de morte 1: 1000 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Esplenectomi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filaxia pré operató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munização 2 semanas a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6c4d7d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H. influenzae B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6c4d7d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neumoco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6c4d7d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meningoco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E e/ou IV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quetas &gt; 50 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ós operató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enicilina profilática até 2 anos pós esplenectom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Falha pós Esplenectomi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zatiopr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munossupres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is efetiva, mais us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2-3mg/Kg/d por 6 me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de ser usada com prediniso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iclofosfam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sposta similar a azatiopr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C: mielossupressão, cistite hemorrágica, risco de neoplasia, alopécia, teratogenicida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PTI Refratári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anaz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feitos viriliza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dolescentes e mulhe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lcalóides da vinca (vincristina e vinblasti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ibe tubulina (interrompe divisão celul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sposta não estabelecida em crianç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c: neuropatia, alopécia, mielossupressão, segunda neopla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Púrpura Trombocitopênica Imune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Vacinação Hepatite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Vacinação MM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TI 1: 24000 d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ntro de 6 meses da vacin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orologias para sarampo, caxumba e rubéo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6c4d7d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e não houver imunidade realizar a segunda d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6c4d7d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ubeola risco de 1: 3000 de desenvolver P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PTI Refratári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terferon alf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ecanismo incer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C: neutropenia, doenças autoimu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iclospor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tente imunossupressor, inibe linfocito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c: HAS, insuficiencia renal e hepatica, linf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Tratamentos alternativos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ituxim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ticorpo monoclonal anti- CD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ratamento da PTI primária e secundá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ose 375mg/m2/semana 4 d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C: febre, cefaléia, hipotens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30% de remiss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lchic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cido ascórb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smafére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aps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55948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-757080" y="6021360"/>
            <a:ext cx="99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rr Opin Hematol 2007 14;526-5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Púrpura Trombocitopênica Imune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enig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uto limit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riança previamente híg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om estado g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téquias, equimoses, gengivorragia, epistax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usência de outros sintomas sistêm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aixaDeTexto 3"/>
          <p:cNvSpPr/>
          <p:nvPr/>
        </p:nvSpPr>
        <p:spPr>
          <a:xfrm>
            <a:off x="7286760" y="592920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ixaDeTexto 4"/>
          <p:cNvSpPr/>
          <p:nvPr/>
        </p:nvSpPr>
        <p:spPr>
          <a:xfrm>
            <a:off x="0" y="6093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Hematologia para o pediatra 2007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Epidemiologi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aixa etária acometida: 6 meses a 6 a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cidência 1:10000 crianças por 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miss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3"/>
          <p:cNvSpPr/>
          <p:nvPr/>
        </p:nvSpPr>
        <p:spPr>
          <a:xfrm>
            <a:off x="0" y="609300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Gráfico 4"/>
          <p:cNvGraphicFramePr/>
          <p:nvPr/>
        </p:nvGraphicFramePr>
        <p:xfrm>
          <a:off x="2050920" y="2990880"/>
          <a:ext cx="4846680" cy="333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Grá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990880"/>
                    <a:ext cx="484668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Adultos X Crianças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71640" y="1989000"/>
          <a:ext cx="6912000" cy="3916440"/>
        </p:xfrm>
        <a:graphic>
          <a:graphicData uri="http://schemas.openxmlformats.org/drawingml/2006/table">
            <a:tbl>
              <a:tblPr/>
              <a:tblGrid>
                <a:gridCol w="2151000"/>
                <a:gridCol w="2241360"/>
                <a:gridCol w="2519640"/>
              </a:tblGrid>
              <a:tr h="78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ianç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17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17b3"/>
                    </a:solidFill>
                  </a:tcPr>
                </a:tc>
              </a:tr>
              <a:tr h="7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397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inino 2: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icio da doenç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397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up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io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tor desencade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397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ecção/vaci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onic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1397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5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 Box 36"/>
          <p:cNvSpPr/>
          <p:nvPr/>
        </p:nvSpPr>
        <p:spPr>
          <a:xfrm>
            <a:off x="0" y="6093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Hematologia pediátrica 1ª. ed.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Patogênese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uto-anticorpos que interagem com as glicoproteinas da membrana das plaquetas e dos megacarióci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PIIb-IIIa é a princip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PIb-IX-V e GPIa-IIa: mais ra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nticorpos  IgG, IgA e Ig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atores que desencadeiam produção dos auto anticorpos são desconhec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aixaDeTexto 3"/>
          <p:cNvSpPr/>
          <p:nvPr/>
        </p:nvSpPr>
        <p:spPr>
          <a:xfrm>
            <a:off x="0" y="609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than and Oski Hematology of infance and childhhod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Patogênese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476360" y="1565280"/>
            <a:ext cx="6453360" cy="4672080"/>
          </a:xfrm>
          <a:prstGeom prst="rect">
            <a:avLst/>
          </a:prstGeom>
          <a:ln w="0">
            <a:noFill/>
          </a:ln>
        </p:spPr>
      </p:pic>
      <p:sp>
        <p:nvSpPr>
          <p:cNvPr id="69" name="CaixaDeTexto 4"/>
          <p:cNvSpPr/>
          <p:nvPr/>
        </p:nvSpPr>
        <p:spPr>
          <a:xfrm>
            <a:off x="0" y="6165720"/>
            <a:ext cx="916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 Engl J Med, vol.346,No.13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050920" y="1335240"/>
            <a:ext cx="216072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laquetas aderidas a autoanticor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ixaDeTexto 26"/>
          <p:cNvSpPr/>
          <p:nvPr/>
        </p:nvSpPr>
        <p:spPr>
          <a:xfrm>
            <a:off x="7236000" y="1916280"/>
            <a:ext cx="172872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Internalizam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degradam plaqu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ixaDeTexto 29"/>
          <p:cNvSpPr/>
          <p:nvPr/>
        </p:nvSpPr>
        <p:spPr>
          <a:xfrm>
            <a:off x="179280" y="3573360"/>
            <a:ext cx="142884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Amplificam respo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imune in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32"/>
          <p:cNvSpPr/>
          <p:nvPr/>
        </p:nvSpPr>
        <p:spPr>
          <a:xfrm>
            <a:off x="7164360" y="4508640"/>
            <a:ext cx="180036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Gera epitopos de outras GP plaqueta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8:31:30Z</dcterms:created>
  <dc:creator>decio</dc:creator>
  <dc:description/>
  <dc:language>en-US</dc:language>
  <cp:lastModifiedBy>decio</cp:lastModifiedBy>
  <dcterms:modified xsi:type="dcterms:W3CDTF">2009-04-28T23:37:04Z</dcterms:modified>
  <cp:revision>142</cp:revision>
  <dc:subject/>
  <dc:title>Purpura trombocitopênica imune na criança</dc:title>
</cp:coreProperties>
</file>