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0C30-C8E9-4867-A2D3-071506E41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7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c4d7d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FB74-6BBF-4C78-917B-95FEAEA0D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7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c4d7d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C1D6-788A-4DEA-862C-C2A91A67F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7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c4d7d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D48B-CBAF-4AF9-969E-4A25B1F8B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7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c4d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DE21-D032-469A-A07A-C604F8892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7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c4d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35A4-DA06-40F2-A598-CB63F8B35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7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c4d7d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62E8-4A29-4A4F-965F-457173B57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7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c4d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E7C7-DFEB-467C-A06D-4BC3B66DE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195280" y="259920"/>
            <a:ext cx="676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198F-12A9-48B6-8E72-1E62E7D90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7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c4d7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1284-3A57-4863-833C-FC1C6971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7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c4d7d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92D9-8BBA-404F-8DF4-607BB58B3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7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c4d7d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919E-4D2E-4D6E-81C2-599EAEC8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769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c4d7d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6c4d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6c4d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just">
              <a:spcBef>
                <a:spcPts val="601"/>
              </a:spcBef>
              <a:buClr>
                <a:srgbClr val="6c4d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just">
              <a:spcBef>
                <a:spcPts val="601"/>
              </a:spcBef>
              <a:buClr>
                <a:srgbClr val="6c4d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just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just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99A2F-B9F3-4509-B378-CF51E1A88978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2" descr="http://www.apm.org.br/publico_leigo/materias/image/Hemograma_plaqueta.jpg"/>
          <p:cNvPicPr/>
          <p:nvPr/>
        </p:nvPicPr>
        <p:blipFill>
          <a:blip r:embed="rId2"/>
          <a:stretch/>
        </p:blipFill>
        <p:spPr>
          <a:xfrm>
            <a:off x="0" y="0"/>
            <a:ext cx="1979640" cy="1484280"/>
          </a:xfrm>
          <a:prstGeom prst="rect">
            <a:avLst/>
          </a:prstGeom>
          <a:ln w="0">
            <a:noFill/>
          </a:ln>
        </p:spPr>
      </p:pic>
      <p:sp>
        <p:nvSpPr>
          <p:cNvPr id="6" name="Retângulo 9"/>
          <p:cNvSpPr/>
          <p:nvPr/>
        </p:nvSpPr>
        <p:spPr>
          <a:xfrm>
            <a:off x="0" y="6500880"/>
            <a:ext cx="9144000" cy="357120"/>
          </a:xfrm>
          <a:prstGeom prst="rect">
            <a:avLst/>
          </a:prstGeom>
          <a:solidFill>
            <a:srgbClr val="9139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micron.uerj.br/atlas/Sangue/Sangue2.htm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6c4d7d"/>
                </a:solidFill>
                <a:latin typeface="Calibri"/>
              </a:rPr>
              <a:t>PÚRPURA TROMBOCITOPÊNICA IMUNE NA CRIANÇA</a:t>
            </a:r>
            <a:endParaRPr b="1" lang="en-US" sz="3200" spc="-1" strike="noStrike">
              <a:solidFill>
                <a:srgbClr val="6c4d7d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898989"/>
                </a:solidFill>
                <a:latin typeface="Calibri"/>
              </a:rPr>
              <a:t>           </a:t>
            </a:r>
            <a:r>
              <a:rPr b="0" lang="pt-BR" sz="2400" spc="-1" strike="noStrike">
                <a:solidFill>
                  <a:srgbClr val="898989"/>
                </a:solidFill>
                <a:latin typeface="Calibri"/>
              </a:rPr>
              <a:t>Priscila Griza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898989"/>
                </a:solidFill>
                <a:latin typeface="Calibri"/>
              </a:rPr>
              <a:t>                          </a:t>
            </a:r>
            <a:r>
              <a:rPr b="0" lang="pt-BR" sz="2400" spc="-1" strike="noStrike">
                <a:solidFill>
                  <a:srgbClr val="898989"/>
                </a:solidFill>
                <a:latin typeface="Calibri"/>
              </a:rPr>
              <a:t>Hematologia Pediátr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769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6c4d7d"/>
                </a:solidFill>
                <a:latin typeface="Calibri"/>
              </a:rPr>
              <a:t>Diagnósticos Diferenciais</a:t>
            </a:r>
            <a:endParaRPr b="1" lang="en-US" sz="3200" spc="-1" strike="noStrike">
              <a:solidFill>
                <a:srgbClr val="6c4d7d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Lupus eritematoso sistêmi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Sindrome do anticorpo anti fosfolip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Imunodeficiencia (hipogamaglobulinemi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HIV / Hepatite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rogas ( quinidina e quinino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Meningococcemia - emergênc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CaixaDeTexto 3"/>
          <p:cNvSpPr/>
          <p:nvPr/>
        </p:nvSpPr>
        <p:spPr>
          <a:xfrm>
            <a:off x="0" y="6093000"/>
            <a:ext cx="896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Curr Opin Hematol 2007 14:520-5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769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6c4d7d"/>
                </a:solidFill>
                <a:latin typeface="Calibri"/>
              </a:rPr>
              <a:t>Diagnósticos Diferenciais</a:t>
            </a:r>
            <a:endParaRPr b="1" lang="en-US" sz="3200" spc="-1" strike="noStrike">
              <a:solidFill>
                <a:srgbClr val="6c4d7d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Sindrome Wiskott – Aldri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Eczema e imunodeficiencia + plaquetas pequen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Bernard Souli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Plaquetas gigan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nemia de Fancon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Manchas café com leite, baixa estatura, anormalidades esquelétic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CaixaDeTexto 3"/>
          <p:cNvSpPr/>
          <p:nvPr/>
        </p:nvSpPr>
        <p:spPr>
          <a:xfrm>
            <a:off x="0" y="6093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Curr Opin Hematol 2007 14:520-5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T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normalidades esquelétic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isqueratose congeni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Hipopigmentação reticulada, anormalidades ungueais, leucoplas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oença de von Willebrand tipo II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769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6c4d7d"/>
                </a:solidFill>
                <a:latin typeface="Calibri"/>
              </a:rPr>
              <a:t>Diagnósticos Diferenciais</a:t>
            </a:r>
            <a:endParaRPr b="1" lang="en-US" sz="3200" spc="-1" strike="noStrike">
              <a:solidFill>
                <a:srgbClr val="6c4d7d"/>
              </a:solidFill>
              <a:latin typeface="Calibri"/>
            </a:endParaRPr>
          </a:p>
        </p:txBody>
      </p:sp>
      <p:sp>
        <p:nvSpPr>
          <p:cNvPr id="82" name="CaixaDeTexto 3"/>
          <p:cNvSpPr/>
          <p:nvPr/>
        </p:nvSpPr>
        <p:spPr>
          <a:xfrm>
            <a:off x="0" y="6093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Curr Opin Hematol 2007 14:520-5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769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6c4d7d"/>
                </a:solidFill>
                <a:latin typeface="Calibri"/>
              </a:rPr>
              <a:t>Diagnósticos Diferenciais</a:t>
            </a:r>
            <a:endParaRPr b="1" lang="en-US" sz="3200" spc="-1" strike="noStrike">
              <a:solidFill>
                <a:srgbClr val="6c4d7d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oenças linfoproliferativ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nemia aplás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oenças auto imu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sintomas atípicos: febre, infecções recorrentes, perda de peso, fadiga, dor osse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CaixaDeTexto 3"/>
          <p:cNvSpPr/>
          <p:nvPr/>
        </p:nvSpPr>
        <p:spPr>
          <a:xfrm>
            <a:off x="0" y="609300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Curr Opin Hematol 2007 14:520-5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769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6c4d7d"/>
                </a:solidFill>
                <a:latin typeface="Calibri"/>
              </a:rPr>
              <a:t>Diagnóstico</a:t>
            </a:r>
            <a:endParaRPr b="1" lang="en-US" sz="3200" spc="-1" strike="noStrike">
              <a:solidFill>
                <a:srgbClr val="6c4d7d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namnese detalha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Excluir outras causas de plaquetopen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ntecedentes pessoais e familia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Exame Físi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Hemogra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Esfregaço de sangue periféri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0" y="6093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urr Opin Hematol 2007, 14:526-534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769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6c4d7d"/>
                </a:solidFill>
                <a:latin typeface="Calibri"/>
              </a:rPr>
              <a:t>Quadro Clínico</a:t>
            </a:r>
            <a:endParaRPr b="1" lang="en-US" sz="3200" spc="-1" strike="noStrike">
              <a:solidFill>
                <a:srgbClr val="6c4d7d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etéqui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Equimoses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Epistaxe &lt; 30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Sangramento mucoso &lt; 30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Hematúria &lt; 10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Melena &lt; 10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Menorragi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Esplenomegalia 10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Imagem 3" descr="alp2-petechiae.jpg"/>
          <p:cNvPicPr/>
          <p:nvPr/>
        </p:nvPicPr>
        <p:blipFill>
          <a:blip r:embed="rId1"/>
          <a:stretch/>
        </p:blipFill>
        <p:spPr>
          <a:xfrm>
            <a:off x="5003640" y="2349360"/>
            <a:ext cx="383868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769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6c4d7d"/>
                </a:solidFill>
                <a:latin typeface="Calibri"/>
              </a:rPr>
              <a:t>Sangramento no SNC</a:t>
            </a:r>
            <a:endParaRPr b="1" lang="en-US" sz="3200" spc="-1" strike="noStrike">
              <a:solidFill>
                <a:srgbClr val="6c4d7d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Incidencia:  0,2 – 1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laquetas &lt; 10 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Fatores de ris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Traum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Medicações antiplaquetári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CaixaDeTexto 4"/>
          <p:cNvSpPr/>
          <p:nvPr/>
        </p:nvSpPr>
        <p:spPr>
          <a:xfrm>
            <a:off x="0" y="6093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N Engl J Med 2003, 346(1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769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6c4d7d"/>
                </a:solidFill>
                <a:latin typeface="Calibri"/>
              </a:rPr>
              <a:t>Hemograma</a:t>
            </a:r>
            <a:endParaRPr b="1" lang="en-US" sz="3200" spc="-1" strike="noStrike">
              <a:solidFill>
                <a:srgbClr val="6c4d7d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Eritrócitos norma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nemia 15% das crianç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Leucócitos norma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laquetopen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80% das crianças &lt; 20000 plaquet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Chave esquerda 3"/>
          <p:cNvSpPr/>
          <p:nvPr/>
        </p:nvSpPr>
        <p:spPr>
          <a:xfrm>
            <a:off x="4284720" y="2349360"/>
            <a:ext cx="214200" cy="785880"/>
          </a:xfrm>
          <a:custGeom>
            <a:avLst/>
            <a:gdLst>
              <a:gd name="textAreaLeft" fmla="*/ 136800 w 214200"/>
              <a:gd name="textAreaRight" fmla="*/ 214560 w 214200"/>
              <a:gd name="textAreaTop" fmla="*/ 5400 h 785880"/>
              <a:gd name="textAreaBottom" fmla="*/ 780480 h 785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6"/>
                  <a:pt x="10800" y="491"/>
                </a:cubicBezTo>
                <a:lnTo>
                  <a:pt x="10800" y="10309"/>
                </a:lnTo>
                <a:cubicBezTo>
                  <a:pt x="10800" y="10555"/>
                  <a:pt x="5400" y="10800"/>
                  <a:pt x="0" y="10800"/>
                </a:cubicBezTo>
                <a:cubicBezTo>
                  <a:pt x="5400" y="10800"/>
                  <a:pt x="10800" y="11046"/>
                  <a:pt x="10800" y="11291"/>
                </a:cubicBezTo>
                <a:lnTo>
                  <a:pt x="10800" y="21109"/>
                </a:lnTo>
                <a:cubicBezTo>
                  <a:pt x="10800" y="2135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4570560" y="2060640"/>
            <a:ext cx="166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angr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9"/>
          <p:cNvSpPr/>
          <p:nvPr/>
        </p:nvSpPr>
        <p:spPr>
          <a:xfrm>
            <a:off x="4570200" y="2924280"/>
            <a:ext cx="240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ficiência de ferr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6588000" y="6093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0" y="6093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H 19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769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6c4d7d"/>
                </a:solidFill>
                <a:latin typeface="Calibri"/>
              </a:rPr>
              <a:t>Esfregaço de sangue periférico</a:t>
            </a:r>
            <a:endParaRPr b="1" lang="en-US" sz="3200" spc="-1" strike="noStrike">
              <a:solidFill>
                <a:srgbClr val="6c4d7d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4390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Excluir pseudoplaquetopen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Macroplaquet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Observar morfologia da série vermelha e da série bran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http://www.micron.uerj.br/atlas/Sangue/Plaquetas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3640" y="2060640"/>
            <a:ext cx="3888000" cy="29908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105" name="Text Box 9"/>
          <p:cNvSpPr/>
          <p:nvPr/>
        </p:nvSpPr>
        <p:spPr>
          <a:xfrm>
            <a:off x="0" y="6093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H 19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769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6c4d7d"/>
                </a:solidFill>
                <a:latin typeface="Calibri"/>
              </a:rPr>
              <a:t>Anticorpo Anti-Plaquetário</a:t>
            </a:r>
            <a:endParaRPr b="1" lang="en-US" sz="3200" spc="-1" strike="noStrike">
              <a:solidFill>
                <a:srgbClr val="6c4d7d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Sensibilidade 49-66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Especificidade 78-92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Valor preditivo positivo 80-83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Não faz distinção entre agudo, crônico, primário, secundár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Negativo não exclui a patolog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Ca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CaixaDeTexto 3"/>
          <p:cNvSpPr/>
          <p:nvPr/>
        </p:nvSpPr>
        <p:spPr>
          <a:xfrm>
            <a:off x="214200" y="5805360"/>
            <a:ext cx="892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  <a:ea typeface="Arial"/>
              </a:rPr>
              <a:t>Curr Opin Hematol 2007 14:520-525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CaixaDeTexto 6"/>
          <p:cNvSpPr/>
          <p:nvPr/>
        </p:nvSpPr>
        <p:spPr>
          <a:xfrm>
            <a:off x="0" y="609300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N Engl J Med, vol.346,No.13 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tângulo 4"/>
          <p:cNvSpPr/>
          <p:nvPr/>
        </p:nvSpPr>
        <p:spPr>
          <a:xfrm>
            <a:off x="322200" y="273996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sordem autoimune caracterizada por trombocitopenia causada por destruição prematura plaquetária por ação do sistema retículo endotelial, especialmente no baç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0" y="6093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Nathan and Oski Hematology of infance and childhhod 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769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6c4d7d"/>
                </a:solidFill>
                <a:latin typeface="Calibri"/>
              </a:rPr>
              <a:t>Púrpura Trombocitopênica Imune</a:t>
            </a:r>
            <a:endParaRPr b="1" lang="en-US" sz="3200" spc="-1" strike="noStrike">
              <a:solidFill>
                <a:srgbClr val="6c4d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769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6c4d7d"/>
                </a:solidFill>
                <a:latin typeface="Calibri"/>
              </a:rPr>
              <a:t>Mielograma</a:t>
            </a:r>
            <a:endParaRPr b="1" lang="en-US" sz="3200" spc="-1" strike="noStrike">
              <a:solidFill>
                <a:srgbClr val="6c4d7d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úvida ao diagnósti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Sintomas atípic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laquetopenia persistente pós tratamen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CaixaDeTexto 3"/>
          <p:cNvSpPr/>
          <p:nvPr/>
        </p:nvSpPr>
        <p:spPr>
          <a:xfrm>
            <a:off x="-1440" y="6093000"/>
            <a:ext cx="914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N Engl J Med, vol.346,No.13 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769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6c4d7d"/>
                </a:solidFill>
                <a:latin typeface="Calibri"/>
              </a:rPr>
              <a:t>Tratamento</a:t>
            </a:r>
            <a:endParaRPr b="1" lang="en-US" sz="3200" spc="-1" strike="noStrike">
              <a:solidFill>
                <a:srgbClr val="6c4d7d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solidFill>
            <a:srgbClr val="4f81bd"/>
          </a:solidFill>
          <a:ln w="9360">
            <a:solidFill>
              <a:srgbClr val="003366"/>
            </a:solidFill>
            <a:miter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British Guideline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200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Avalia a clín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Severidade do sangramen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Associado a contagem plaquetá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59480" y="1628640"/>
            <a:ext cx="4038480" cy="4525920"/>
          </a:xfrm>
          <a:prstGeom prst="rect">
            <a:avLst/>
          </a:prstGeom>
          <a:solidFill>
            <a:srgbClr val="cc66ff"/>
          </a:solidFill>
          <a:ln w="9360">
            <a:solidFill>
              <a:srgbClr val="003366"/>
            </a:solidFill>
            <a:miter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American Society of Hematology  199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Contagem plaquetá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&lt; 20 000 plaquetas + sangramento mucos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&lt; 10 000 plaquet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769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6c4d7d"/>
                </a:solidFill>
                <a:latin typeface="Calibri"/>
              </a:rPr>
              <a:t>Corticoesteróides</a:t>
            </a:r>
            <a:endParaRPr b="1" lang="en-US" sz="3200" spc="-1" strike="noStrike">
              <a:solidFill>
                <a:srgbClr val="6c4d7d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umento da produção plaquetária mais rapidamente que o tratamento expecta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Mais barato e efetiv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Não altera a morbi- mortalid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Mecanismo de açã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Reduz a produção de anticorpos anti-plaquetári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Reduz a destruição plaquetária pelo S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umenta a produção plaquetá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tua na estabilidade vascul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769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6c4d7d"/>
                </a:solidFill>
                <a:latin typeface="Calibri"/>
              </a:rPr>
              <a:t>Corticoesteróides</a:t>
            </a:r>
            <a:endParaRPr b="1" lang="en-US" sz="3200" spc="-1" strike="noStrike">
              <a:solidFill>
                <a:srgbClr val="6c4d7d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osagem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Prednisona VO 1-2mg/Kg/d por 21 di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Prednisona VO 4mg/Kg/d por 4 a 7 di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Metilprednisolona IV 30mg/Kg/d por 3 a 7 di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Dexametasona menos efetivo em crianç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Object 5"/>
          <p:cNvGraphicFramePr/>
          <p:nvPr/>
        </p:nvGraphicFramePr>
        <p:xfrm>
          <a:off x="1332000" y="0"/>
          <a:ext cx="7632720" cy="640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0"/>
                    <a:ext cx="7632720" cy="640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769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6c4d7d"/>
                </a:solidFill>
                <a:latin typeface="Calibri"/>
              </a:rPr>
              <a:t>Imunoglobulina intra venoso</a:t>
            </a:r>
            <a:endParaRPr b="1" lang="en-US" sz="3200" spc="-1" strike="noStrike">
              <a:solidFill>
                <a:srgbClr val="6c4d7d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umento da produção plaquetária mais rapidamente que o tratamento expectante e com 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Mais ca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Reservado para emergência, sangramento severo e para pacientes que não responderam ao 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769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6c4d7d"/>
                </a:solidFill>
                <a:latin typeface="Calibri"/>
              </a:rPr>
              <a:t> </a:t>
            </a:r>
            <a:r>
              <a:rPr b="1" lang="pt-BR" sz="3200" spc="-1" strike="noStrike">
                <a:solidFill>
                  <a:srgbClr val="6c4d7d"/>
                </a:solidFill>
                <a:latin typeface="Calibri"/>
              </a:rPr>
              <a:t>Imunoglobulina intra venoso</a:t>
            </a:r>
            <a:endParaRPr b="1" lang="en-US" sz="3200" spc="-1" strike="noStrike">
              <a:solidFill>
                <a:srgbClr val="6c4d7d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Mecanismo de 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Bloqueia os receptores Fc dos macrofag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tiva vias inibitóri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Reduz a produção de auto anticorp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osagem da gamaglobulin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0,4g/Kg por 5 dias – pouco us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0,8 – 1g/Kg por 1 a 2 di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250-500mg/Kg por 2 dias – em estu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Gráfico 5"/>
          <p:cNvGraphicFramePr/>
          <p:nvPr/>
        </p:nvGraphicFramePr>
        <p:xfrm>
          <a:off x="971640" y="1989000"/>
          <a:ext cx="7561080" cy="4033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Gráfico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989000"/>
                    <a:ext cx="7561080" cy="40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769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6c4d7d"/>
                </a:solidFill>
                <a:latin typeface="Calibri"/>
              </a:rPr>
              <a:t>Efeitos colaterais da Gamaglobulina</a:t>
            </a:r>
            <a:endParaRPr b="1" lang="en-US" sz="3200" spc="-1" strike="noStrike">
              <a:solidFill>
                <a:srgbClr val="6c4d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769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6c4d7d"/>
                </a:solidFill>
                <a:latin typeface="Calibri"/>
              </a:rPr>
              <a:t>Anti Rh (D)</a:t>
            </a:r>
            <a:endParaRPr b="1" lang="en-US" sz="3200" spc="-1" strike="noStrike">
              <a:solidFill>
                <a:srgbClr val="6c4d7d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Imunoglobulina contra o antigeno Rh dos eritrócit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penas para pacientes Rh positiv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Diminuição da destruição plaquetá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Menos efetiva que a IVI e 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Custo al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Dosagem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6c4d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50 a 75 ug/ Kg IV dose ún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Efeitos colaterai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6c4d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Hemólise ( decrescimo do Hb de 0,5-2g/dl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6c4d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Insuficiência re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6c4d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CIV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769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6c4d7d"/>
                </a:solidFill>
                <a:latin typeface="Calibri"/>
              </a:rPr>
              <a:t>Orientações</a:t>
            </a:r>
            <a:endParaRPr b="1" lang="en-US" sz="3200" spc="-1" strike="noStrike">
              <a:solidFill>
                <a:srgbClr val="6c4d7d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Evitar AAS, A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tividades físicas com risco de trau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Evitar punções arteriais, procedimentos invasivos, extrações dentári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Evitar aplicações I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769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6c4d7d"/>
                </a:solidFill>
                <a:latin typeface="Calibri"/>
              </a:rPr>
              <a:t>Púrpura Trombocitopênica Imune</a:t>
            </a:r>
            <a:endParaRPr b="1" lang="en-US" sz="3200" spc="-1" strike="noStrike">
              <a:solidFill>
                <a:srgbClr val="6c4d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Exclusão de outras causas de trombocitopen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guda remissão até 6 me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Crônica persiste por periodo &gt; que 6 me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Sazonal: inverno/primave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Frequentemente é precedida por infecção viral ou vacinaçã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769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6c4d7d"/>
                </a:solidFill>
                <a:latin typeface="Calibri"/>
              </a:rPr>
              <a:t>Emergência</a:t>
            </a:r>
            <a:endParaRPr b="1" lang="en-US" sz="3200" spc="-1" strike="noStrike">
              <a:solidFill>
                <a:srgbClr val="6c4d7d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Suporte clíni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Infusão de plaquet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Metilpredinisolona 30mg/Kg/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Gamaglobulina 1g/Kg/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Esplenectomia - controvers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769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6c4d7d"/>
                </a:solidFill>
                <a:latin typeface="Calibri"/>
              </a:rPr>
              <a:t>PTI crônica</a:t>
            </a:r>
            <a:endParaRPr b="1" lang="en-US" sz="3200" spc="-1" strike="noStrike">
              <a:solidFill>
                <a:srgbClr val="6c4d7d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Trombocitopenia persistente por mais de 6 me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20-30% cronific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dolescentes, mulheres e adult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ssociação com outra doenças auto-imu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33% remissão dentro de meses ou an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0" y="530064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. Philip Steuber, MD 2009 upto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urr Opin Hematol 2007 14;526-5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ritish guideline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H 19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769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6c4d7d"/>
                </a:solidFill>
                <a:latin typeface="Calibri"/>
              </a:rPr>
              <a:t>PTI crônica</a:t>
            </a:r>
            <a:endParaRPr b="1" lang="en-US" sz="3200" spc="-1" strike="noStrike">
              <a:solidFill>
                <a:srgbClr val="6c4d7d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Tratar PTI aguda não reduz o risco de desenvolver cronicid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acientes &lt; 10 anos tem maior chance de remissão espontâne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Incomum plaquetas &lt; 10 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Terapia baseada em sintomas e menos na contagem plaquetá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0" y="51577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. Philip Steuber, MD 2009 upto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urr Opin Hematol 2007 14;526-5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ritish guideline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H 19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769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6c4d7d"/>
                </a:solidFill>
                <a:latin typeface="Calibri"/>
              </a:rPr>
              <a:t>Investigação</a:t>
            </a:r>
            <a:endParaRPr b="1" lang="en-US" sz="3200" spc="-1" strike="noStrike">
              <a:solidFill>
                <a:srgbClr val="6c4d7d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namnese detalha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Exame físi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Hemogra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Esfregaço de sangue periféri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Mielogra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Triagem para imunodeficiênc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Triagem para doenças auto-imu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Função tireoidea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HI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769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6c4d7d"/>
                </a:solidFill>
                <a:latin typeface="Calibri"/>
              </a:rPr>
              <a:t>Tratamento</a:t>
            </a:r>
            <a:endParaRPr b="1" lang="en-US" sz="3200" spc="-1" strike="noStrike">
              <a:solidFill>
                <a:srgbClr val="6c4d7d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iminuir episódios de sangramento e não a cura da doenç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Sangramentos significan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Cirurgia ou extração dentáre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Menorrag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Corticoesterói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6c4d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Evitar tratamentos prolonga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Imunoglobulin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6c4d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Crianças resistentes a 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6c4d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Sangramento seve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769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6c4d7d"/>
                </a:solidFill>
                <a:latin typeface="Calibri"/>
              </a:rPr>
              <a:t>Indicações de esplenectomia</a:t>
            </a:r>
            <a:endParaRPr b="1" lang="en-US" sz="3200" spc="-1" strike="noStrike">
              <a:solidFill>
                <a:srgbClr val="6c4d7d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788000" y="1628640"/>
            <a:ext cx="4038480" cy="4525920"/>
          </a:xfrm>
          <a:prstGeom prst="rect">
            <a:avLst/>
          </a:prstGeom>
          <a:solidFill>
            <a:srgbClr val="cc66ff"/>
          </a:solidFill>
          <a:ln w="9360">
            <a:solidFill>
              <a:srgbClr val="1f497d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American Society of Hematolo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199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Trombocitopenia &gt; 1 ano + sangramento + plaquetas &lt;10 000 (3 a 12ano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10 000- 30 000 plaquetas + sangramento + tratamento com CE ou imunoglobulina com sucesso apenas transitório + sem contra indicações cirurgic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Emergência - controvers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33520" y="1628640"/>
            <a:ext cx="4038480" cy="4525920"/>
          </a:xfrm>
          <a:prstGeom prst="rect">
            <a:avLst/>
          </a:prstGeom>
          <a:solidFill>
            <a:srgbClr val="4f81bd"/>
          </a:solidFill>
          <a:ln w="9360">
            <a:solidFill>
              <a:srgbClr val="1f497d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British Guideli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200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Sangramento gra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Trombocitopenia persistente  &gt; 1 ano + alteração qualidade de vi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769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6c4d7d"/>
                </a:solidFill>
                <a:latin typeface="Calibri"/>
              </a:rPr>
              <a:t>Esplenectomia</a:t>
            </a:r>
            <a:endParaRPr b="1" lang="en-US" sz="3200" spc="-1" strike="noStrike">
              <a:solidFill>
                <a:srgbClr val="6c4d7d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72% obtiveram remissão após esplenectom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umento plaquetário dentro de 2 seman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Não definido indicações precisas e tempo ide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Risco operatório de sangramen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Infecções pós operatórias principalmente em &lt; 5 an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Risco de morte 1: 1000 a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769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6c4d7d"/>
                </a:solidFill>
                <a:latin typeface="Calibri"/>
              </a:rPr>
              <a:t>Esplenectomia</a:t>
            </a:r>
            <a:endParaRPr b="1" lang="en-US" sz="3200" spc="-1" strike="noStrike">
              <a:solidFill>
                <a:srgbClr val="6c4d7d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ofilaxia pré operató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Imunização 2 semanas an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6c4d7d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H. influenzae B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6c4d7d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Pneumococ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6c4d7d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meningococ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CE e/ou IV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laquetas &gt; 50 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ós operatór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Penicilina profilática até 2 anos pós esplenectom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769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6c4d7d"/>
                </a:solidFill>
                <a:latin typeface="Calibri"/>
              </a:rPr>
              <a:t>Falha pós Esplenectomia</a:t>
            </a:r>
            <a:endParaRPr b="1" lang="en-US" sz="3200" spc="-1" strike="noStrike">
              <a:solidFill>
                <a:srgbClr val="6c4d7d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zatiopri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Imunossupress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Mais efetiva, mais usa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2-3mg/Kg/d por 6 me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Pode ser usada com prediniso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Ciclofosfami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Resposta similar a azatiopri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EC: mielossupressão, cistite hemorrágica, risco de neoplasia, alopécia, teratogenicida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769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6c4d7d"/>
                </a:solidFill>
                <a:latin typeface="Calibri"/>
              </a:rPr>
              <a:t>PTI Refratária</a:t>
            </a:r>
            <a:endParaRPr b="1" lang="en-US" sz="3200" spc="-1" strike="noStrike">
              <a:solidFill>
                <a:srgbClr val="6c4d7d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anaz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Efeitos virilizan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dolescentes e mulhe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lcalóides da vinca (vincristina e vinblastin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Inibe tubulina (interrompe divisão celula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Resposta não estabelecida em crianç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Ec: neuropatia, alopécia, mielossupressão, segunda neoplas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769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6c4d7d"/>
                </a:solidFill>
                <a:latin typeface="Calibri"/>
              </a:rPr>
              <a:t>Púrpura Trombocitopênica Imune</a:t>
            </a:r>
            <a:endParaRPr b="1" lang="en-US" sz="3200" spc="-1" strike="noStrike">
              <a:solidFill>
                <a:srgbClr val="6c4d7d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Vacinação Hepatite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Vacinação MM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PTI 1: 24000 do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Dentro de 6 meses da vacinaçã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Sorologias para sarampo, caxumba e rubéol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6c4d7d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Se não houver imunidade realizar a segunda do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6c4d7d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Rubeola risco de 1: 3000 de desenvolver PT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 algn="just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 algn="just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 algn="just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 algn="just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769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6c4d7d"/>
                </a:solidFill>
                <a:latin typeface="Calibri"/>
              </a:rPr>
              <a:t>PTI Refratária</a:t>
            </a:r>
            <a:endParaRPr b="1" lang="en-US" sz="3200" spc="-1" strike="noStrike">
              <a:solidFill>
                <a:srgbClr val="6c4d7d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Interferon alf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Mecanismo incer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EC: neutropenia, doenças autoimu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Ciclospori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Potente imunossupressor, inibe linfocito 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Ec: HAS, insuficiencia renal e hepatica, linfom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769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6c4d7d"/>
                </a:solidFill>
                <a:latin typeface="Calibri"/>
              </a:rPr>
              <a:t>Tratamentos alternativos</a:t>
            </a:r>
            <a:endParaRPr b="1" lang="en-US" sz="3200" spc="-1" strike="noStrike">
              <a:solidFill>
                <a:srgbClr val="6c4d7d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Rituxima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nticorpo monoclonal anti- CD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Tratamento da PTI primária e secundá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Dose 375mg/m2/semana 4 do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EC: febre, cefaléia, hipotensã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6c4d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30% de remissã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Colchici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cido ascórbi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lasmaféres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apso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5559480" y="6113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-757080" y="6021360"/>
            <a:ext cx="99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urr Opin Hematol 2007 14;526-5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769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6c4d7d"/>
                </a:solidFill>
                <a:latin typeface="Calibri"/>
              </a:rPr>
              <a:t>Púrpura Trombocitopênica Imune</a:t>
            </a:r>
            <a:endParaRPr b="1" lang="en-US" sz="3200" spc="-1" strike="noStrike">
              <a:solidFill>
                <a:srgbClr val="6c4d7d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Benig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uto limita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Criança previamente hígi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Bom estado ge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etéquias, equimoses, gengivorragia, epistax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usência de outros sintomas sistêmic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CaixaDeTexto 3"/>
          <p:cNvSpPr/>
          <p:nvPr/>
        </p:nvSpPr>
        <p:spPr>
          <a:xfrm>
            <a:off x="7286760" y="5929200"/>
            <a:ext cx="3571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aixaDeTexto 4"/>
          <p:cNvSpPr/>
          <p:nvPr/>
        </p:nvSpPr>
        <p:spPr>
          <a:xfrm>
            <a:off x="0" y="6093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Hematologia para o pediatra 2007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769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6c4d7d"/>
                </a:solidFill>
                <a:latin typeface="Calibri"/>
              </a:rPr>
              <a:t>Epidemiologia</a:t>
            </a:r>
            <a:endParaRPr b="1" lang="en-US" sz="3200" spc="-1" strike="noStrike">
              <a:solidFill>
                <a:srgbClr val="6c4d7d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Faixa etária acometida: 6 meses a 6 an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Incidência 1:10000 crianças por a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Remiss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CaixaDeTexto 3"/>
          <p:cNvSpPr/>
          <p:nvPr/>
        </p:nvSpPr>
        <p:spPr>
          <a:xfrm>
            <a:off x="0" y="6093000"/>
            <a:ext cx="9144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Gráfico 4"/>
          <p:cNvGraphicFramePr/>
          <p:nvPr/>
        </p:nvGraphicFramePr>
        <p:xfrm>
          <a:off x="2050920" y="2990880"/>
          <a:ext cx="4846680" cy="3332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Gráfico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2990880"/>
                    <a:ext cx="4846680" cy="33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769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6c4d7d"/>
                </a:solidFill>
                <a:latin typeface="Calibri"/>
              </a:rPr>
              <a:t>Adultos X Crianças</a:t>
            </a:r>
            <a:endParaRPr b="1" lang="en-US" sz="3200" spc="-1" strike="noStrike">
              <a:solidFill>
                <a:srgbClr val="6c4d7d"/>
              </a:solidFill>
              <a:latin typeface="Calibri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971640" y="1989000"/>
          <a:ext cx="6912000" cy="3916440"/>
        </p:xfrm>
        <a:graphic>
          <a:graphicData uri="http://schemas.openxmlformats.org/drawingml/2006/table">
            <a:tbl>
              <a:tblPr/>
              <a:tblGrid>
                <a:gridCol w="2151000"/>
                <a:gridCol w="2241360"/>
                <a:gridCol w="2519640"/>
              </a:tblGrid>
              <a:tr h="78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rianç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17b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dul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17b3"/>
                    </a:solidFill>
                  </a:tcPr>
                </a:tc>
              </a:tr>
              <a:tr h="784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ex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1397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g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minino 2: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icio da doenç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1397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rup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idios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4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ator desencadean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1397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ecção/vacin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om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ronicid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1397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2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gt;5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Text Box 36"/>
          <p:cNvSpPr/>
          <p:nvPr/>
        </p:nvSpPr>
        <p:spPr>
          <a:xfrm>
            <a:off x="0" y="6093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Hematologia pediátrica 1ª. ed.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769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6c4d7d"/>
                </a:solidFill>
                <a:latin typeface="Calibri"/>
              </a:rPr>
              <a:t>Patogênese</a:t>
            </a:r>
            <a:endParaRPr b="1" lang="en-US" sz="3200" spc="-1" strike="noStrike">
              <a:solidFill>
                <a:srgbClr val="6c4d7d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uto-anticorpos que interagem com as glicoproteinas da membrana das plaquetas e dos megacariócit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GPIIb-IIIa é a princip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GPIb-IX-V e GPIa-IIa: mais ra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nticorpos  IgG, IgA e Ig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6c4d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Fatores que desencadeiam produção dos auto anticorpos são desconhecid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CaixaDeTexto 3"/>
          <p:cNvSpPr/>
          <p:nvPr/>
        </p:nvSpPr>
        <p:spPr>
          <a:xfrm>
            <a:off x="0" y="6093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athan and Oski Hematology of infance and childhhod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769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6c4d7d"/>
                </a:solidFill>
                <a:latin typeface="Calibri"/>
              </a:rPr>
              <a:t>Patogênese</a:t>
            </a:r>
            <a:endParaRPr b="1" lang="en-US" sz="3200" spc="-1" strike="noStrike">
              <a:solidFill>
                <a:srgbClr val="6c4d7d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1476360" y="1565280"/>
            <a:ext cx="6453360" cy="4672080"/>
          </a:xfrm>
          <a:prstGeom prst="rect">
            <a:avLst/>
          </a:prstGeom>
          <a:ln w="0">
            <a:noFill/>
          </a:ln>
        </p:spPr>
      </p:pic>
      <p:sp>
        <p:nvSpPr>
          <p:cNvPr id="69" name="CaixaDeTexto 4"/>
          <p:cNvSpPr/>
          <p:nvPr/>
        </p:nvSpPr>
        <p:spPr>
          <a:xfrm>
            <a:off x="0" y="6165720"/>
            <a:ext cx="916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N Engl J Med, vol.346,No.13 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2050920" y="1335240"/>
            <a:ext cx="2160720" cy="580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laquetas aderidas a autoanticorp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CaixaDeTexto 26"/>
          <p:cNvSpPr/>
          <p:nvPr/>
        </p:nvSpPr>
        <p:spPr>
          <a:xfrm>
            <a:off x="7236000" y="1916280"/>
            <a:ext cx="1728720" cy="824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Internalizam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degradam plaque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CaixaDeTexto 29"/>
          <p:cNvSpPr/>
          <p:nvPr/>
        </p:nvSpPr>
        <p:spPr>
          <a:xfrm>
            <a:off x="179280" y="3573360"/>
            <a:ext cx="1428840" cy="824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Amplificam respos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imune in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CaixaDeTexto 32"/>
          <p:cNvSpPr/>
          <p:nvPr/>
        </p:nvSpPr>
        <p:spPr>
          <a:xfrm>
            <a:off x="7164360" y="4508640"/>
            <a:ext cx="1800360" cy="824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Gera epitopos de outras GP plaquetar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3T18:31:30Z</dcterms:created>
  <dc:creator>decio</dc:creator>
  <dc:description/>
  <dc:language>en-US</dc:language>
  <cp:lastModifiedBy>decio</cp:lastModifiedBy>
  <dcterms:modified xsi:type="dcterms:W3CDTF">2009-04-28T23:37:04Z</dcterms:modified>
  <cp:revision>142</cp:revision>
  <dc:subject/>
  <dc:title>Purpura trombocitopênica imune na criança</dc:title>
</cp:coreProperties>
</file>