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2.png" ContentType="image/png"/>
  <Override PartName="/ppt/media/image28.png" ContentType="image/png"/>
  <Override PartName="/ppt/media/image29.jpeg" ContentType="image/jpeg"/>
  <Override PartName="/ppt/media/image30.png" ContentType="image/png"/>
  <Override PartName="/ppt/media/image5.png" ContentType="image/png"/>
  <Override PartName="/ppt/media/image35.png" ContentType="image/png"/>
  <Override PartName="/ppt/media/image8.jpeg" ContentType="image/jpeg"/>
  <Override PartName="/ppt/media/image38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13.png" ContentType="image/png"/>
  <Override PartName="/ppt/media/image32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0.png" ContentType="image/png"/>
  <Override PartName="/ppt/media/image4.jpeg" ContentType="image/jpeg"/>
  <Override PartName="/ppt/media/image19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1BA5-3061-489E-9CAF-A63C98737A5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76DA-9882-441E-BF33-9D74539FC51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49C7-A3AB-4F0B-9856-73ADA49E82D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FD54-CAB0-4B7F-BF03-39DA1FE1EF7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10D4-51FA-4376-8C61-88555E18F55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39FF-6110-410F-9E6E-029F3824F08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1063-40EF-495B-810E-026444F367B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BB83-F783-4D4C-A466-E16AB479623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6633-1035-4284-8B5B-6E950352E82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9B2E-A58C-46D2-918D-DAC0513C704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71CE-2E50-4A04-BE7E-CC58263B989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E4C0-EF6A-4794-B45D-8EAFE638679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5C77-DA0B-4CA9-A1F0-A56652279FB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59A7-2964-48C6-B449-229BC21299D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C5DC-00B1-4BC5-A6E9-C525679CEDE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ificação varia conforme a resposta à exposição de fatores (resposta anamnéstica). Os inibidores de alta resposta são aqueles em que o título sobe acima de 5 UB quando o paciente é exposto ao fator. Os pacientes com baixa resposta sempre mantêm título &lt; 5UB, mesmo quando expostos ao fator deficien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ibidores transitórios (não representados): inibidores de baixo titulo que desaparecem em pcts que nao recebem regularmente FVIII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41D0-5589-47D2-BE5C-7B7260C646B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029B-C833-4E5C-9551-17BB542EA4F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CA52-C27D-4A43-AE60-F31654EEE92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4931-E038-4B17-ACB2-C3B9470805A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0870-CD1A-4FD9-AEBB-B722EC2DFA2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8A5F-E5A6-4002-AEFA-1F3067588F4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713A-2096-4F79-A27E-2049B8AC946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AD96-1D78-4B71-A3BB-2AFC39F6EC6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4981-05A5-409F-94A6-434ACAF8D74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46A1-DD2D-44A3-B272-A777C67BC09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07CD-B7DF-4554-9DF1-638E9DB341F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6AA0-2974-4D66-B540-0DA468A4C7A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13C4-6254-423A-AAAE-256EDE0F31A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BA6D-83FF-4066-BE61-EC0BE164625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1BF2-EEEA-47CE-98DB-F0E5A800493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5CFF-4517-4A2C-88DB-6CB85F12458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EA3CB-F3DA-42E2-BFCF-1BA8C8A3AF7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E3F9-7480-4068-B7E1-EFF3E41EC53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C3077-F379-4998-8768-ECB5C559B93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416F-4D3F-4633-A1AB-5B3D1E45D71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B91E-DD23-4CEC-A360-1F9BD419816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8864-9292-42C5-845D-83F989432C5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A742-AF91-4F4A-862E-862DE4D89A5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2196-FFE1-43FC-8FA5-0ED8B2DB0EC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21F4-8103-4BCF-8B23-509F92C3C96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257E-543C-441E-A247-8BA06AEB512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9416-2184-4A38-A6EF-264FE58BCB1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DBCF-B478-46BA-B079-9995CD55702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5AAE-DE0F-46C5-BEFE-3E5739465CB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1C08-5A6F-4582-A526-FF80B58E8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0B33-C6E3-40A8-A0AA-CADB2579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8A66-AB9A-4550-B69B-0EAD91E30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2DE4-9228-4CB3-9F04-5978E4AE1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4B345-78B2-4DB5-9AC3-44F67788F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EA41-65E1-4C52-BEDC-F77AD7FD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2D36A-1327-4021-8238-71314D5E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7C8C-25D7-45FA-8564-9CA6467B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704E-5773-4190-84F4-F983BA10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3481-D475-4F57-9E99-7B2DE0E1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2BD8-3961-4289-B4B9-72CD9537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99FA-86A2-4511-AE67-BE6E2EB7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D887-1D66-4A1E-966F-11D8F031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9A48-796E-45B5-B492-1A23C0F7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76A0-FD33-40C7-BB26-0405D092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DC07-4C21-448D-918A-A3C26E63D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2909-0F65-4B89-BB2F-46D865B1B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65CE6-1A17-4AEE-8C63-6A4C4740E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DBB6A-226D-4DD8-8B27-99B50600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F95E5-96DA-4BE1-A59E-81BB6C9F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24625-F179-4C68-8A54-8C3BCB35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4E886-F2C2-48F0-8E48-4FF8BF9E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453E-3CF1-4D38-A238-EC502D72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2ED1E-8228-4E9C-8EAF-E58FDA45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D5787-0899-465D-A29C-981C1A46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D1BD7-24EB-4741-93C4-500F0681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F2215-F5F2-4A1A-87F5-970B06C3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B34D1-4C65-462A-AD47-5D8A9D58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3A366-F311-40AB-9DB9-29C1165E7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94CEA-76E0-4CD2-84AB-29505D23E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8584D-FB7A-44AE-934F-31DD9AB8C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F5229-A4A2-4AB0-AD7E-42F2B035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58E69-6273-4FD5-92A0-004D27BE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68E5-2BE3-422B-A4C2-440688DE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7E1EA-4A56-4C80-B918-EEAF48C8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C3EBB-ED78-42B8-A662-E63B6E12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BF722-F72D-4F4C-B24C-09682443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E3341-2D51-4160-B323-200039E0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DECE9-D22B-4A43-987B-215D30DB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5EF94-4BAA-41FA-8B84-48D108E9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F0E78-3E79-437E-A3FC-566017F0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C327E-9783-4184-8786-A22ED5D26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DF744-F849-4A92-B006-BBFCE5C96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AD98C-F39E-409A-AC9A-F4D2C561A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6880-A947-4C0B-B156-F77C7515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E9D09-E2C2-4D30-B398-34442020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22E17-2A3E-46DB-B48E-AB396B33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EA32A-FF51-45FC-8805-14410D7A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22C6C-3A57-40D4-A784-ADD81B2D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7C61D-DC22-49E2-9164-DC8FACCD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8416B-92AB-4F1D-B04B-39852139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A1CF5-2EBE-444F-B685-FC6E1B3D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819CA-4C17-4B80-9556-41F55180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92D39-F5EF-4BCC-A9B7-784B8CFF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07864-9D2A-482C-A05A-1FA2DE4AB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7CA2-4BBB-4A6E-BA68-54C55552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BFD34-5230-4191-88C5-FD5F3CD81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CC3D-9F8F-46F4-B324-7573B170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525B-EF62-484C-B767-FED8AA2E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46BB-F3FE-415C-B71D-76E8397D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tângulo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tângulo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3E54-DD9D-4115-ABE0-765DAEEAFBD2}" type="slidenum">
              <a:rPr b="0" lang="pt-BR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tângulo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tângulo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Conector reto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EFAE-FC57-444D-928E-BB8BE4CED5C0}" type="slidenum">
              <a:rPr b="0" lang="pt-BR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tângulo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tângulo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78DC-3101-40B5-B49E-E784AED823D6}" type="slidenum">
              <a:rPr b="0" lang="pt-BR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tângulo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tângulo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AA74-B643-4CF7-B419-A54C068A4017}" type="slidenum">
              <a:rPr b="0" lang="pt-BR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tângulo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tângulo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70F7-2098-4A73-BA9E-45B924160E9B}" type="slidenum">
              <a:rPr b="0" lang="pt-BR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ítulo 1" descr=""/>
          <p:cNvPicPr/>
          <p:nvPr/>
        </p:nvPicPr>
        <p:blipFill>
          <a:blip r:embed="rId1"/>
          <a:stretch/>
        </p:blipFill>
        <p:spPr>
          <a:xfrm>
            <a:off x="3346560" y="549360"/>
            <a:ext cx="5121000" cy="28764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57720" y="442908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rebuchet MS"/>
              </a:rPr>
              <a:t>Tassiana Sacchi Pitt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rebuchet MS"/>
              </a:rPr>
              <a:t>C2 Hematologia Pediátric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Título 1" descr=""/>
          <p:cNvPicPr/>
          <p:nvPr/>
        </p:nvPicPr>
        <p:blipFill>
          <a:blip r:embed="rId1"/>
          <a:stretch/>
        </p:blipFill>
        <p:spPr>
          <a:xfrm>
            <a:off x="176040" y="328680"/>
            <a:ext cx="7493040" cy="11588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Complexo de Histocompatibilidade (HLA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Alelos classe I: A3/ B7 e C7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3" marL="1004760" indent="-22860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Alelos classe II: DQ A0102/ DQ B0602/ DR 15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3" marL="1004760" indent="-228600" algn="just">
              <a:lnSpc>
                <a:spcPct val="7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c1f34"/>
                </a:solidFill>
                <a:latin typeface="Arial"/>
              </a:rPr>
              <a:t>RR = 1,9 a 4,0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3" marL="1004760" indent="-22860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3" marL="1004760" indent="-22860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Alelos C2  DQ A0103  DQB 0603 DR 13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3" marL="1004760" indent="-228600" algn="just">
              <a:lnSpc>
                <a:spcPct val="7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c1f34"/>
                </a:solidFill>
                <a:latin typeface="Arial"/>
              </a:rPr>
              <a:t>RR = 0,1 a 0,2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3" marL="1004760" indent="-22860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3" marL="1004760" indent="-22860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3" marL="1004760" indent="-22860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c1f34"/>
                </a:solidFill>
                <a:latin typeface="Arial"/>
              </a:rPr>
              <a:t>*MIB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não encontrou associação consistente entre os tipos de HLA e o risco de desenvolvimento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p:transition spd="med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Título 1" descr=""/>
          <p:cNvPicPr/>
          <p:nvPr/>
        </p:nvPicPr>
        <p:blipFill>
          <a:blip r:embed="rId1"/>
          <a:stretch/>
        </p:blipFill>
        <p:spPr>
          <a:xfrm>
            <a:off x="176040" y="328680"/>
            <a:ext cx="7493040" cy="11588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8a2e4e"/>
                </a:solidFill>
                <a:latin typeface="Arial"/>
              </a:rPr>
              <a:t>Hemofilia B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requência menor (3-5%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ibidor: relacionados a grandes deleções do gene FIX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60% casos com manifestações alérgicas e/ou anafilaxia *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dade: 19 meses (9 - 156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as de exposição: 11 dias (2 - 180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* Genotipagem ao diagnóstic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Título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Idade de início do tratament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&lt; 6 mes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41% inibido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6 a 12 meses - 29%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&gt; 12 mes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12%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             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Br J Haematol ,2001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Outro estudo: sem associação com desenvolvimento de inibidor e início do tratamento antes dos 11m idade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Trebuchet MS"/>
              </a:rPr>
              <a:t>após ajuste para fatores genético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400"/>
              </a:spcBef>
              <a:buClr>
                <a:srgbClr val="f9b639"/>
              </a:buClr>
              <a:buSzPct val="70000"/>
              <a:buFont typeface="Trebuchet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Br J Haematol ,2005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Chave esquerda 3"/>
          <p:cNvSpPr/>
          <p:nvPr/>
        </p:nvSpPr>
        <p:spPr>
          <a:xfrm>
            <a:off x="357120" y="2428920"/>
            <a:ext cx="428760" cy="1214280"/>
          </a:xfrm>
          <a:custGeom>
            <a:avLst/>
            <a:gdLst>
              <a:gd name="textAreaLeft" fmla="*/ 273960 w 428760"/>
              <a:gd name="textAreaRight" fmla="*/ 429120 w 428760"/>
              <a:gd name="textAreaTop" fmla="*/ 11160 h 1214280"/>
              <a:gd name="textAreaBottom" fmla="*/ 120312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18"/>
                  <a:pt x="10800" y="635"/>
                </a:cubicBezTo>
                <a:lnTo>
                  <a:pt x="10800" y="10165"/>
                </a:lnTo>
                <a:cubicBezTo>
                  <a:pt x="10800" y="10483"/>
                  <a:pt x="5400" y="10800"/>
                  <a:pt x="0" y="10800"/>
                </a:cubicBezTo>
                <a:cubicBezTo>
                  <a:pt x="5400" y="10800"/>
                  <a:pt x="10800" y="11118"/>
                  <a:pt x="10800" y="11435"/>
                </a:cubicBezTo>
                <a:lnTo>
                  <a:pt x="10800" y="20965"/>
                </a:lnTo>
                <a:cubicBezTo>
                  <a:pt x="10800" y="21283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11520">
            <a:solidFill>
              <a:srgbClr val="5c1f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Título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Número de exposições ao fator de coagulaçã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m geral dentro dos primeiros 150 DE (95% ocorrem nos primeiros 50 DE);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-  em média após 10 infusõe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Título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Alterações no sistema imun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8a2e4e"/>
                </a:solidFill>
                <a:latin typeface="Trebuchet MS"/>
              </a:rPr>
              <a:t>	</a:t>
            </a:r>
            <a:r>
              <a:rPr b="0" lang="pt-BR" sz="2000" spc="-1" strike="noStrike">
                <a:solidFill>
                  <a:srgbClr val="8a2e4e"/>
                </a:solidFill>
                <a:latin typeface="Trebuchet MS"/>
              </a:rPr>
              <a:t>Condições que ativam o sistema imune e modulam níveis citocinas e elementos regulatórios, tem o potencial de facilitar a formação de INIBIDOR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oenças Infecciosa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Imunizaçõ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Sangramentos musculares volumoso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Cirurgia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Título 1" descr=""/>
          <p:cNvPicPr/>
          <p:nvPr/>
        </p:nvPicPr>
        <p:blipFill>
          <a:blip r:embed="rId1"/>
          <a:stretch/>
        </p:blipFill>
        <p:spPr>
          <a:xfrm>
            <a:off x="176040" y="328680"/>
            <a:ext cx="7493040" cy="11588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Tipo de produto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- Recombinante (22 A 38%)</a:t>
            </a:r>
            <a:endParaRPr b="0" lang="en-US" sz="22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- Derivado de plasma humano (22 A 27%) </a:t>
            </a:r>
            <a:r>
              <a:rPr b="0" lang="pt-BR" sz="2200" spc="-1" strike="noStrike">
                <a:solidFill>
                  <a:srgbClr val="b13f9a"/>
                </a:solidFill>
                <a:latin typeface="Trebuchet MS"/>
              </a:rPr>
              <a:t>**</a:t>
            </a:r>
            <a:endParaRPr b="0" lang="en-US" sz="22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 algn="just">
              <a:spcBef>
                <a:spcPts val="499"/>
              </a:spcBef>
              <a:buClr>
                <a:srgbClr val="f9b639"/>
              </a:buClr>
              <a:buSzPct val="8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b13f9a"/>
                </a:solidFill>
                <a:latin typeface="Trebuchet MS"/>
              </a:rPr>
              <a:t>** Teoria do efeito protetor do VWF prevenindo a ligação do inibidor a cadeia leve do FVIII e também prevenindo a apresentação do FVIII ao LT     </a:t>
            </a:r>
            <a:r>
              <a:rPr b="0" lang="pt-BR" sz="20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pt-BR" sz="20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pt-BR" sz="20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pt-BR" sz="20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pt-BR" sz="20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pt-BR" sz="20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pt-BR" sz="20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Thromb Haematologicica 2002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Haematologica, 2007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b13f9a"/>
                </a:solidFill>
                <a:latin typeface="Trebuchet MS"/>
              </a:rPr>
              <a:t>* Os dados atuais são controversos e não se pode fazer recomendação com relação ao tipo de produto e imunogenicidade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ítulo 1" descr=""/>
          <p:cNvPicPr/>
          <p:nvPr/>
        </p:nvPicPr>
        <p:blipFill>
          <a:blip r:embed="rId1"/>
          <a:stretch/>
        </p:blipFill>
        <p:spPr>
          <a:xfrm>
            <a:off x="176040" y="328680"/>
            <a:ext cx="7493040" cy="1158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"/>
          <p:cNvPicPr/>
          <p:nvPr/>
        </p:nvPicPr>
        <p:blipFill>
          <a:blip r:embed="rId2"/>
          <a:stretch/>
        </p:blipFill>
        <p:spPr>
          <a:xfrm>
            <a:off x="428760" y="2357280"/>
            <a:ext cx="7238880" cy="2786400"/>
          </a:xfrm>
          <a:prstGeom prst="rect">
            <a:avLst/>
          </a:prstGeom>
          <a:ln w="0">
            <a:noFill/>
          </a:ln>
        </p:spPr>
      </p:pic>
      <p:sp>
        <p:nvSpPr>
          <p:cNvPr id="263" name="CaixaDeTexto 10"/>
          <p:cNvSpPr/>
          <p:nvPr/>
        </p:nvSpPr>
        <p:spPr>
          <a:xfrm>
            <a:off x="3714840" y="2286000"/>
            <a:ext cx="119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a2c64"/>
                </a:solidFill>
                <a:latin typeface="Trebuchet MS"/>
              </a:rPr>
              <a:t>CADEIA LE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Conector de seta reta 12"/>
          <p:cNvCxnSpPr/>
          <p:nvPr/>
        </p:nvCxnSpPr>
        <p:spPr>
          <a:xfrm>
            <a:off x="3642840" y="2642760"/>
            <a:ext cx="1429560" cy="2520"/>
          </a:xfrm>
          <a:prstGeom prst="straightConnector1">
            <a:avLst/>
          </a:prstGeom>
          <a:ln w="11520">
            <a:solidFill>
              <a:srgbClr val="b83d68"/>
            </a:solidFill>
            <a:miter/>
            <a:headEnd len="med" type="arrow" w="med"/>
            <a:tailEnd len="med" type="arrow" w="med"/>
          </a:ln>
        </p:spPr>
      </p:cxnSp>
      <p:sp>
        <p:nvSpPr>
          <p:cNvPr id="265" name="CaixaDeTexto 13"/>
          <p:cNvSpPr/>
          <p:nvPr/>
        </p:nvSpPr>
        <p:spPr>
          <a:xfrm>
            <a:off x="571680" y="5643720"/>
            <a:ext cx="63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** Estudos </a:t>
            </a:r>
            <a:r>
              <a:rPr b="0" i="1" lang="pt-BR" sz="1800" spc="-1" strike="noStrike">
                <a:solidFill>
                  <a:srgbClr val="000000"/>
                </a:solidFill>
                <a:latin typeface="Trebuchet MS"/>
              </a:rPr>
              <a:t>in vi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aixaDeTexto 15"/>
          <p:cNvSpPr/>
          <p:nvPr/>
        </p:nvSpPr>
        <p:spPr>
          <a:xfrm>
            <a:off x="4000680" y="6211800"/>
            <a:ext cx="43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Haemophilia 2008; 14(suppl.3):36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Conector de seta reta 7"/>
          <p:cNvCxnSpPr/>
          <p:nvPr/>
        </p:nvCxnSpPr>
        <p:spPr>
          <a:xfrm>
            <a:off x="428760" y="3499920"/>
            <a:ext cx="3072240" cy="2520"/>
          </a:xfrm>
          <a:prstGeom prst="straightConnector1">
            <a:avLst/>
          </a:prstGeom>
          <a:ln w="11520">
            <a:solidFill>
              <a:srgbClr val="b83d68"/>
            </a:solidFill>
            <a:miter/>
            <a:headEnd len="med" type="arrow" w="med"/>
            <a:tailEnd len="med" type="arrow" w="med"/>
          </a:ln>
        </p:spPr>
      </p:cxnSp>
      <p:sp>
        <p:nvSpPr>
          <p:cNvPr id="268" name="Retângulo 11"/>
          <p:cNvSpPr/>
          <p:nvPr/>
        </p:nvSpPr>
        <p:spPr>
          <a:xfrm>
            <a:off x="1163160" y="3571920"/>
            <a:ext cx="156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a2c64"/>
                </a:solidFill>
                <a:latin typeface="Trebuchet MS"/>
              </a:rPr>
              <a:t>CADEIA  PES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Título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Modo de administraçã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Administração em bolus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Infusão contínua – exposição constante do sistema imune ao fator deficiente:    inibidor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b13f9a"/>
                </a:solidFill>
                <a:latin typeface="Trebuchet MS"/>
              </a:rPr>
              <a:t>* Os dados atuais são controversos e não se pode fazer recomendação com relação ao tipo de infusã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71" name="Conector de seta reta 4"/>
          <p:cNvCxnSpPr/>
          <p:nvPr/>
        </p:nvCxnSpPr>
        <p:spPr>
          <a:xfrm flipV="1">
            <a:off x="3285000" y="2785680"/>
            <a:ext cx="2520" cy="286560"/>
          </a:xfrm>
          <a:prstGeom prst="straightConnector1">
            <a:avLst/>
          </a:prstGeom>
          <a:ln w="11520">
            <a:solidFill>
              <a:srgbClr val="5c1f34"/>
            </a:solidFill>
            <a:miter/>
            <a:tailEnd len="med" type="arrow" w="med"/>
          </a:ln>
        </p:spPr>
      </p:cxnSp>
    </p:spTree>
  </p:cSld>
  <p:transition spd="med"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Título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4" name="Picture 6" descr="Inib1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85840" y="1500120"/>
            <a:ext cx="7572240" cy="4845240"/>
          </a:xfrm>
          <a:prstGeom prst="rect">
            <a:avLst/>
          </a:prstGeom>
          <a:ln w="0">
            <a:noFill/>
          </a:ln>
        </p:spPr>
      </p:pic>
      <p:sp>
        <p:nvSpPr>
          <p:cNvPr id="275" name="CaixaDeTexto 6"/>
          <p:cNvSpPr/>
          <p:nvPr/>
        </p:nvSpPr>
        <p:spPr>
          <a:xfrm>
            <a:off x="4143240" y="6211800"/>
            <a:ext cx="400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Haemophilia 2006; 12(suppl.3):52-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Título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83d68"/>
                </a:solidFill>
                <a:latin typeface="Trebuchet MS"/>
              </a:rPr>
              <a:t>Uma unidade Bethesda corresponde à quantidade de inibidor capaz de neutralizar 50% da atividade do fato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Alta resposta (55%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título anticorpo  &gt; 5UB/ml em </a:t>
            </a:r>
            <a:r>
              <a:rPr b="1" lang="pt-BR" sz="2400" spc="-1" strike="noStrike">
                <a:solidFill>
                  <a:srgbClr val="000000"/>
                </a:solidFill>
                <a:latin typeface="Trebuchet MS"/>
              </a:rPr>
              <a:t>qualquer momento da existência do inibido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- resposta anamnéstica (elevação do título após nova exposição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- incapacidade de tratamento com concentrado de fator específic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ítulo 1" descr=""/>
          <p:cNvPicPr/>
          <p:nvPr/>
        </p:nvPicPr>
        <p:blipFill>
          <a:blip r:embed="rId1"/>
          <a:stretch/>
        </p:blipFill>
        <p:spPr>
          <a:xfrm>
            <a:off x="1042920" y="2279520"/>
            <a:ext cx="6656400" cy="18846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066320" y="1904760"/>
            <a:ext cx="6255000" cy="7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pull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Título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Baixa resposta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- inibidores com níveis persistententemente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Trebuchet MS"/>
              </a:rPr>
              <a:t>&lt;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  5UB/m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- ausência de resposta anamnéstic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- responde ao tratamento com altas doses do fator específic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Transitório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- baixo títul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- não se sabe sobre relevância clínic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- desaparecem sem tratamento específico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- acompanhamento clínic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Rectangle 2" descr=""/>
          <p:cNvPicPr/>
          <p:nvPr/>
        </p:nvPicPr>
        <p:blipFill>
          <a:blip r:embed="rId1"/>
          <a:stretch/>
        </p:blipFill>
        <p:spPr>
          <a:xfrm>
            <a:off x="23760" y="281160"/>
            <a:ext cx="8139240" cy="1150920"/>
          </a:xfrm>
          <a:prstGeom prst="rect">
            <a:avLst/>
          </a:prstGeom>
          <a:ln w="0">
            <a:noFill/>
          </a:ln>
        </p:spPr>
      </p:pic>
      <p:grpSp>
        <p:nvGrpSpPr>
          <p:cNvPr id="281" name="Group 54"/>
          <p:cNvGrpSpPr/>
          <p:nvPr/>
        </p:nvGrpSpPr>
        <p:grpSpPr>
          <a:xfrm>
            <a:off x="858240" y="1357200"/>
            <a:ext cx="6669000" cy="5124600"/>
            <a:chOff x="858240" y="1357200"/>
            <a:chExt cx="6669000" cy="5124600"/>
          </a:xfrm>
        </p:grpSpPr>
        <p:sp>
          <p:nvSpPr>
            <p:cNvPr id="282" name="Line 3"/>
            <p:cNvSpPr/>
            <p:nvPr/>
          </p:nvSpPr>
          <p:spPr>
            <a:xfrm>
              <a:off x="5122800" y="4406760"/>
              <a:ext cx="0" cy="16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4"/>
            <p:cNvSpPr/>
            <p:nvPr/>
          </p:nvSpPr>
          <p:spPr>
            <a:xfrm>
              <a:off x="5122800" y="6027480"/>
              <a:ext cx="1569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5"/>
            <p:cNvSpPr/>
            <p:nvPr/>
          </p:nvSpPr>
          <p:spPr>
            <a:xfrm>
              <a:off x="4592520" y="5084640"/>
              <a:ext cx="322560" cy="85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6"/>
            <p:cNvSpPr/>
            <p:nvPr/>
          </p:nvSpPr>
          <p:spPr>
            <a:xfrm>
              <a:off x="6636240" y="5532480"/>
              <a:ext cx="8910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Tem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7"/>
            <p:cNvSpPr/>
            <p:nvPr/>
          </p:nvSpPr>
          <p:spPr>
            <a:xfrm>
              <a:off x="5211720" y="5940360"/>
              <a:ext cx="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8"/>
            <p:cNvSpPr/>
            <p:nvPr/>
          </p:nvSpPr>
          <p:spPr>
            <a:xfrm>
              <a:off x="4379400" y="4171680"/>
              <a:ext cx="605880" cy="85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9"/>
            <p:cNvSpPr/>
            <p:nvPr/>
          </p:nvSpPr>
          <p:spPr>
            <a:xfrm>
              <a:off x="4646880" y="3886200"/>
              <a:ext cx="49788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U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0"/>
            <p:cNvSpPr/>
            <p:nvPr/>
          </p:nvSpPr>
          <p:spPr>
            <a:xfrm flipV="1">
              <a:off x="1671480" y="342576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1"/>
            <p:cNvSpPr/>
            <p:nvPr/>
          </p:nvSpPr>
          <p:spPr>
            <a:xfrm>
              <a:off x="1531800" y="1904760"/>
              <a:ext cx="0" cy="162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2"/>
            <p:cNvSpPr/>
            <p:nvPr/>
          </p:nvSpPr>
          <p:spPr>
            <a:xfrm>
              <a:off x="1531800" y="3527280"/>
              <a:ext cx="157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13"/>
            <p:cNvSpPr/>
            <p:nvPr/>
          </p:nvSpPr>
          <p:spPr>
            <a:xfrm>
              <a:off x="1010880" y="29098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4"/>
            <p:cNvSpPr/>
            <p:nvPr/>
          </p:nvSpPr>
          <p:spPr>
            <a:xfrm>
              <a:off x="3037320" y="3311280"/>
              <a:ext cx="89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Tem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15"/>
            <p:cNvSpPr/>
            <p:nvPr/>
          </p:nvSpPr>
          <p:spPr>
            <a:xfrm>
              <a:off x="858240" y="198108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6"/>
            <p:cNvSpPr/>
            <p:nvPr/>
          </p:nvSpPr>
          <p:spPr>
            <a:xfrm>
              <a:off x="1013040" y="17190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U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17"/>
            <p:cNvSpPr/>
            <p:nvPr/>
          </p:nvSpPr>
          <p:spPr>
            <a:xfrm>
              <a:off x="2457360" y="135720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990000"/>
                  </a:solidFill>
                  <a:latin typeface="Arial"/>
                </a:rPr>
                <a:t>Alta respos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18"/>
            <p:cNvSpPr/>
            <p:nvPr/>
          </p:nvSpPr>
          <p:spPr>
            <a:xfrm>
              <a:off x="5011560" y="1904760"/>
              <a:ext cx="0" cy="162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9"/>
            <p:cNvSpPr/>
            <p:nvPr/>
          </p:nvSpPr>
          <p:spPr>
            <a:xfrm>
              <a:off x="5011560" y="3527280"/>
              <a:ext cx="1581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0"/>
            <p:cNvSpPr/>
            <p:nvPr/>
          </p:nvSpPr>
          <p:spPr>
            <a:xfrm>
              <a:off x="4474800" y="29098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21"/>
            <p:cNvSpPr/>
            <p:nvPr/>
          </p:nvSpPr>
          <p:spPr>
            <a:xfrm>
              <a:off x="6517080" y="3311280"/>
              <a:ext cx="89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Tem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22"/>
            <p:cNvSpPr/>
            <p:nvPr/>
          </p:nvSpPr>
          <p:spPr>
            <a:xfrm>
              <a:off x="4287240" y="207324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23"/>
            <p:cNvSpPr/>
            <p:nvPr/>
          </p:nvSpPr>
          <p:spPr>
            <a:xfrm>
              <a:off x="4550040" y="181116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U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24"/>
            <p:cNvSpPr/>
            <p:nvPr/>
          </p:nvSpPr>
          <p:spPr>
            <a:xfrm>
              <a:off x="5111640" y="3423960"/>
              <a:ext cx="0" cy="16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25"/>
            <p:cNvSpPr/>
            <p:nvPr/>
          </p:nvSpPr>
          <p:spPr>
            <a:xfrm>
              <a:off x="2143080" y="3835440"/>
              <a:ext cx="383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990000"/>
                  </a:solidFill>
                  <a:latin typeface="Arial"/>
                </a:rPr>
                <a:t>Baixa respos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6"/>
            <p:cNvSpPr/>
            <p:nvPr/>
          </p:nvSpPr>
          <p:spPr>
            <a:xfrm>
              <a:off x="1522440" y="4500360"/>
              <a:ext cx="0" cy="162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27"/>
            <p:cNvSpPr/>
            <p:nvPr/>
          </p:nvSpPr>
          <p:spPr>
            <a:xfrm>
              <a:off x="1522440" y="6121440"/>
              <a:ext cx="1581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28"/>
            <p:cNvSpPr/>
            <p:nvPr/>
          </p:nvSpPr>
          <p:spPr>
            <a:xfrm>
              <a:off x="1010880" y="5184720"/>
              <a:ext cx="322560" cy="85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29"/>
            <p:cNvSpPr/>
            <p:nvPr/>
          </p:nvSpPr>
          <p:spPr>
            <a:xfrm>
              <a:off x="3027960" y="5626080"/>
              <a:ext cx="8910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Tem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30"/>
            <p:cNvSpPr/>
            <p:nvPr/>
          </p:nvSpPr>
          <p:spPr>
            <a:xfrm>
              <a:off x="858240" y="4317840"/>
              <a:ext cx="605880" cy="85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31"/>
            <p:cNvSpPr/>
            <p:nvPr/>
          </p:nvSpPr>
          <p:spPr>
            <a:xfrm>
              <a:off x="1059120" y="3873240"/>
              <a:ext cx="49788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U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32"/>
            <p:cNvSpPr/>
            <p:nvPr/>
          </p:nvSpPr>
          <p:spPr>
            <a:xfrm>
              <a:off x="1622160" y="6018120"/>
              <a:ext cx="0" cy="1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33"/>
            <p:cNvSpPr/>
            <p:nvPr/>
          </p:nvSpPr>
          <p:spPr>
            <a:xfrm flipV="1">
              <a:off x="5113080" y="3623760"/>
              <a:ext cx="0" cy="2602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34"/>
            <p:cNvSpPr/>
            <p:nvPr/>
          </p:nvSpPr>
          <p:spPr>
            <a:xfrm flipV="1">
              <a:off x="6337080" y="3623760"/>
              <a:ext cx="0" cy="2602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35"/>
            <p:cNvSpPr/>
            <p:nvPr/>
          </p:nvSpPr>
          <p:spPr>
            <a:xfrm flipV="1">
              <a:off x="1670040" y="3630240"/>
              <a:ext cx="0" cy="2602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36"/>
            <p:cNvSpPr/>
            <p:nvPr/>
          </p:nvSpPr>
          <p:spPr>
            <a:xfrm flipV="1">
              <a:off x="2655720" y="3630240"/>
              <a:ext cx="0" cy="2602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37"/>
            <p:cNvSpPr/>
            <p:nvPr/>
          </p:nvSpPr>
          <p:spPr>
            <a:xfrm flipV="1">
              <a:off x="1619280" y="6221160"/>
              <a:ext cx="0" cy="26064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38"/>
            <p:cNvSpPr/>
            <p:nvPr/>
          </p:nvSpPr>
          <p:spPr>
            <a:xfrm flipV="1">
              <a:off x="2374920" y="6221160"/>
              <a:ext cx="0" cy="26064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39"/>
            <p:cNvSpPr/>
            <p:nvPr/>
          </p:nvSpPr>
          <p:spPr>
            <a:xfrm flipV="1">
              <a:off x="5214960" y="6170040"/>
              <a:ext cx="0" cy="2602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40"/>
            <p:cNvSpPr/>
            <p:nvPr/>
          </p:nvSpPr>
          <p:spPr>
            <a:xfrm flipV="1">
              <a:off x="6338880" y="6170040"/>
              <a:ext cx="0" cy="2602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41"/>
            <p:cNvSpPr/>
            <p:nvPr/>
          </p:nvSpPr>
          <p:spPr>
            <a:xfrm>
              <a:off x="5068800" y="2235240"/>
              <a:ext cx="2044800" cy="444240"/>
            </a:xfrm>
            <a:prstGeom prst="pie">
              <a:avLst/>
            </a:prstGeom>
            <a:noFill/>
            <a:ln w="381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42"/>
            <p:cNvSpPr/>
            <p:nvPr/>
          </p:nvSpPr>
          <p:spPr>
            <a:xfrm>
              <a:off x="5238720" y="5643360"/>
              <a:ext cx="1896840" cy="220680"/>
            </a:xfrm>
            <a:prstGeom prst="pie">
              <a:avLst/>
            </a:prstGeom>
            <a:noFill/>
            <a:ln w="381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3"/>
            <p:cNvSpPr/>
            <p:nvPr/>
          </p:nvSpPr>
          <p:spPr>
            <a:xfrm>
              <a:off x="5048280" y="47480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4"/>
            <p:cNvSpPr/>
            <p:nvPr/>
          </p:nvSpPr>
          <p:spPr>
            <a:xfrm>
              <a:off x="5048280" y="56671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45"/>
            <p:cNvSpPr/>
            <p:nvPr/>
          </p:nvSpPr>
          <p:spPr>
            <a:xfrm>
              <a:off x="4952880" y="22590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46"/>
            <p:cNvSpPr/>
            <p:nvPr/>
          </p:nvSpPr>
          <p:spPr>
            <a:xfrm>
              <a:off x="4940280" y="31068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47"/>
            <p:cNvSpPr/>
            <p:nvPr/>
          </p:nvSpPr>
          <p:spPr>
            <a:xfrm>
              <a:off x="1457280" y="21682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48"/>
            <p:cNvSpPr/>
            <p:nvPr/>
          </p:nvSpPr>
          <p:spPr>
            <a:xfrm>
              <a:off x="1457280" y="31017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49"/>
            <p:cNvSpPr/>
            <p:nvPr/>
          </p:nvSpPr>
          <p:spPr>
            <a:xfrm>
              <a:off x="1450800" y="48895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50"/>
            <p:cNvSpPr/>
            <p:nvPr/>
          </p:nvSpPr>
          <p:spPr>
            <a:xfrm>
              <a:off x="1450800" y="57006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51"/>
            <p:cNvSpPr/>
            <p:nvPr/>
          </p:nvSpPr>
          <p:spPr>
            <a:xfrm>
              <a:off x="1593720" y="2057400"/>
              <a:ext cx="1465200" cy="1239840"/>
            </a:xfrm>
            <a:prstGeom prst="pie">
              <a:avLst/>
            </a:prstGeom>
            <a:noFill/>
            <a:ln w="381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52"/>
            <p:cNvSpPr/>
            <p:nvPr/>
          </p:nvSpPr>
          <p:spPr>
            <a:xfrm>
              <a:off x="1568520" y="5700600"/>
              <a:ext cx="1269720" cy="385920"/>
            </a:xfrm>
            <a:prstGeom prst="pie">
              <a:avLst/>
            </a:prstGeom>
            <a:noFill/>
            <a:ln w="381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Rectangle 53"/>
          <p:cNvSpPr/>
          <p:nvPr/>
        </p:nvSpPr>
        <p:spPr>
          <a:xfrm>
            <a:off x="5204160" y="6502320"/>
            <a:ext cx="29124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400" spc="-1" strike="noStrike">
                <a:solidFill>
                  <a:srgbClr val="000000"/>
                </a:solidFill>
                <a:latin typeface="Arial"/>
              </a:rPr>
              <a:t>White et al, Thromb Haemost 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ítulo 1" descr=""/>
          <p:cNvPicPr/>
          <p:nvPr/>
        </p:nvPicPr>
        <p:blipFill>
          <a:blip r:embed="rId1"/>
          <a:stretch/>
        </p:blipFill>
        <p:spPr>
          <a:xfrm>
            <a:off x="212760" y="311040"/>
            <a:ext cx="7462800" cy="16938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Redução da resposta ou eficácia ao concentrado infundido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Aumento de tendência ao sangramento ou ocorrência de episódios hemorrágicos de difícil controle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  Aumento do consumo de concentrado de fator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*Não há alteração quanto ao local típico de sangramento ou gravidade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ítulo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b83d68"/>
                </a:solidFill>
                <a:latin typeface="Trebuchet MS"/>
              </a:rPr>
              <a:t>TESTE DE MISTURA/ TESTE DE PESQUISA DO INIBIDO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50% pool plasma normal: 50% plasma teste (1:1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mistura é incubada por 2h à 37ºC somente para pesquisa de inibidor FVIII (tempo-termodependente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A NÃO correção do TTPA sugere inibidor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pull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7" name=""/>
          <p:cNvGraphicFramePr/>
          <p:nvPr/>
        </p:nvGraphicFramePr>
        <p:xfrm>
          <a:off x="857160" y="500040"/>
          <a:ext cx="6334200" cy="5905440"/>
        </p:xfrm>
        <a:graphic>
          <a:graphicData uri="http://schemas.openxmlformats.org/drawingml/2006/table">
            <a:tbl>
              <a:tblPr/>
              <a:tblGrid>
                <a:gridCol w="3167280"/>
                <a:gridCol w="3166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AMOS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d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TTPA (se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da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ool de plasma normal 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5 segun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e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sma teste pre-mistura (paciente) (B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b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0 segun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b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sma teste apos mistura (C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2 segun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e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álcu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b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bf0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rreção em segundos B –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0-42=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e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ferença entre B e 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b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0-35=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bf0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nálise: correção em segundos (18s) de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er maior que 50% da diferença entre B e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8 &gt; (25/2=12,5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nclusão: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rreção efica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e0"/>
                    </a:solidFill>
                  </a:tcPr>
                </a:tc>
              </a:tr>
            </a:tbl>
          </a:graphicData>
        </a:graphic>
      </p:graphicFrame>
      <p:sp>
        <p:nvSpPr>
          <p:cNvPr id="338" name="CaixaDeTexto 5"/>
          <p:cNvSpPr/>
          <p:nvPr/>
        </p:nvSpPr>
        <p:spPr>
          <a:xfrm>
            <a:off x="1714680" y="6519960"/>
            <a:ext cx="857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Manual de diagnóstico e tratamento de eventos hemorrágicos,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Título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b83d68"/>
                </a:solidFill>
                <a:latin typeface="Trebuchet MS"/>
              </a:rPr>
              <a:t>QUANTIFICAÇÃO DO INIBIDOR (Bethesda modificado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mistura plasma teste com plasma normal tamponado (1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Mistura do plasma normal tamponado com plasma deficiente de FVIII ou solução 4% albumina (2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Realizam-se diversas diluições e faz-se a dosagem de FVIII:C de cada diluição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pull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42" name="Picture 2" descr=""/>
          <p:cNvPicPr/>
          <p:nvPr/>
        </p:nvPicPr>
        <p:blipFill>
          <a:blip r:embed="rId1"/>
          <a:stretch/>
        </p:blipFill>
        <p:spPr>
          <a:xfrm>
            <a:off x="1714680" y="571680"/>
            <a:ext cx="5214600" cy="5813280"/>
          </a:xfrm>
          <a:prstGeom prst="rect">
            <a:avLst/>
          </a:prstGeom>
          <a:ln w="0">
            <a:noFill/>
          </a:ln>
        </p:spPr>
      </p:pic>
      <p:sp>
        <p:nvSpPr>
          <p:cNvPr id="343" name="Retângulo 4"/>
          <p:cNvSpPr/>
          <p:nvPr/>
        </p:nvSpPr>
        <p:spPr>
          <a:xfrm>
            <a:off x="1643040" y="6357960"/>
            <a:ext cx="850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Manual de diagnóstico e tratamento de eventos hemorrágicos,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857160" y="857160"/>
            <a:ext cx="6286680" cy="5205600"/>
          </a:xfrm>
          <a:prstGeom prst="rect">
            <a:avLst/>
          </a:prstGeom>
          <a:ln w="0">
            <a:noFill/>
          </a:ln>
        </p:spPr>
      </p:pic>
      <p:sp>
        <p:nvSpPr>
          <p:cNvPr id="346" name="Retângulo 4"/>
          <p:cNvSpPr/>
          <p:nvPr/>
        </p:nvSpPr>
        <p:spPr>
          <a:xfrm>
            <a:off x="1643040" y="6519960"/>
            <a:ext cx="650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Manual de diagnóstico e tratamento de eventos hemorrágicos,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Rectangle 2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Objetivos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13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b13f9a"/>
                </a:solidFill>
                <a:latin typeface="Trebuchet MS"/>
              </a:rPr>
              <a:t>curto prazo</a:t>
            </a:r>
            <a:r>
              <a:rPr b="0" lang="pt-PT" sz="2000" spc="-1" strike="noStrike">
                <a:solidFill>
                  <a:srgbClr val="000000"/>
                </a:solidFill>
                <a:latin typeface="Trebuchet MS"/>
              </a:rPr>
              <a:t>: controle do sangrament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13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b13f9a"/>
                </a:solidFill>
                <a:latin typeface="Trebuchet MS"/>
              </a:rPr>
              <a:t>longo prazo</a:t>
            </a:r>
            <a:r>
              <a:rPr b="0" lang="pt-PT" sz="2000" spc="-1" strike="noStrike">
                <a:solidFill>
                  <a:srgbClr val="000000"/>
                </a:solidFill>
                <a:latin typeface="Trebuchet MS"/>
              </a:rPr>
              <a:t>: erradicação do inibido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pull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Título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Desmopressin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liberação do FVIII e FvW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Uso: sangramento leve na hemofilia A leve com inibidor de bxa resposta (até 2UB/ml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Altas doses do concentrado deficient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títulos inibidores persistentemente baixo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Envolve a formação de Ac contra FVIII e FIX exógen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Mecanismo LT, LB e CAA dependent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LTh1, Th2 e LTregulatórios estão envolvid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Fenótipo HLA classe II de cada paciente determina quais peptídeos do FVIII ou IX serão apresentados ao L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pull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ítulo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Agentes bypassing (CCP/CCPA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Fatores II/VII/IX/X e traços VIII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eficácia de 64-81%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Mecanismo de ação não totalmente conhecido: 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complexo FII / Xa: geração de trombina; demais componentes asseguram o efeito prolongado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risco TEV/IAM/CIVD é rar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rebuchet MS"/>
              </a:rPr>
              <a:t>Não </a:t>
            </a: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usar</a:t>
            </a:r>
            <a:r>
              <a:rPr b="1" lang="pt-BR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com antifibrinolítico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Dose:</a:t>
            </a: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CCP 75 mg/kg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CCPA 75-100UI/kg/dose 1x ao dia ou 12/12h. </a:t>
            </a:r>
            <a:r>
              <a:rPr b="1" lang="pt-BR" sz="2000" spc="-1" strike="noStrike">
                <a:solidFill>
                  <a:srgbClr val="000000"/>
                </a:solidFill>
                <a:latin typeface="Trebuchet MS"/>
              </a:rPr>
              <a:t>NÃO</a:t>
            </a: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 ultrapassar a dose diária de 200mg/k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sem testes de monitorament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avaliação clínica periódic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pull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ítulo 1" descr=""/>
          <p:cNvPicPr/>
          <p:nvPr/>
        </p:nvPicPr>
        <p:blipFill>
          <a:blip r:embed="rId2"/>
          <a:stretch/>
        </p:blipFill>
        <p:spPr>
          <a:xfrm>
            <a:off x="-182520" y="189000"/>
            <a:ext cx="8643960" cy="1182600"/>
          </a:xfrm>
          <a:prstGeom prst="rect">
            <a:avLst/>
          </a:prstGeom>
          <a:ln w="0">
            <a:noFill/>
          </a:ln>
        </p:spPr>
      </p:pic>
      <p:grpSp>
        <p:nvGrpSpPr>
          <p:cNvPr id="354" name="Group 3"/>
          <p:cNvGrpSpPr/>
          <p:nvPr/>
        </p:nvGrpSpPr>
        <p:grpSpPr>
          <a:xfrm>
            <a:off x="7560" y="1285920"/>
            <a:ext cx="8136000" cy="5270400"/>
            <a:chOff x="7560" y="1285920"/>
            <a:chExt cx="8136000" cy="5270400"/>
          </a:xfrm>
        </p:grpSpPr>
        <p:grpSp>
          <p:nvGrpSpPr>
            <p:cNvPr id="355" name="Group 4"/>
            <p:cNvGrpSpPr/>
            <p:nvPr/>
          </p:nvGrpSpPr>
          <p:grpSpPr>
            <a:xfrm>
              <a:off x="670320" y="1285920"/>
              <a:ext cx="6811200" cy="4021200"/>
              <a:chOff x="670320" y="1285920"/>
              <a:chExt cx="6811200" cy="4021200"/>
            </a:xfrm>
          </p:grpSpPr>
          <p:grpSp>
            <p:nvGrpSpPr>
              <p:cNvPr id="356" name="Group 5"/>
              <p:cNvGrpSpPr/>
              <p:nvPr/>
            </p:nvGrpSpPr>
            <p:grpSpPr>
              <a:xfrm>
                <a:off x="2449440" y="1443600"/>
                <a:ext cx="1519200" cy="1506960"/>
                <a:chOff x="2449440" y="1443600"/>
                <a:chExt cx="1519200" cy="1506960"/>
              </a:xfrm>
            </p:grpSpPr>
            <p:sp>
              <p:nvSpPr>
                <p:cNvPr id="357" name="Arc 6"/>
                <p:cNvSpPr/>
                <p:nvPr/>
              </p:nvSpPr>
              <p:spPr>
                <a:xfrm flipH="1" rot="14653800">
                  <a:off x="2584440" y="1857960"/>
                  <a:ext cx="1301400" cy="60732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Rectangle 7"/>
                <p:cNvSpPr/>
                <p:nvPr/>
              </p:nvSpPr>
              <p:spPr>
                <a:xfrm>
                  <a:off x="2449440" y="1842480"/>
                  <a:ext cx="407880" cy="3877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b13f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ffffff"/>
                      </a:solidFill>
                      <a:latin typeface="TradeGothic LT Bold"/>
                    </a:rPr>
                    <a:t>X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Oval 8"/>
                <p:cNvSpPr/>
                <p:nvPr/>
              </p:nvSpPr>
              <p:spPr>
                <a:xfrm>
                  <a:off x="3492360" y="2481120"/>
                  <a:ext cx="476280" cy="4694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ffffff"/>
                      </a:solidFill>
                      <a:latin typeface="TradeGothic LT Bold"/>
                    </a:rPr>
                    <a:t>X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0" name="Text Box 9"/>
              <p:cNvSpPr/>
              <p:nvPr/>
            </p:nvSpPr>
            <p:spPr>
              <a:xfrm>
                <a:off x="670320" y="3051720"/>
                <a:ext cx="16524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1" name="Group 10"/>
              <p:cNvGrpSpPr/>
              <p:nvPr/>
            </p:nvGrpSpPr>
            <p:grpSpPr>
              <a:xfrm>
                <a:off x="4125240" y="1401840"/>
                <a:ext cx="1631520" cy="1594800"/>
                <a:chOff x="4125240" y="1401840"/>
                <a:chExt cx="1631520" cy="1594800"/>
              </a:xfrm>
            </p:grpSpPr>
            <p:sp>
              <p:nvSpPr>
                <p:cNvPr id="362" name="Arc 11"/>
                <p:cNvSpPr/>
                <p:nvPr/>
              </p:nvSpPr>
              <p:spPr>
                <a:xfrm flipV="1" rot="3380400">
                  <a:off x="4359960" y="1612800"/>
                  <a:ext cx="1135080" cy="117252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Rectangle 12"/>
                <p:cNvSpPr/>
                <p:nvPr/>
              </p:nvSpPr>
              <p:spPr>
                <a:xfrm>
                  <a:off x="4132800" y="1509840"/>
                  <a:ext cx="406800" cy="3862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b13f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ffffff"/>
                      </a:solidFill>
                      <a:latin typeface="TradeGothic LT Bold"/>
                    </a:rPr>
                    <a:t>II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Oval 13"/>
                <p:cNvSpPr/>
                <p:nvPr/>
              </p:nvSpPr>
              <p:spPr>
                <a:xfrm>
                  <a:off x="5279760" y="2406600"/>
                  <a:ext cx="477000" cy="466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ffffff"/>
                      </a:solidFill>
                      <a:latin typeface="TradeGothic LT Bold"/>
                    </a:rPr>
                    <a:t>II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Group 14"/>
              <p:cNvGrpSpPr/>
              <p:nvPr/>
            </p:nvGrpSpPr>
            <p:grpSpPr>
              <a:xfrm>
                <a:off x="1790280" y="2550600"/>
                <a:ext cx="3321360" cy="1307160"/>
                <a:chOff x="1790280" y="2550600"/>
                <a:chExt cx="3321360" cy="1307160"/>
              </a:xfrm>
            </p:grpSpPr>
            <p:sp>
              <p:nvSpPr>
                <p:cNvPr id="366" name="AutoShape 15"/>
                <p:cNvSpPr/>
                <p:nvPr/>
              </p:nvSpPr>
              <p:spPr>
                <a:xfrm>
                  <a:off x="1790280" y="2972160"/>
                  <a:ext cx="3321360" cy="491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c0c0"/>
                </a:solidFill>
                <a:ln w="9360">
                  <a:solidFill>
                    <a:srgbClr val="b13f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radeGothic LT Bold"/>
                    </a:rPr>
                    <a:t>Célula com exposição de F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AutoShape 16"/>
                <p:cNvSpPr/>
                <p:nvPr/>
              </p:nvSpPr>
              <p:spPr>
                <a:xfrm>
                  <a:off x="2204280" y="2550600"/>
                  <a:ext cx="486360" cy="4003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99"/>
                </a:solidFill>
                <a:ln w="9360">
                  <a:solidFill>
                    <a:srgbClr val="d490c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radeGothic LT Bold"/>
                    </a:rPr>
                    <a:t>F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AutoShape 17"/>
                <p:cNvSpPr/>
                <p:nvPr/>
              </p:nvSpPr>
              <p:spPr>
                <a:xfrm>
                  <a:off x="1966680" y="3460320"/>
                  <a:ext cx="489240" cy="3974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99"/>
                </a:solidFill>
                <a:ln w="9360">
                  <a:solidFill>
                    <a:srgbClr val="d490c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radeGothic LT Bold"/>
                    </a:rPr>
                    <a:t>F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9" name="AutoShape 18"/>
              <p:cNvSpPr/>
              <p:nvPr/>
            </p:nvSpPr>
            <p:spPr>
              <a:xfrm>
                <a:off x="3973320" y="2608560"/>
                <a:ext cx="553680" cy="36108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radeGothic LT Bold"/>
                  </a:rPr>
                  <a:t>V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0" name="Group 19"/>
              <p:cNvGrpSpPr/>
              <p:nvPr/>
            </p:nvGrpSpPr>
            <p:grpSpPr>
              <a:xfrm>
                <a:off x="2466000" y="2481840"/>
                <a:ext cx="711360" cy="1462320"/>
                <a:chOff x="2466000" y="2481840"/>
                <a:chExt cx="711360" cy="1462320"/>
              </a:xfrm>
            </p:grpSpPr>
            <p:sp>
              <p:nvSpPr>
                <p:cNvPr id="371" name="Oval 20"/>
                <p:cNvSpPr/>
                <p:nvPr/>
              </p:nvSpPr>
              <p:spPr>
                <a:xfrm>
                  <a:off x="2705040" y="2481840"/>
                  <a:ext cx="472320" cy="469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ffffff"/>
                      </a:solidFill>
                      <a:latin typeface="TradeGothic LT Bold"/>
                    </a:rPr>
                    <a:t>VII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Oval 21"/>
                <p:cNvSpPr/>
                <p:nvPr/>
              </p:nvSpPr>
              <p:spPr>
                <a:xfrm>
                  <a:off x="2466000" y="3476160"/>
                  <a:ext cx="472320" cy="468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ffffff"/>
                      </a:solidFill>
                      <a:latin typeface="TradeGothic LT Bold"/>
                    </a:rPr>
                    <a:t>VII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3" name="Group 22"/>
              <p:cNvGrpSpPr/>
              <p:nvPr/>
            </p:nvGrpSpPr>
            <p:grpSpPr>
              <a:xfrm>
                <a:off x="5016600" y="2927520"/>
                <a:ext cx="1233360" cy="1088280"/>
                <a:chOff x="5016600" y="2927520"/>
                <a:chExt cx="1233360" cy="1088280"/>
              </a:xfrm>
            </p:grpSpPr>
            <p:sp>
              <p:nvSpPr>
                <p:cNvPr id="374" name="Line 23"/>
                <p:cNvSpPr/>
                <p:nvPr/>
              </p:nvSpPr>
              <p:spPr>
                <a:xfrm flipH="1">
                  <a:off x="5556960" y="2927520"/>
                  <a:ext cx="5760" cy="816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Line 24"/>
                <p:cNvSpPr/>
                <p:nvPr/>
              </p:nvSpPr>
              <p:spPr>
                <a:xfrm>
                  <a:off x="5182920" y="3832200"/>
                  <a:ext cx="51372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Rectangle 25"/>
                <p:cNvSpPr/>
                <p:nvPr/>
              </p:nvSpPr>
              <p:spPr>
                <a:xfrm>
                  <a:off x="5016600" y="3709800"/>
                  <a:ext cx="307080" cy="264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b13f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ffffff"/>
                      </a:solidFill>
                      <a:latin typeface="TradeGothic LT Bold"/>
                    </a:rPr>
                    <a:t>V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AutoShape 26"/>
                <p:cNvSpPr/>
                <p:nvPr/>
              </p:nvSpPr>
              <p:spPr>
                <a:xfrm>
                  <a:off x="5696640" y="3653640"/>
                  <a:ext cx="553320" cy="362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radeGothic LT Bold"/>
                    </a:rPr>
                    <a:t>V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8" name="Group 27"/>
              <p:cNvGrpSpPr/>
              <p:nvPr/>
            </p:nvGrpSpPr>
            <p:grpSpPr>
              <a:xfrm>
                <a:off x="5836320" y="2216520"/>
                <a:ext cx="1645200" cy="916560"/>
                <a:chOff x="5836320" y="2216520"/>
                <a:chExt cx="1645200" cy="916560"/>
              </a:xfrm>
            </p:grpSpPr>
            <p:sp>
              <p:nvSpPr>
                <p:cNvPr id="379" name="Text Box 28"/>
                <p:cNvSpPr/>
                <p:nvPr/>
              </p:nvSpPr>
              <p:spPr>
                <a:xfrm>
                  <a:off x="6302520" y="2216520"/>
                  <a:ext cx="1179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radeGothic LT Bold"/>
                    </a:rPr>
                    <a:t>VIII / VW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Line 29"/>
                <p:cNvSpPr/>
                <p:nvPr/>
              </p:nvSpPr>
              <p:spPr>
                <a:xfrm>
                  <a:off x="6994440" y="2509920"/>
                  <a:ext cx="1440" cy="236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Line 30"/>
                <p:cNvSpPr/>
                <p:nvPr/>
              </p:nvSpPr>
              <p:spPr>
                <a:xfrm>
                  <a:off x="5836320" y="2644920"/>
                  <a:ext cx="961920" cy="8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AutoShape 31"/>
                <p:cNvSpPr/>
                <p:nvPr/>
              </p:nvSpPr>
              <p:spPr>
                <a:xfrm>
                  <a:off x="6743880" y="2773440"/>
                  <a:ext cx="550800" cy="359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0000"/>
                </a:solidFill>
                <a:ln w="9360">
                  <a:solidFill>
                    <a:srgbClr val="b13f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radeGothic LT Bold"/>
                    </a:rPr>
                    <a:t>VIII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3" name="Group 32"/>
              <p:cNvGrpSpPr/>
              <p:nvPr/>
            </p:nvGrpSpPr>
            <p:grpSpPr>
              <a:xfrm>
                <a:off x="694440" y="1285920"/>
                <a:ext cx="4687560" cy="4021200"/>
                <a:chOff x="694440" y="1285920"/>
                <a:chExt cx="4687560" cy="4021200"/>
              </a:xfrm>
            </p:grpSpPr>
            <p:sp>
              <p:nvSpPr>
                <p:cNvPr id="384" name="Rectangle 33"/>
                <p:cNvSpPr/>
                <p:nvPr/>
              </p:nvSpPr>
              <p:spPr>
                <a:xfrm>
                  <a:off x="694440" y="4960080"/>
                  <a:ext cx="412560" cy="347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TradeGothic LT Bold"/>
                    </a:rPr>
                    <a:t>XI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Oval 34"/>
                <p:cNvSpPr/>
                <p:nvPr/>
              </p:nvSpPr>
              <p:spPr>
                <a:xfrm>
                  <a:off x="1491480" y="4910760"/>
                  <a:ext cx="452160" cy="3650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TradeGothic LT Bold"/>
                    </a:rPr>
                    <a:t>XI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Freeform 35"/>
                <p:cNvSpPr/>
                <p:nvPr/>
              </p:nvSpPr>
              <p:spPr>
                <a:xfrm>
                  <a:off x="1308960" y="1285920"/>
                  <a:ext cx="4073040" cy="333432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Freeform 36"/>
                <p:cNvSpPr/>
                <p:nvPr/>
              </p:nvSpPr>
              <p:spPr>
                <a:xfrm flipV="1" rot="21508200">
                  <a:off x="1019880" y="4741560"/>
                  <a:ext cx="634680" cy="13500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8" name="AutoShape 38"/>
            <p:cNvSpPr/>
            <p:nvPr/>
          </p:nvSpPr>
          <p:spPr>
            <a:xfrm>
              <a:off x="4644000" y="5287320"/>
              <a:ext cx="446760" cy="3610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adeGothic LT Bold"/>
                </a:rPr>
                <a:t>V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rc 39"/>
            <p:cNvSpPr/>
            <p:nvPr/>
          </p:nvSpPr>
          <p:spPr>
            <a:xfrm flipV="1" rot="3380400">
              <a:off x="5310360" y="4548600"/>
              <a:ext cx="723240" cy="11739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40"/>
            <p:cNvSpPr/>
            <p:nvPr/>
          </p:nvSpPr>
          <p:spPr>
            <a:xfrm>
              <a:off x="5105160" y="4627080"/>
              <a:ext cx="405360" cy="384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b13f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TradeGothic LT Bold"/>
                </a:rPr>
                <a:t>I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41"/>
            <p:cNvSpPr/>
            <p:nvPr/>
          </p:nvSpPr>
          <p:spPr>
            <a:xfrm>
              <a:off x="5731200" y="5233320"/>
              <a:ext cx="475200" cy="4708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TradeGothic LT Bold"/>
                </a:rPr>
                <a:t>I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Group 42"/>
            <p:cNvGrpSpPr/>
            <p:nvPr/>
          </p:nvGrpSpPr>
          <p:grpSpPr>
            <a:xfrm>
              <a:off x="3411000" y="4328280"/>
              <a:ext cx="1378800" cy="1305720"/>
              <a:chOff x="3411000" y="4328280"/>
              <a:chExt cx="1378800" cy="1305720"/>
            </a:xfrm>
          </p:grpSpPr>
          <p:sp>
            <p:nvSpPr>
              <p:cNvPr id="393" name="Arc 43"/>
              <p:cNvSpPr/>
              <p:nvPr/>
            </p:nvSpPr>
            <p:spPr>
              <a:xfrm flipV="1" rot="3380400">
                <a:off x="3737880" y="4368240"/>
                <a:ext cx="725040" cy="11739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Rectangle 44"/>
              <p:cNvSpPr/>
              <p:nvPr/>
            </p:nvSpPr>
            <p:spPr>
              <a:xfrm>
                <a:off x="3472560" y="4429800"/>
                <a:ext cx="407160" cy="384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b13f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TradeGothic LT Bold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Oval 45"/>
              <p:cNvSpPr/>
              <p:nvPr/>
            </p:nvSpPr>
            <p:spPr>
              <a:xfrm>
                <a:off x="4186800" y="5164560"/>
                <a:ext cx="476640" cy="469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TradeGothic LT Bold"/>
                  </a:rPr>
                  <a:t>X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Line 46"/>
            <p:cNvSpPr/>
            <p:nvPr/>
          </p:nvSpPr>
          <p:spPr>
            <a:xfrm>
              <a:off x="6201000" y="5537160"/>
              <a:ext cx="739800" cy="40860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7"/>
            <p:cNvSpPr/>
            <p:nvPr/>
          </p:nvSpPr>
          <p:spPr>
            <a:xfrm>
              <a:off x="6162480" y="5852520"/>
              <a:ext cx="1981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50"/>
                  </a:solidFill>
                  <a:latin typeface="Arial"/>
                </a:rPr>
                <a:t>Formação do Coágul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Group 48"/>
            <p:cNvGrpSpPr/>
            <p:nvPr/>
          </p:nvGrpSpPr>
          <p:grpSpPr>
            <a:xfrm>
              <a:off x="1374840" y="3729960"/>
              <a:ext cx="2249640" cy="2243520"/>
              <a:chOff x="1374840" y="3729960"/>
              <a:chExt cx="2249640" cy="2243520"/>
            </a:xfrm>
          </p:grpSpPr>
          <p:sp>
            <p:nvSpPr>
              <p:cNvPr id="399" name="AutoShape 49"/>
              <p:cNvSpPr/>
              <p:nvPr/>
            </p:nvSpPr>
            <p:spPr>
              <a:xfrm>
                <a:off x="3142080" y="5214960"/>
                <a:ext cx="482400" cy="35640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radeGothic LT Bold"/>
                  </a:rPr>
                  <a:t>VIII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0" name="Group 50"/>
              <p:cNvGrpSpPr/>
              <p:nvPr/>
            </p:nvGrpSpPr>
            <p:grpSpPr>
              <a:xfrm>
                <a:off x="1374840" y="3729960"/>
                <a:ext cx="2146680" cy="2243520"/>
                <a:chOff x="1374840" y="3729960"/>
                <a:chExt cx="2146680" cy="2243520"/>
              </a:xfrm>
            </p:grpSpPr>
            <p:sp>
              <p:nvSpPr>
                <p:cNvPr id="401" name="Rectangle 51"/>
                <p:cNvSpPr/>
                <p:nvPr/>
              </p:nvSpPr>
              <p:spPr>
                <a:xfrm>
                  <a:off x="1374840" y="5626800"/>
                  <a:ext cx="412560" cy="34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TradeGothic LT Bold"/>
                    </a:rPr>
                    <a:t>IX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52"/>
                <p:cNvSpPr/>
                <p:nvPr/>
              </p:nvSpPr>
              <p:spPr>
                <a:xfrm flipV="1" rot="20295000">
                  <a:off x="1575360" y="5199840"/>
                  <a:ext cx="1017360" cy="19296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3" name="Group 53"/>
                <p:cNvGrpSpPr/>
                <p:nvPr/>
              </p:nvGrpSpPr>
              <p:grpSpPr>
                <a:xfrm>
                  <a:off x="1926720" y="3729960"/>
                  <a:ext cx="1594800" cy="1834560"/>
                  <a:chOff x="1926720" y="3729960"/>
                  <a:chExt cx="1594800" cy="1834560"/>
                </a:xfrm>
              </p:grpSpPr>
              <p:sp>
                <p:nvSpPr>
                  <p:cNvPr id="404" name="Arc 54"/>
                  <p:cNvSpPr/>
                  <p:nvPr/>
                </p:nvSpPr>
                <p:spPr>
                  <a:xfrm flipH="1" rot="20274000">
                    <a:off x="2222280" y="3983400"/>
                    <a:ext cx="1135080" cy="218520"/>
                  </a:xfrm>
                  <a:prstGeom prst="pie">
                    <a:avLst/>
                  </a:prstGeom>
                  <a:noFill/>
                  <a:ln w="2844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Oval 55"/>
                  <p:cNvSpPr/>
                  <p:nvPr/>
                </p:nvSpPr>
                <p:spPr>
                  <a:xfrm>
                    <a:off x="1926720" y="4320720"/>
                    <a:ext cx="475200" cy="470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ffffff"/>
                        </a:solidFill>
                        <a:latin typeface="TradeGothic LT Bold"/>
                      </a:rPr>
                      <a:t>IXa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Oval 56"/>
                  <p:cNvSpPr/>
                  <p:nvPr/>
                </p:nvSpPr>
                <p:spPr>
                  <a:xfrm>
                    <a:off x="2660760" y="5095080"/>
                    <a:ext cx="476280" cy="469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ffffff"/>
                        </a:solidFill>
                        <a:latin typeface="TradeGothic LT Bold"/>
                      </a:rPr>
                      <a:t>IXa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Arc 57"/>
                  <p:cNvSpPr/>
                  <p:nvPr/>
                </p:nvSpPr>
                <p:spPr>
                  <a:xfrm flipH="1" rot="14653800">
                    <a:off x="2091960" y="4607280"/>
                    <a:ext cx="874440" cy="292680"/>
                  </a:xfrm>
                  <a:prstGeom prst="pie">
                    <a:avLst/>
                  </a:prstGeom>
                  <a:noFill/>
                  <a:ln w="28440">
                    <a:solidFill>
                      <a:srgbClr val="000000"/>
                    </a:solidFill>
                    <a:prstDash val="dash"/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Rectangle 58"/>
                  <p:cNvSpPr/>
                  <p:nvPr/>
                </p:nvSpPr>
                <p:spPr>
                  <a:xfrm>
                    <a:off x="3111840" y="3729960"/>
                    <a:ext cx="409680" cy="3848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radeGothic LT Bold"/>
                      </a:rPr>
                      <a:t>IX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09" name="Group 59"/>
            <p:cNvGrpSpPr/>
            <p:nvPr/>
          </p:nvGrpSpPr>
          <p:grpSpPr>
            <a:xfrm>
              <a:off x="2214360" y="3223800"/>
              <a:ext cx="5447520" cy="2873160"/>
              <a:chOff x="2214360" y="3223800"/>
              <a:chExt cx="5447520" cy="2873160"/>
            </a:xfrm>
          </p:grpSpPr>
          <p:sp>
            <p:nvSpPr>
              <p:cNvPr id="410" name="Oval 60"/>
              <p:cNvSpPr/>
              <p:nvPr/>
            </p:nvSpPr>
            <p:spPr>
              <a:xfrm>
                <a:off x="6771240" y="3223800"/>
                <a:ext cx="890640" cy="517320"/>
              </a:xfrm>
              <a:prstGeom prst="ellipse">
                <a:avLst/>
              </a:prstGeom>
              <a:solidFill>
                <a:srgbClr val="c6d46d"/>
              </a:solidFill>
              <a:ln w="9360">
                <a:solidFill>
                  <a:srgbClr val="b13f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TradeGothic LT Bold"/>
                  </a:rPr>
                  <a:t>Plaquet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AutoShape 61"/>
              <p:cNvSpPr/>
              <p:nvPr/>
            </p:nvSpPr>
            <p:spPr>
              <a:xfrm>
                <a:off x="2214360" y="5501520"/>
                <a:ext cx="3251880" cy="507240"/>
              </a:xfrm>
              <a:custGeom>
                <a:avLst/>
                <a:gdLst>
                  <a:gd name="textAreaLeft" fmla="*/ 650160 w 3251880"/>
                  <a:gd name="textAreaRight" fmla="*/ 3902400 w 3251880"/>
                  <a:gd name="textAreaTop" fmla="*/ 65520 h 507240"/>
                  <a:gd name="textAreaBottom" fmla="*/ 441720 h 50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320" y="1400"/>
                    </a:moveTo>
                    <a:cubicBezTo>
                      <a:pt x="9360" y="-3560"/>
                      <a:pt x="16560" y="6360"/>
                      <a:pt x="21600" y="1400"/>
                    </a:cubicBezTo>
                    <a:lnTo>
                      <a:pt x="17280" y="20200"/>
                    </a:lnTo>
                    <a:cubicBezTo>
                      <a:pt x="12240" y="25160"/>
                      <a:pt x="5040" y="15240"/>
                      <a:pt x="0" y="20200"/>
                    </a:cubicBezTo>
                    <a:close/>
                  </a:path>
                </a:pathLst>
              </a:custGeom>
              <a:solidFill>
                <a:srgbClr val="c6d46d"/>
              </a:solidFill>
              <a:ln w="9360">
                <a:solidFill>
                  <a:srgbClr val="b13f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adeGothic LT Bold"/>
                  </a:rPr>
                  <a:t>Plaqueta Ativad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62"/>
              <p:cNvSpPr/>
              <p:nvPr/>
            </p:nvSpPr>
            <p:spPr>
              <a:xfrm rot="427800">
                <a:off x="5369400" y="3698640"/>
                <a:ext cx="1673640" cy="230292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3" name="Line 63"/>
            <p:cNvSpPr/>
            <p:nvPr/>
          </p:nvSpPr>
          <p:spPr>
            <a:xfrm>
              <a:off x="5704560" y="2794680"/>
              <a:ext cx="1058400" cy="606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64"/>
            <p:cNvSpPr/>
            <p:nvPr/>
          </p:nvSpPr>
          <p:spPr>
            <a:xfrm>
              <a:off x="434160" y="3071160"/>
              <a:ext cx="126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50"/>
                  </a:solidFill>
                  <a:latin typeface="Arial"/>
                </a:rPr>
                <a:t>Iniciaç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65"/>
            <p:cNvSpPr/>
            <p:nvPr/>
          </p:nvSpPr>
          <p:spPr>
            <a:xfrm>
              <a:off x="7560" y="6050520"/>
              <a:ext cx="176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b050"/>
                  </a:solidFill>
                  <a:latin typeface="Arial"/>
                </a:rPr>
                <a:t>Amplificaç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73"/>
            <p:cNvSpPr/>
            <p:nvPr/>
          </p:nvSpPr>
          <p:spPr>
            <a:xfrm>
              <a:off x="5540760" y="4718880"/>
              <a:ext cx="163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b050"/>
                  </a:solidFill>
                  <a:latin typeface="Arial"/>
                </a:rPr>
                <a:t>Propagaç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Retângulo 77"/>
          <p:cNvSpPr/>
          <p:nvPr/>
        </p:nvSpPr>
        <p:spPr>
          <a:xfrm>
            <a:off x="4908600" y="6581880"/>
            <a:ext cx="330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rebuchet MS"/>
              </a:rPr>
              <a:t>Hoffman &amp; Munroe, Thromb Haemost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7"/>
          <p:cNvSpPr/>
          <p:nvPr/>
        </p:nvSpPr>
        <p:spPr>
          <a:xfrm>
            <a:off x="3059280" y="494172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0066"/>
                </a:solidFill>
                <a:latin typeface="Arial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68"/>
          <p:cNvSpPr/>
          <p:nvPr/>
        </p:nvSpPr>
        <p:spPr>
          <a:xfrm>
            <a:off x="1836720" y="414972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0066"/>
                </a:solidFill>
                <a:latin typeface="Arial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ítulo 1" descr=""/>
          <p:cNvPicPr/>
          <p:nvPr/>
        </p:nvPicPr>
        <p:blipFill>
          <a:blip r:embed="rId2"/>
          <a:stretch/>
        </p:blipFill>
        <p:spPr>
          <a:xfrm>
            <a:off x="585720" y="328680"/>
            <a:ext cx="8564760" cy="1176120"/>
          </a:xfrm>
          <a:prstGeom prst="rect">
            <a:avLst/>
          </a:prstGeom>
          <a:ln w="0">
            <a:noFill/>
          </a:ln>
        </p:spPr>
      </p:pic>
      <p:grpSp>
        <p:nvGrpSpPr>
          <p:cNvPr id="421" name="Group 3"/>
          <p:cNvGrpSpPr/>
          <p:nvPr/>
        </p:nvGrpSpPr>
        <p:grpSpPr>
          <a:xfrm>
            <a:off x="669960" y="1285920"/>
            <a:ext cx="7473960" cy="5270400"/>
            <a:chOff x="669960" y="1285920"/>
            <a:chExt cx="7473960" cy="5270400"/>
          </a:xfrm>
        </p:grpSpPr>
        <p:grpSp>
          <p:nvGrpSpPr>
            <p:cNvPr id="422" name="Group 4"/>
            <p:cNvGrpSpPr/>
            <p:nvPr/>
          </p:nvGrpSpPr>
          <p:grpSpPr>
            <a:xfrm>
              <a:off x="669960" y="1285920"/>
              <a:ext cx="6811560" cy="4021200"/>
              <a:chOff x="669960" y="1285920"/>
              <a:chExt cx="6811560" cy="4021200"/>
            </a:xfrm>
          </p:grpSpPr>
          <p:grpSp>
            <p:nvGrpSpPr>
              <p:cNvPr id="423" name="Group 5"/>
              <p:cNvGrpSpPr/>
              <p:nvPr/>
            </p:nvGrpSpPr>
            <p:grpSpPr>
              <a:xfrm>
                <a:off x="2449080" y="1443600"/>
                <a:ext cx="1519200" cy="1506960"/>
                <a:chOff x="2449080" y="1443600"/>
                <a:chExt cx="1519200" cy="1506960"/>
              </a:xfrm>
            </p:grpSpPr>
            <p:sp>
              <p:nvSpPr>
                <p:cNvPr id="424" name="Arc 6"/>
                <p:cNvSpPr/>
                <p:nvPr/>
              </p:nvSpPr>
              <p:spPr>
                <a:xfrm flipH="1" rot="14653800">
                  <a:off x="2584080" y="1857960"/>
                  <a:ext cx="1301400" cy="60732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Rectangle 7"/>
                <p:cNvSpPr/>
                <p:nvPr/>
              </p:nvSpPr>
              <p:spPr>
                <a:xfrm>
                  <a:off x="2449080" y="1842480"/>
                  <a:ext cx="407880" cy="3877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b13f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ffffff"/>
                      </a:solidFill>
                      <a:latin typeface="TradeGothic LT Bold"/>
                    </a:rPr>
                    <a:t>X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Oval 8"/>
                <p:cNvSpPr/>
                <p:nvPr/>
              </p:nvSpPr>
              <p:spPr>
                <a:xfrm>
                  <a:off x="3492000" y="2481120"/>
                  <a:ext cx="476280" cy="4694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ffffff"/>
                      </a:solidFill>
                      <a:latin typeface="TradeGothic LT Bold"/>
                    </a:rPr>
                    <a:t>X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7" name="Text Box 9"/>
              <p:cNvSpPr/>
              <p:nvPr/>
            </p:nvSpPr>
            <p:spPr>
              <a:xfrm>
                <a:off x="669960" y="3051720"/>
                <a:ext cx="16524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8" name="Group 10"/>
              <p:cNvGrpSpPr/>
              <p:nvPr/>
            </p:nvGrpSpPr>
            <p:grpSpPr>
              <a:xfrm>
                <a:off x="4124880" y="1401840"/>
                <a:ext cx="1631520" cy="1594800"/>
                <a:chOff x="4124880" y="1401840"/>
                <a:chExt cx="1631520" cy="1594800"/>
              </a:xfrm>
            </p:grpSpPr>
            <p:sp>
              <p:nvSpPr>
                <p:cNvPr id="429" name="Arc 11"/>
                <p:cNvSpPr/>
                <p:nvPr/>
              </p:nvSpPr>
              <p:spPr>
                <a:xfrm flipV="1" rot="3380400">
                  <a:off x="4359600" y="1612800"/>
                  <a:ext cx="1135080" cy="117252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Rectangle 12"/>
                <p:cNvSpPr/>
                <p:nvPr/>
              </p:nvSpPr>
              <p:spPr>
                <a:xfrm>
                  <a:off x="4132440" y="1509840"/>
                  <a:ext cx="406800" cy="3862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b13f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ffffff"/>
                      </a:solidFill>
                      <a:latin typeface="TradeGothic LT Bold"/>
                    </a:rPr>
                    <a:t>II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Oval 13"/>
                <p:cNvSpPr/>
                <p:nvPr/>
              </p:nvSpPr>
              <p:spPr>
                <a:xfrm>
                  <a:off x="5279400" y="2406600"/>
                  <a:ext cx="477000" cy="466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ffffff"/>
                      </a:solidFill>
                      <a:latin typeface="TradeGothic LT Bold"/>
                    </a:rPr>
                    <a:t>II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2" name="Group 14"/>
              <p:cNvGrpSpPr/>
              <p:nvPr/>
            </p:nvGrpSpPr>
            <p:grpSpPr>
              <a:xfrm>
                <a:off x="1789920" y="2550600"/>
                <a:ext cx="3321720" cy="1307160"/>
                <a:chOff x="1789920" y="2550600"/>
                <a:chExt cx="3321720" cy="1307160"/>
              </a:xfrm>
            </p:grpSpPr>
            <p:sp>
              <p:nvSpPr>
                <p:cNvPr id="433" name="AutoShape 15"/>
                <p:cNvSpPr/>
                <p:nvPr/>
              </p:nvSpPr>
              <p:spPr>
                <a:xfrm>
                  <a:off x="1789920" y="2972160"/>
                  <a:ext cx="3321720" cy="491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c0c0"/>
                </a:solidFill>
                <a:ln w="9360">
                  <a:solidFill>
                    <a:srgbClr val="b13f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radeGothic LT Bold"/>
                    </a:rPr>
                    <a:t>Célula com exposição de F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AutoShape 16"/>
                <p:cNvSpPr/>
                <p:nvPr/>
              </p:nvSpPr>
              <p:spPr>
                <a:xfrm>
                  <a:off x="2203920" y="2550600"/>
                  <a:ext cx="486360" cy="4003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99"/>
                </a:solidFill>
                <a:ln w="9360">
                  <a:solidFill>
                    <a:srgbClr val="d490c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radeGothic LT Bold"/>
                    </a:rPr>
                    <a:t>F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AutoShape 17"/>
                <p:cNvSpPr/>
                <p:nvPr/>
              </p:nvSpPr>
              <p:spPr>
                <a:xfrm>
                  <a:off x="1966320" y="3460320"/>
                  <a:ext cx="489600" cy="3974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99"/>
                </a:solidFill>
                <a:ln w="9360">
                  <a:solidFill>
                    <a:srgbClr val="d490c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radeGothic LT Bold"/>
                    </a:rPr>
                    <a:t>F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6" name="AutoShape 18"/>
              <p:cNvSpPr/>
              <p:nvPr/>
            </p:nvSpPr>
            <p:spPr>
              <a:xfrm>
                <a:off x="3973320" y="2608560"/>
                <a:ext cx="553680" cy="36108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radeGothic LT Bold"/>
                  </a:rPr>
                  <a:t>V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7" name="Group 19"/>
              <p:cNvGrpSpPr/>
              <p:nvPr/>
            </p:nvGrpSpPr>
            <p:grpSpPr>
              <a:xfrm>
                <a:off x="2466000" y="2481840"/>
                <a:ext cx="711360" cy="1462320"/>
                <a:chOff x="2466000" y="2481840"/>
                <a:chExt cx="711360" cy="1462320"/>
              </a:xfrm>
            </p:grpSpPr>
            <p:sp>
              <p:nvSpPr>
                <p:cNvPr id="438" name="Oval 20"/>
                <p:cNvSpPr/>
                <p:nvPr/>
              </p:nvSpPr>
              <p:spPr>
                <a:xfrm>
                  <a:off x="2705040" y="2481840"/>
                  <a:ext cx="472320" cy="469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ffffff"/>
                      </a:solidFill>
                      <a:latin typeface="TradeGothic LT Bold"/>
                    </a:rPr>
                    <a:t>VII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Oval 21"/>
                <p:cNvSpPr/>
                <p:nvPr/>
              </p:nvSpPr>
              <p:spPr>
                <a:xfrm>
                  <a:off x="2466000" y="3476160"/>
                  <a:ext cx="472320" cy="468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ffffff"/>
                      </a:solidFill>
                      <a:latin typeface="TradeGothic LT Bold"/>
                    </a:rPr>
                    <a:t>VII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0" name="Group 22"/>
              <p:cNvGrpSpPr/>
              <p:nvPr/>
            </p:nvGrpSpPr>
            <p:grpSpPr>
              <a:xfrm>
                <a:off x="5016600" y="2927520"/>
                <a:ext cx="1233360" cy="1088280"/>
                <a:chOff x="5016600" y="2927520"/>
                <a:chExt cx="1233360" cy="1088280"/>
              </a:xfrm>
            </p:grpSpPr>
            <p:sp>
              <p:nvSpPr>
                <p:cNvPr id="441" name="Line 23"/>
                <p:cNvSpPr/>
                <p:nvPr/>
              </p:nvSpPr>
              <p:spPr>
                <a:xfrm flipH="1">
                  <a:off x="5556960" y="2927520"/>
                  <a:ext cx="5760" cy="816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Line 24"/>
                <p:cNvSpPr/>
                <p:nvPr/>
              </p:nvSpPr>
              <p:spPr>
                <a:xfrm>
                  <a:off x="5182920" y="3832200"/>
                  <a:ext cx="51372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Rectangle 25"/>
                <p:cNvSpPr/>
                <p:nvPr/>
              </p:nvSpPr>
              <p:spPr>
                <a:xfrm>
                  <a:off x="5016600" y="3709800"/>
                  <a:ext cx="307080" cy="264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b13f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ffffff"/>
                      </a:solidFill>
                      <a:latin typeface="TradeGothic LT Bold"/>
                    </a:rPr>
                    <a:t>V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AutoShape 26"/>
                <p:cNvSpPr/>
                <p:nvPr/>
              </p:nvSpPr>
              <p:spPr>
                <a:xfrm>
                  <a:off x="5696640" y="3653640"/>
                  <a:ext cx="553320" cy="362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radeGothic LT Bold"/>
                    </a:rPr>
                    <a:t>V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5" name="Group 27"/>
              <p:cNvGrpSpPr/>
              <p:nvPr/>
            </p:nvGrpSpPr>
            <p:grpSpPr>
              <a:xfrm>
                <a:off x="5836320" y="2216520"/>
                <a:ext cx="1645200" cy="916560"/>
                <a:chOff x="5836320" y="2216520"/>
                <a:chExt cx="1645200" cy="916560"/>
              </a:xfrm>
            </p:grpSpPr>
            <p:sp>
              <p:nvSpPr>
                <p:cNvPr id="446" name="Text Box 28"/>
                <p:cNvSpPr/>
                <p:nvPr/>
              </p:nvSpPr>
              <p:spPr>
                <a:xfrm>
                  <a:off x="6302520" y="2216520"/>
                  <a:ext cx="1179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radeGothic LT Bold"/>
                    </a:rPr>
                    <a:t>VIII / VW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Line 29"/>
                <p:cNvSpPr/>
                <p:nvPr/>
              </p:nvSpPr>
              <p:spPr>
                <a:xfrm>
                  <a:off x="6994440" y="2509920"/>
                  <a:ext cx="1440" cy="236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Line 30"/>
                <p:cNvSpPr/>
                <p:nvPr/>
              </p:nvSpPr>
              <p:spPr>
                <a:xfrm>
                  <a:off x="5836320" y="2644920"/>
                  <a:ext cx="961920" cy="8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AutoShape 31"/>
                <p:cNvSpPr/>
                <p:nvPr/>
              </p:nvSpPr>
              <p:spPr>
                <a:xfrm>
                  <a:off x="6743880" y="2773440"/>
                  <a:ext cx="550800" cy="359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0000"/>
                </a:solidFill>
                <a:ln w="9360">
                  <a:solidFill>
                    <a:srgbClr val="b13f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radeGothic LT Bold"/>
                    </a:rPr>
                    <a:t>VIII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0" name="Group 32"/>
              <p:cNvGrpSpPr/>
              <p:nvPr/>
            </p:nvGrpSpPr>
            <p:grpSpPr>
              <a:xfrm>
                <a:off x="694080" y="1285920"/>
                <a:ext cx="4687920" cy="4021200"/>
                <a:chOff x="694080" y="1285920"/>
                <a:chExt cx="4687920" cy="4021200"/>
              </a:xfrm>
            </p:grpSpPr>
            <p:sp>
              <p:nvSpPr>
                <p:cNvPr id="451" name="Rectangle 33"/>
                <p:cNvSpPr/>
                <p:nvPr/>
              </p:nvSpPr>
              <p:spPr>
                <a:xfrm>
                  <a:off x="694080" y="4960080"/>
                  <a:ext cx="412560" cy="347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TradeGothic LT Bold"/>
                    </a:rPr>
                    <a:t>XI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Oval 34"/>
                <p:cNvSpPr/>
                <p:nvPr/>
              </p:nvSpPr>
              <p:spPr>
                <a:xfrm>
                  <a:off x="1491120" y="4910760"/>
                  <a:ext cx="452160" cy="3650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TradeGothic LT Bold"/>
                    </a:rPr>
                    <a:t>XI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Freeform 35"/>
                <p:cNvSpPr/>
                <p:nvPr/>
              </p:nvSpPr>
              <p:spPr>
                <a:xfrm>
                  <a:off x="1308600" y="1285920"/>
                  <a:ext cx="4073400" cy="333432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Freeform 36"/>
                <p:cNvSpPr/>
                <p:nvPr/>
              </p:nvSpPr>
              <p:spPr>
                <a:xfrm flipV="1" rot="21508200">
                  <a:off x="1019520" y="4741560"/>
                  <a:ext cx="634680" cy="13500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5" name="AutoShape 38"/>
            <p:cNvSpPr/>
            <p:nvPr/>
          </p:nvSpPr>
          <p:spPr>
            <a:xfrm>
              <a:off x="4643640" y="5287320"/>
              <a:ext cx="446760" cy="3610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adeGothic LT Bold"/>
                </a:rPr>
                <a:t>V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Arc 39"/>
            <p:cNvSpPr/>
            <p:nvPr/>
          </p:nvSpPr>
          <p:spPr>
            <a:xfrm flipV="1" rot="3380400">
              <a:off x="5310360" y="4548600"/>
              <a:ext cx="723240" cy="11739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40"/>
            <p:cNvSpPr/>
            <p:nvPr/>
          </p:nvSpPr>
          <p:spPr>
            <a:xfrm>
              <a:off x="5104800" y="4572000"/>
              <a:ext cx="680040" cy="71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b13f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800" spc="-1" strike="noStrike">
                  <a:solidFill>
                    <a:srgbClr val="e36406"/>
                  </a:solidFill>
                  <a:latin typeface="TradeGothic LT Bold"/>
                </a:rPr>
                <a:t>II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41"/>
            <p:cNvSpPr/>
            <p:nvPr/>
          </p:nvSpPr>
          <p:spPr>
            <a:xfrm>
              <a:off x="5731200" y="5233320"/>
              <a:ext cx="478080" cy="4708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e36406"/>
                  </a:solidFill>
                  <a:latin typeface="TradeGothic LT Bold"/>
                </a:rPr>
                <a:t>I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Group 42"/>
            <p:cNvGrpSpPr/>
            <p:nvPr/>
          </p:nvGrpSpPr>
          <p:grpSpPr>
            <a:xfrm>
              <a:off x="3411000" y="4327560"/>
              <a:ext cx="1516680" cy="1253880"/>
              <a:chOff x="3411000" y="4327560"/>
              <a:chExt cx="1516680" cy="1253880"/>
            </a:xfrm>
          </p:grpSpPr>
          <p:sp>
            <p:nvSpPr>
              <p:cNvPr id="460" name="Arc 43"/>
              <p:cNvSpPr/>
              <p:nvPr/>
            </p:nvSpPr>
            <p:spPr>
              <a:xfrm flipV="1" rot="3380400">
                <a:off x="3737520" y="4367160"/>
                <a:ext cx="725040" cy="117360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44"/>
              <p:cNvSpPr/>
              <p:nvPr/>
            </p:nvSpPr>
            <p:spPr>
              <a:xfrm>
                <a:off x="3472200" y="4429800"/>
                <a:ext cx="407160" cy="384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b13f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TradeGothic LT Bold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Oval 45"/>
              <p:cNvSpPr/>
              <p:nvPr/>
            </p:nvSpPr>
            <p:spPr>
              <a:xfrm>
                <a:off x="4071240" y="4498560"/>
                <a:ext cx="856440" cy="85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e36406"/>
                    </a:solidFill>
                    <a:latin typeface="TradeGothic LT Bold"/>
                  </a:rPr>
                  <a:t>X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3" name="Line 46"/>
            <p:cNvSpPr/>
            <p:nvPr/>
          </p:nvSpPr>
          <p:spPr>
            <a:xfrm>
              <a:off x="6201000" y="5537160"/>
              <a:ext cx="739800" cy="40860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47"/>
            <p:cNvSpPr/>
            <p:nvPr/>
          </p:nvSpPr>
          <p:spPr>
            <a:xfrm>
              <a:off x="6162480" y="5852520"/>
              <a:ext cx="1981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36406"/>
                  </a:solidFill>
                  <a:latin typeface="Arial"/>
                </a:rPr>
                <a:t>Formação do Coágul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" name="Group 48"/>
            <p:cNvGrpSpPr/>
            <p:nvPr/>
          </p:nvGrpSpPr>
          <p:grpSpPr>
            <a:xfrm>
              <a:off x="1374480" y="3729960"/>
              <a:ext cx="2249640" cy="2243520"/>
              <a:chOff x="1374480" y="3729960"/>
              <a:chExt cx="2249640" cy="2243520"/>
            </a:xfrm>
          </p:grpSpPr>
          <p:sp>
            <p:nvSpPr>
              <p:cNvPr id="466" name="AutoShape 49"/>
              <p:cNvSpPr/>
              <p:nvPr/>
            </p:nvSpPr>
            <p:spPr>
              <a:xfrm>
                <a:off x="3141720" y="5214960"/>
                <a:ext cx="482400" cy="35640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radeGothic LT Bold"/>
                  </a:rPr>
                  <a:t>VIII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7" name="Group 50"/>
              <p:cNvGrpSpPr/>
              <p:nvPr/>
            </p:nvGrpSpPr>
            <p:grpSpPr>
              <a:xfrm>
                <a:off x="1374480" y="3729960"/>
                <a:ext cx="2146680" cy="2243520"/>
                <a:chOff x="1374480" y="3729960"/>
                <a:chExt cx="2146680" cy="2243520"/>
              </a:xfrm>
            </p:grpSpPr>
            <p:sp>
              <p:nvSpPr>
                <p:cNvPr id="468" name="Rectangle 51"/>
                <p:cNvSpPr/>
                <p:nvPr/>
              </p:nvSpPr>
              <p:spPr>
                <a:xfrm>
                  <a:off x="1374480" y="5626800"/>
                  <a:ext cx="412560" cy="34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TradeGothic LT Bold"/>
                    </a:rPr>
                    <a:t>IX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Freeform 52"/>
                <p:cNvSpPr/>
                <p:nvPr/>
              </p:nvSpPr>
              <p:spPr>
                <a:xfrm flipV="1" rot="20295000">
                  <a:off x="1575000" y="5199840"/>
                  <a:ext cx="1017360" cy="19296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70" name="Group 53"/>
                <p:cNvGrpSpPr/>
                <p:nvPr/>
              </p:nvGrpSpPr>
              <p:grpSpPr>
                <a:xfrm>
                  <a:off x="1926360" y="3729960"/>
                  <a:ext cx="1594800" cy="1834560"/>
                  <a:chOff x="1926360" y="3729960"/>
                  <a:chExt cx="1594800" cy="1834560"/>
                </a:xfrm>
              </p:grpSpPr>
              <p:sp>
                <p:nvSpPr>
                  <p:cNvPr id="471" name="Arc 54"/>
                  <p:cNvSpPr/>
                  <p:nvPr/>
                </p:nvSpPr>
                <p:spPr>
                  <a:xfrm flipH="1" rot="20274000">
                    <a:off x="2221920" y="3983400"/>
                    <a:ext cx="1135080" cy="218520"/>
                  </a:xfrm>
                  <a:prstGeom prst="pie">
                    <a:avLst/>
                  </a:prstGeom>
                  <a:noFill/>
                  <a:ln w="2844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Oval 55"/>
                  <p:cNvSpPr/>
                  <p:nvPr/>
                </p:nvSpPr>
                <p:spPr>
                  <a:xfrm>
                    <a:off x="1926360" y="4320720"/>
                    <a:ext cx="475200" cy="470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ffffff"/>
                        </a:solidFill>
                        <a:latin typeface="TradeGothic LT Bold"/>
                      </a:rPr>
                      <a:t>IXa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Oval 56"/>
                  <p:cNvSpPr/>
                  <p:nvPr/>
                </p:nvSpPr>
                <p:spPr>
                  <a:xfrm>
                    <a:off x="2660400" y="5095080"/>
                    <a:ext cx="476280" cy="469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ffffff"/>
                        </a:solidFill>
                        <a:latin typeface="TradeGothic LT Bold"/>
                      </a:rPr>
                      <a:t>IXa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Arc 57"/>
                  <p:cNvSpPr/>
                  <p:nvPr/>
                </p:nvSpPr>
                <p:spPr>
                  <a:xfrm flipH="1" rot="14653800">
                    <a:off x="2091600" y="4607280"/>
                    <a:ext cx="874440" cy="292680"/>
                  </a:xfrm>
                  <a:prstGeom prst="pie">
                    <a:avLst/>
                  </a:prstGeom>
                  <a:noFill/>
                  <a:ln w="28440">
                    <a:solidFill>
                      <a:srgbClr val="000000"/>
                    </a:solidFill>
                    <a:prstDash val="dash"/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Rectangle 58"/>
                  <p:cNvSpPr/>
                  <p:nvPr/>
                </p:nvSpPr>
                <p:spPr>
                  <a:xfrm>
                    <a:off x="3111480" y="3729960"/>
                    <a:ext cx="409680" cy="3848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radeGothic LT Bold"/>
                      </a:rPr>
                      <a:t>IX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76" name="Group 59"/>
            <p:cNvGrpSpPr/>
            <p:nvPr/>
          </p:nvGrpSpPr>
          <p:grpSpPr>
            <a:xfrm>
              <a:off x="2214360" y="3223800"/>
              <a:ext cx="5447880" cy="2873160"/>
              <a:chOff x="2214360" y="3223800"/>
              <a:chExt cx="5447880" cy="2873160"/>
            </a:xfrm>
          </p:grpSpPr>
          <p:sp>
            <p:nvSpPr>
              <p:cNvPr id="477" name="Oval 60"/>
              <p:cNvSpPr/>
              <p:nvPr/>
            </p:nvSpPr>
            <p:spPr>
              <a:xfrm>
                <a:off x="6771600" y="3223800"/>
                <a:ext cx="890640" cy="517320"/>
              </a:xfrm>
              <a:prstGeom prst="ellipse">
                <a:avLst/>
              </a:prstGeom>
              <a:solidFill>
                <a:srgbClr val="c6d46d"/>
              </a:solidFill>
              <a:ln w="9360">
                <a:solidFill>
                  <a:srgbClr val="b13f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TradeGothic LT Bold"/>
                  </a:rPr>
                  <a:t>Plaquet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AutoShape 61"/>
              <p:cNvSpPr/>
              <p:nvPr/>
            </p:nvSpPr>
            <p:spPr>
              <a:xfrm>
                <a:off x="2214360" y="5501520"/>
                <a:ext cx="3251880" cy="507240"/>
              </a:xfrm>
              <a:custGeom>
                <a:avLst/>
                <a:gdLst>
                  <a:gd name="textAreaLeft" fmla="*/ 650160 w 3251880"/>
                  <a:gd name="textAreaRight" fmla="*/ 3902400 w 3251880"/>
                  <a:gd name="textAreaTop" fmla="*/ 65520 h 507240"/>
                  <a:gd name="textAreaBottom" fmla="*/ 441720 h 50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320" y="1400"/>
                    </a:moveTo>
                    <a:cubicBezTo>
                      <a:pt x="9360" y="-3560"/>
                      <a:pt x="16560" y="6360"/>
                      <a:pt x="21600" y="1400"/>
                    </a:cubicBezTo>
                    <a:lnTo>
                      <a:pt x="17280" y="20200"/>
                    </a:lnTo>
                    <a:cubicBezTo>
                      <a:pt x="12240" y="25160"/>
                      <a:pt x="5040" y="15240"/>
                      <a:pt x="0" y="20200"/>
                    </a:cubicBezTo>
                    <a:close/>
                  </a:path>
                </a:pathLst>
              </a:custGeom>
              <a:solidFill>
                <a:srgbClr val="c6d46d"/>
              </a:solidFill>
              <a:ln w="9360">
                <a:solidFill>
                  <a:srgbClr val="b13f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adeGothic LT Bold"/>
                  </a:rPr>
                  <a:t>Plaqueta Ativad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62"/>
              <p:cNvSpPr/>
              <p:nvPr/>
            </p:nvSpPr>
            <p:spPr>
              <a:xfrm rot="427800">
                <a:off x="5369400" y="3698640"/>
                <a:ext cx="1673640" cy="230292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0" name="Line 63"/>
            <p:cNvSpPr/>
            <p:nvPr/>
          </p:nvSpPr>
          <p:spPr>
            <a:xfrm>
              <a:off x="5704200" y="2794680"/>
              <a:ext cx="1058400" cy="606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Oval 45"/>
          <p:cNvSpPr/>
          <p:nvPr/>
        </p:nvSpPr>
        <p:spPr>
          <a:xfrm>
            <a:off x="2714760" y="4572000"/>
            <a:ext cx="1143000" cy="928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e36406"/>
                </a:solidFill>
                <a:latin typeface="TradeGothic LT Bold"/>
              </a:rPr>
              <a:t>VI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45"/>
          <p:cNvSpPr/>
          <p:nvPr/>
        </p:nvSpPr>
        <p:spPr>
          <a:xfrm>
            <a:off x="2000160" y="5786280"/>
            <a:ext cx="857520" cy="857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e36406"/>
                </a:solidFill>
                <a:latin typeface="TradeGothic LT Bold"/>
              </a:rPr>
              <a:t>VI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45"/>
          <p:cNvSpPr/>
          <p:nvPr/>
        </p:nvSpPr>
        <p:spPr>
          <a:xfrm>
            <a:off x="3492360" y="3933720"/>
            <a:ext cx="857520" cy="857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e36406"/>
                </a:solidFill>
                <a:latin typeface="TradeGothic LT Bold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4" name="Conector de seta reta 84"/>
          <p:cNvCxnSpPr>
            <a:stCxn id="482" idx="0"/>
            <a:endCxn id="481" idx="3"/>
          </p:cNvCxnSpPr>
          <p:nvPr/>
        </p:nvCxnSpPr>
        <p:spPr>
          <a:xfrm flipV="1">
            <a:off x="2427840" y="5363280"/>
            <a:ext cx="453240" cy="423000"/>
          </a:xfrm>
          <a:prstGeom prst="straightConnector1">
            <a:avLst/>
          </a:prstGeom>
          <a:ln w="38160">
            <a:solidFill>
              <a:srgbClr val="df9307"/>
            </a:solidFill>
            <a:miter/>
            <a:tailEnd len="med" type="triangle" w="med"/>
          </a:ln>
        </p:spPr>
      </p:cxnSp>
      <p:sp>
        <p:nvSpPr>
          <p:cNvPr id="485" name="CaixaDeTexto 86"/>
          <p:cNvSpPr/>
          <p:nvPr/>
        </p:nvSpPr>
        <p:spPr>
          <a:xfrm>
            <a:off x="5429160" y="6572160"/>
            <a:ext cx="3286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Trebuchet MS"/>
              </a:rPr>
              <a:t>Hoffman &amp; Munroe, Thromb Haemost 200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Título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Fator VIIa recombinant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Mecanismo não completamente conhecido: atua de forma dependente do FT ou age no local de dano tissular através de ligação a plaquetas ativada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Níveis suprafisiológicos de rFVIIa para a geração de trombina na superfície plaquetária (ativação do Fator X independente do FT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eficácia: 65-90%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risco TEV/IAM/CIVD é rar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uso concomitante de antifibrinolítico pode ser segur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Dose: 90 -120 mcg/kg a cada 2,3,4 ou 6h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Reavaliações periódicas para definir interval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sem testes de monitorament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pull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Título 1" descr=""/>
          <p:cNvPicPr/>
          <p:nvPr/>
        </p:nvPicPr>
        <p:blipFill>
          <a:blip r:embed="rId1"/>
          <a:stretch/>
        </p:blipFill>
        <p:spPr>
          <a:xfrm>
            <a:off x="212760" y="182520"/>
            <a:ext cx="7493040" cy="128592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 txBox="1"/>
          <p:nvPr/>
        </p:nvSpPr>
        <p:spPr>
          <a:xfrm>
            <a:off x="395280" y="9075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0" name="Fluxograma: Processo 3"/>
          <p:cNvSpPr/>
          <p:nvPr/>
        </p:nvSpPr>
        <p:spPr>
          <a:xfrm>
            <a:off x="1643040" y="1357200"/>
            <a:ext cx="2214720" cy="785880"/>
          </a:xfrm>
          <a:prstGeom prst="flowChartProcess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ff"/>
                </a:solidFill>
                <a:latin typeface="Trebuchet MS"/>
              </a:rPr>
              <a:t>Hemorragia leve o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ff"/>
                </a:solidFill>
                <a:latin typeface="Trebuchet MS"/>
              </a:rPr>
              <a:t>moderad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luxograma: Processo 4"/>
          <p:cNvSpPr/>
          <p:nvPr/>
        </p:nvSpPr>
        <p:spPr>
          <a:xfrm>
            <a:off x="4786200" y="1357200"/>
            <a:ext cx="2357640" cy="785880"/>
          </a:xfrm>
          <a:prstGeom prst="flowChartProcess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ff"/>
                </a:solidFill>
                <a:latin typeface="Trebuchet MS"/>
              </a:rPr>
              <a:t>Hemorragia grave; cirurgia de médio e grande por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luxograma: Processo 12"/>
          <p:cNvSpPr/>
          <p:nvPr/>
        </p:nvSpPr>
        <p:spPr>
          <a:xfrm>
            <a:off x="3357720" y="4214880"/>
            <a:ext cx="1933560" cy="642960"/>
          </a:xfrm>
          <a:prstGeom prst="flowChartProcess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rebuchet MS"/>
              </a:rPr>
              <a:t>CCPA ou FVIIa-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luxograma: Processo 14"/>
          <p:cNvSpPr/>
          <p:nvPr/>
        </p:nvSpPr>
        <p:spPr>
          <a:xfrm>
            <a:off x="928800" y="5429160"/>
            <a:ext cx="1790640" cy="642960"/>
          </a:xfrm>
          <a:prstGeom prst="flowChartProcess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rebuchet MS"/>
              </a:rPr>
              <a:t>*</a:t>
            </a:r>
            <a:r>
              <a:rPr b="1" lang="pt-BR" sz="1800" spc="-1" strike="noStrike">
                <a:solidFill>
                  <a:srgbClr val="ffffff"/>
                </a:solidFill>
                <a:latin typeface="Trebuchet MS"/>
              </a:rPr>
              <a:t>CCPA ou FVIIa-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luxograma: Processo 15"/>
          <p:cNvSpPr/>
          <p:nvPr/>
        </p:nvSpPr>
        <p:spPr>
          <a:xfrm>
            <a:off x="928800" y="4214880"/>
            <a:ext cx="1790640" cy="642960"/>
          </a:xfrm>
          <a:prstGeom prst="flowChartProcess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rebuchet MS"/>
              </a:rPr>
              <a:t>FVIII 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luxograma: Processo 16"/>
          <p:cNvSpPr/>
          <p:nvPr/>
        </p:nvSpPr>
        <p:spPr>
          <a:xfrm>
            <a:off x="6012000" y="5445000"/>
            <a:ext cx="2016000" cy="642960"/>
          </a:xfrm>
          <a:prstGeom prst="flowChartProcess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rebuchet MS"/>
              </a:rPr>
              <a:t>*</a:t>
            </a:r>
            <a:r>
              <a:rPr b="1" lang="pt-BR" sz="1800" spc="-1" strike="noStrike">
                <a:solidFill>
                  <a:srgbClr val="ffffff"/>
                </a:solidFill>
                <a:latin typeface="Trebuchet MS"/>
              </a:rPr>
              <a:t>CCPA ou FVIIa-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luxograma: Processo 17"/>
          <p:cNvSpPr/>
          <p:nvPr/>
        </p:nvSpPr>
        <p:spPr>
          <a:xfrm>
            <a:off x="6072120" y="4214880"/>
            <a:ext cx="1790640" cy="642960"/>
          </a:xfrm>
          <a:prstGeom prst="flowChartProcess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rebuchet MS"/>
              </a:rPr>
              <a:t>FVIII 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luxograma: Processo 18"/>
          <p:cNvSpPr/>
          <p:nvPr/>
        </p:nvSpPr>
        <p:spPr>
          <a:xfrm>
            <a:off x="6072120" y="2928960"/>
            <a:ext cx="1790640" cy="642960"/>
          </a:xfrm>
          <a:prstGeom prst="flowChartProcess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rebuchet MS"/>
              </a:rPr>
              <a:t>Inibidor ≤ 5UB/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luxograma: Processo 19"/>
          <p:cNvSpPr/>
          <p:nvPr/>
        </p:nvSpPr>
        <p:spPr>
          <a:xfrm>
            <a:off x="928800" y="2857680"/>
            <a:ext cx="1790640" cy="642600"/>
          </a:xfrm>
          <a:prstGeom prst="flowChartProcess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rebuchet MS"/>
              </a:rPr>
              <a:t>Inibidor ≤ 5UB/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luxograma: Processo 20"/>
          <p:cNvSpPr/>
          <p:nvPr/>
        </p:nvSpPr>
        <p:spPr>
          <a:xfrm>
            <a:off x="3429000" y="2857680"/>
            <a:ext cx="1790640" cy="642600"/>
          </a:xfrm>
          <a:prstGeom prst="flowChartProcess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rebuchet MS"/>
              </a:rPr>
              <a:t>Inibidor &gt;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rebuchet MS"/>
              </a:rPr>
              <a:t>UB/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0" name="Conector de seta reta 29"/>
          <p:cNvCxnSpPr/>
          <p:nvPr/>
        </p:nvCxnSpPr>
        <p:spPr>
          <a:xfrm flipH="1">
            <a:off x="4285440" y="3571560"/>
            <a:ext cx="2520" cy="57204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501" name="Conector de seta reta 31"/>
          <p:cNvCxnSpPr>
            <a:stCxn id="494" idx="2"/>
            <a:endCxn id="493" idx="0"/>
          </p:cNvCxnSpPr>
          <p:nvPr/>
        </p:nvCxnSpPr>
        <p:spPr>
          <a:xfrm flipH="1">
            <a:off x="1821600" y="4859280"/>
            <a:ext cx="2520" cy="57240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502" name="Conector de seta reta 33"/>
          <p:cNvCxnSpPr/>
          <p:nvPr/>
        </p:nvCxnSpPr>
        <p:spPr>
          <a:xfrm flipH="1">
            <a:off x="1785600" y="3500280"/>
            <a:ext cx="2160" cy="64332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503" name="Conector de seta reta 37"/>
          <p:cNvCxnSpPr/>
          <p:nvPr/>
        </p:nvCxnSpPr>
        <p:spPr>
          <a:xfrm>
            <a:off x="3071880" y="2214360"/>
            <a:ext cx="1000800" cy="57204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504" name="Conector de seta reta 39"/>
          <p:cNvCxnSpPr/>
          <p:nvPr/>
        </p:nvCxnSpPr>
        <p:spPr>
          <a:xfrm flipH="1">
            <a:off x="2142720" y="2213640"/>
            <a:ext cx="929520" cy="50076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505" name="Conector de seta reta 41"/>
          <p:cNvCxnSpPr/>
          <p:nvPr/>
        </p:nvCxnSpPr>
        <p:spPr>
          <a:xfrm flipH="1">
            <a:off x="4857480" y="2213640"/>
            <a:ext cx="1000800" cy="57204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506" name="Conector de seta reta 43"/>
          <p:cNvCxnSpPr/>
          <p:nvPr/>
        </p:nvCxnSpPr>
        <p:spPr>
          <a:xfrm>
            <a:off x="5857560" y="2214360"/>
            <a:ext cx="1143720" cy="57204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507" name="Conector de seta reta 45"/>
          <p:cNvCxnSpPr/>
          <p:nvPr/>
        </p:nvCxnSpPr>
        <p:spPr>
          <a:xfrm flipH="1">
            <a:off x="7000560" y="3645000"/>
            <a:ext cx="2160" cy="49896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508" name="Conector de seta reta 49"/>
          <p:cNvCxnSpPr/>
          <p:nvPr/>
        </p:nvCxnSpPr>
        <p:spPr>
          <a:xfrm flipH="1">
            <a:off x="7000560" y="4930560"/>
            <a:ext cx="2160" cy="50076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sp>
        <p:nvSpPr>
          <p:cNvPr id="509" name="CaixaDeTexto 51"/>
          <p:cNvSpPr/>
          <p:nvPr/>
        </p:nvSpPr>
        <p:spPr>
          <a:xfrm>
            <a:off x="357120" y="6211800"/>
            <a:ext cx="74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*Se houver piora dor/disfunção ou FVIII&lt;30-40% 1h após infu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**Caso boa resposta conhecida a algum produto, optar 1ª op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Título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FVIII altas doses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Dose dobrada ou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Dose inicial neutralizante (título inibidor x volume plasmático) + dose incrementante (30-100UI/kg) e manutenção 50-100UI/kg 12/12h ou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Bolo inicial de 50-100UI/kg seguida de infusão contínua 5UI/kg/h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pull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Título 1" descr=""/>
          <p:cNvPicPr/>
          <p:nvPr/>
        </p:nvPicPr>
        <p:blipFill>
          <a:blip r:embed="rId1"/>
          <a:stretch/>
        </p:blipFill>
        <p:spPr>
          <a:xfrm>
            <a:off x="212760" y="182520"/>
            <a:ext cx="7493040" cy="128592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 txBox="1"/>
          <p:nvPr/>
        </p:nvSpPr>
        <p:spPr>
          <a:xfrm>
            <a:off x="395280" y="9075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4" name="Fluxograma: Processo 3"/>
          <p:cNvSpPr/>
          <p:nvPr/>
        </p:nvSpPr>
        <p:spPr>
          <a:xfrm>
            <a:off x="1857240" y="1357200"/>
            <a:ext cx="2214720" cy="785880"/>
          </a:xfrm>
          <a:prstGeom prst="flowChartProcess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rebuchet MS"/>
              </a:rPr>
              <a:t>Sem história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rebuchet MS"/>
              </a:rPr>
              <a:t>reação alér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luxograma: Processo 4"/>
          <p:cNvSpPr/>
          <p:nvPr/>
        </p:nvSpPr>
        <p:spPr>
          <a:xfrm>
            <a:off x="5429160" y="1357200"/>
            <a:ext cx="2357640" cy="785880"/>
          </a:xfrm>
          <a:prstGeom prst="flowChartProcess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rebuchet MS"/>
              </a:rPr>
              <a:t>Com história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rebuchet MS"/>
              </a:rPr>
              <a:t>reação alér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luxograma: Processo 12"/>
          <p:cNvSpPr/>
          <p:nvPr/>
        </p:nvSpPr>
        <p:spPr>
          <a:xfrm>
            <a:off x="3357720" y="4214880"/>
            <a:ext cx="1933560" cy="642960"/>
          </a:xfrm>
          <a:prstGeom prst="flowChartProcess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rebuchet MS"/>
              </a:rPr>
              <a:t>CCPA ou FVIIa-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luxograma: Processo 14"/>
          <p:cNvSpPr/>
          <p:nvPr/>
        </p:nvSpPr>
        <p:spPr>
          <a:xfrm>
            <a:off x="928800" y="5429160"/>
            <a:ext cx="1790640" cy="642960"/>
          </a:xfrm>
          <a:prstGeom prst="flowChartProcess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rebuchet MS"/>
              </a:rPr>
              <a:t>*</a:t>
            </a:r>
            <a:r>
              <a:rPr b="1" lang="pt-BR" sz="1800" spc="-1" strike="noStrike">
                <a:solidFill>
                  <a:srgbClr val="ffffff"/>
                </a:solidFill>
                <a:latin typeface="Trebuchet MS"/>
              </a:rPr>
              <a:t>CCPA ou FVIIa-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luxograma: Processo 15"/>
          <p:cNvSpPr/>
          <p:nvPr/>
        </p:nvSpPr>
        <p:spPr>
          <a:xfrm>
            <a:off x="928800" y="4214880"/>
            <a:ext cx="1790640" cy="642960"/>
          </a:xfrm>
          <a:prstGeom prst="flowChartProcess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rebuchet MS"/>
              </a:rPr>
              <a:t>FIX 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luxograma: Processo 16"/>
          <p:cNvSpPr/>
          <p:nvPr/>
        </p:nvSpPr>
        <p:spPr>
          <a:xfrm>
            <a:off x="5857920" y="4214880"/>
            <a:ext cx="1933560" cy="642960"/>
          </a:xfrm>
          <a:prstGeom prst="flowChartProcess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rebuchet MS"/>
              </a:rPr>
              <a:t>FVIIa-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luxograma: Processo 18"/>
          <p:cNvSpPr/>
          <p:nvPr/>
        </p:nvSpPr>
        <p:spPr>
          <a:xfrm>
            <a:off x="5929200" y="2928960"/>
            <a:ext cx="1790640" cy="642960"/>
          </a:xfrm>
          <a:prstGeom prst="flowChartProcess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rebuchet MS"/>
              </a:rPr>
              <a:t>Qualquer título de inibi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luxograma: Processo 19"/>
          <p:cNvSpPr/>
          <p:nvPr/>
        </p:nvSpPr>
        <p:spPr>
          <a:xfrm>
            <a:off x="928800" y="2857680"/>
            <a:ext cx="1790640" cy="642600"/>
          </a:xfrm>
          <a:prstGeom prst="flowChartProcess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rebuchet MS"/>
              </a:rPr>
              <a:t>Inibidor ≤ 5UB/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luxograma: Processo 20"/>
          <p:cNvSpPr/>
          <p:nvPr/>
        </p:nvSpPr>
        <p:spPr>
          <a:xfrm>
            <a:off x="3429000" y="2857680"/>
            <a:ext cx="1790640" cy="714240"/>
          </a:xfrm>
          <a:prstGeom prst="flowChartProcess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rebuchet MS"/>
              </a:rPr>
              <a:t>Inibidor &gt;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rebuchet MS"/>
              </a:rPr>
              <a:t>UB/ml ou sg/o gr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3" name="Conector de seta reta 29"/>
          <p:cNvCxnSpPr/>
          <p:nvPr/>
        </p:nvCxnSpPr>
        <p:spPr>
          <a:xfrm flipH="1">
            <a:off x="4284360" y="3644640"/>
            <a:ext cx="2160" cy="50076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524" name="Conector de seta reta 31"/>
          <p:cNvCxnSpPr>
            <a:stCxn id="518" idx="2"/>
            <a:endCxn id="517" idx="0"/>
          </p:cNvCxnSpPr>
          <p:nvPr/>
        </p:nvCxnSpPr>
        <p:spPr>
          <a:xfrm flipH="1">
            <a:off x="1821600" y="4859280"/>
            <a:ext cx="2520" cy="57240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525" name="Conector de seta reta 33"/>
          <p:cNvCxnSpPr/>
          <p:nvPr/>
        </p:nvCxnSpPr>
        <p:spPr>
          <a:xfrm flipH="1">
            <a:off x="1785600" y="3500280"/>
            <a:ext cx="2160" cy="64332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526" name="Conector de seta reta 37"/>
          <p:cNvCxnSpPr/>
          <p:nvPr/>
        </p:nvCxnSpPr>
        <p:spPr>
          <a:xfrm>
            <a:off x="3071880" y="2214360"/>
            <a:ext cx="1000800" cy="57204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527" name="Conector de seta reta 39"/>
          <p:cNvCxnSpPr/>
          <p:nvPr/>
        </p:nvCxnSpPr>
        <p:spPr>
          <a:xfrm flipH="1">
            <a:off x="2142720" y="2213640"/>
            <a:ext cx="929520" cy="50076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528" name="Conector de seta reta 45"/>
          <p:cNvCxnSpPr/>
          <p:nvPr/>
        </p:nvCxnSpPr>
        <p:spPr>
          <a:xfrm flipH="1">
            <a:off x="6857640" y="3642840"/>
            <a:ext cx="2160" cy="50076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sp>
        <p:nvSpPr>
          <p:cNvPr id="529" name="CaixaDeTexto 51"/>
          <p:cNvSpPr/>
          <p:nvPr/>
        </p:nvSpPr>
        <p:spPr>
          <a:xfrm>
            <a:off x="357120" y="6211800"/>
            <a:ext cx="74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*Se houver piora dor/disfun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**Caso boa resposta conhecida a algum produto, optar 1ª op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0" name="Conector de seta reta 25"/>
          <p:cNvCxnSpPr/>
          <p:nvPr/>
        </p:nvCxnSpPr>
        <p:spPr>
          <a:xfrm flipH="1">
            <a:off x="6857640" y="2214360"/>
            <a:ext cx="2160" cy="57204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</p:spTree>
  </p:cSld>
  <p:transition spd="med">
    <p:pull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Título 1" descr=""/>
          <p:cNvPicPr/>
          <p:nvPr/>
        </p:nvPicPr>
        <p:blipFill>
          <a:blip r:embed="rId1"/>
          <a:stretch/>
        </p:blipFill>
        <p:spPr>
          <a:xfrm>
            <a:off x="212760" y="182520"/>
            <a:ext cx="7493040" cy="128592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FIX altas doses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Se sangramento leve/moderado: iniciar 100-200UI/kg seguido de 50-100 UI/kg a cada 12 ou 24h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*  </a:t>
            </a: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Na impossibilidade de rFVIIa em pctes com reação alérgica, usar hemoderivados contendo FIX em regime de internação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pull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Título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Indução dos Linfócitos T regulatórios - altos níveis de IL-10 e TGF-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 diminuindo a formação de inibidores anti FVIII e FIX (padrão th1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Indução de anticorpos neutralizante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Indução de apoptose de células T clonais – th2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Melhor opção a logo prazo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pull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Título 1" descr=""/>
          <p:cNvPicPr/>
          <p:nvPr/>
        </p:nvPicPr>
        <p:blipFill>
          <a:blip r:embed="rId1"/>
          <a:stretch/>
        </p:blipFill>
        <p:spPr>
          <a:xfrm>
            <a:off x="274680" y="317520"/>
            <a:ext cx="7729560" cy="115092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Idad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t entre diagnóstico do inibidor e início da I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Tipo de concentrado de fator VIII (pureza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Título de inibidor pré I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ico histórico do título do inibido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ico do título do inibidor durante a I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ose de fator VIII utilizada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Nenhum estudo randomizado controlado concluíd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ítulo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547040" cy="11764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Inib2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285840" y="1500120"/>
            <a:ext cx="7143840" cy="4714920"/>
          </a:xfrm>
          <a:prstGeom prst="rect">
            <a:avLst/>
          </a:prstGeom>
          <a:ln w="0">
            <a:noFill/>
          </a:ln>
        </p:spPr>
      </p:pic>
      <p:sp>
        <p:nvSpPr>
          <p:cNvPr id="235" name="CaixaDeTexto 5"/>
          <p:cNvSpPr/>
          <p:nvPr/>
        </p:nvSpPr>
        <p:spPr>
          <a:xfrm>
            <a:off x="4071960" y="6242040"/>
            <a:ext cx="428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Haemophilia 2006; 12(suppl.3):52-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Conector reto 7"/>
          <p:cNvSpPr/>
          <p:nvPr/>
        </p:nvSpPr>
        <p:spPr>
          <a:xfrm>
            <a:off x="5143680" y="4857840"/>
            <a:ext cx="285480" cy="1440"/>
          </a:xfrm>
          <a:prstGeom prst="line">
            <a:avLst/>
          </a:prstGeom>
          <a:ln w="1152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7" name="Object 2"/>
          <p:cNvGraphicFramePr/>
          <p:nvPr/>
        </p:nvGraphicFramePr>
        <p:xfrm>
          <a:off x="785880" y="857160"/>
          <a:ext cx="63579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857160"/>
                    <a:ext cx="63579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Rectangle 3"/>
          <p:cNvSpPr/>
          <p:nvPr/>
        </p:nvSpPr>
        <p:spPr>
          <a:xfrm>
            <a:off x="4323600" y="6072120"/>
            <a:ext cx="36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DIMICHELE, D.</a:t>
            </a:r>
            <a:r>
              <a:rPr b="0" i="1" lang="pt-BR" sz="1800" spc="-1" strike="noStrike">
                <a:solidFill>
                  <a:srgbClr val="000000"/>
                </a:solidFill>
                <a:latin typeface="Tahoma"/>
              </a:rPr>
              <a:t> Haemophilia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0" name="Object 2"/>
          <p:cNvGraphicFramePr/>
          <p:nvPr/>
        </p:nvGraphicFramePr>
        <p:xfrm>
          <a:off x="214200" y="785880"/>
          <a:ext cx="8764560" cy="40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785880"/>
                    <a:ext cx="8764560" cy="40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2" name="Text Box 3"/>
          <p:cNvSpPr/>
          <p:nvPr/>
        </p:nvSpPr>
        <p:spPr>
          <a:xfrm>
            <a:off x="4323600" y="6072120"/>
            <a:ext cx="36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DIMICHELE, D.</a:t>
            </a:r>
            <a:r>
              <a:rPr b="0" i="1" lang="pt-BR" sz="1800" spc="-1" strike="noStrike">
                <a:solidFill>
                  <a:srgbClr val="000000"/>
                </a:solidFill>
                <a:latin typeface="Tahoma"/>
              </a:rPr>
              <a:t> Haemophilia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CaixaDeTexto 3"/>
          <p:cNvSpPr/>
          <p:nvPr/>
        </p:nvSpPr>
        <p:spPr>
          <a:xfrm>
            <a:off x="214200" y="492912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: recuperação f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: vida média f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Group 2"/>
          <p:cNvGrpSpPr/>
          <p:nvPr/>
        </p:nvGrpSpPr>
        <p:grpSpPr>
          <a:xfrm>
            <a:off x="871560" y="357120"/>
            <a:ext cx="6966720" cy="5806800"/>
            <a:chOff x="871560" y="357120"/>
            <a:chExt cx="6966720" cy="5806800"/>
          </a:xfrm>
        </p:grpSpPr>
        <p:sp>
          <p:nvSpPr>
            <p:cNvPr id="545" name="Text Box 3"/>
            <p:cNvSpPr/>
            <p:nvPr/>
          </p:nvSpPr>
          <p:spPr>
            <a:xfrm>
              <a:off x="2286000" y="357120"/>
              <a:ext cx="4357440" cy="117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5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000000"/>
                  </a:solidFill>
                  <a:latin typeface="Tahoma"/>
                </a:rPr>
                <a:t>Diagnóstico de Inibido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5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000000"/>
                  </a:solidFill>
                  <a:latin typeface="Tahoma"/>
                </a:rPr>
                <a:t>Bom prognóstico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5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000000"/>
                  </a:solidFill>
                  <a:latin typeface="Tahoma"/>
                </a:rPr>
                <a:t>Pico histórico: 5-200 UB (2x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5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000000"/>
                  </a:solidFill>
                  <a:latin typeface="Tahoma"/>
                </a:rPr>
                <a:t>Título atual: &lt; 10 UB (2x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4"/>
            <p:cNvSpPr/>
            <p:nvPr/>
          </p:nvSpPr>
          <p:spPr>
            <a:xfrm>
              <a:off x="3592440" y="2055600"/>
              <a:ext cx="16588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Randomiz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 Box 5"/>
            <p:cNvSpPr/>
            <p:nvPr/>
          </p:nvSpPr>
          <p:spPr>
            <a:xfrm>
              <a:off x="2296440" y="3971880"/>
              <a:ext cx="41112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Recuperação </a:t>
              </a:r>
              <a:r>
                <a:rPr b="0" lang="pt-B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 66%, meia vida </a:t>
              </a:r>
              <a:r>
                <a:rPr b="0" lang="pt-B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 6 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6"/>
            <p:cNvSpPr/>
            <p:nvPr/>
          </p:nvSpPr>
          <p:spPr>
            <a:xfrm>
              <a:off x="871560" y="5338440"/>
              <a:ext cx="20192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Redução gradu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7"/>
            <p:cNvSpPr/>
            <p:nvPr/>
          </p:nvSpPr>
          <p:spPr>
            <a:xfrm>
              <a:off x="6377400" y="5343480"/>
              <a:ext cx="11851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Profilax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 Box 8"/>
            <p:cNvSpPr/>
            <p:nvPr/>
          </p:nvSpPr>
          <p:spPr>
            <a:xfrm>
              <a:off x="3455640" y="5795640"/>
              <a:ext cx="19195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Final do Estu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 Box 9"/>
            <p:cNvSpPr/>
            <p:nvPr/>
          </p:nvSpPr>
          <p:spPr>
            <a:xfrm>
              <a:off x="4033800" y="2668320"/>
              <a:ext cx="7617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Do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 Box 10"/>
            <p:cNvSpPr/>
            <p:nvPr/>
          </p:nvSpPr>
          <p:spPr>
            <a:xfrm>
              <a:off x="1263600" y="3281040"/>
              <a:ext cx="14716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200 UI/Kg/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1"/>
            <p:cNvSpPr/>
            <p:nvPr/>
          </p:nvSpPr>
          <p:spPr>
            <a:xfrm>
              <a:off x="5874480" y="3281040"/>
              <a:ext cx="1963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50 UI/Kg 3x/s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2"/>
            <p:cNvSpPr/>
            <p:nvPr/>
          </p:nvSpPr>
          <p:spPr>
            <a:xfrm>
              <a:off x="3919320" y="4728960"/>
              <a:ext cx="99072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Reg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13"/>
            <p:cNvSpPr/>
            <p:nvPr/>
          </p:nvSpPr>
          <p:spPr>
            <a:xfrm>
              <a:off x="4414680" y="16808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14"/>
            <p:cNvSpPr/>
            <p:nvPr/>
          </p:nvSpPr>
          <p:spPr>
            <a:xfrm>
              <a:off x="4414680" y="2433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15"/>
            <p:cNvSpPr/>
            <p:nvPr/>
          </p:nvSpPr>
          <p:spPr>
            <a:xfrm>
              <a:off x="4414680" y="43480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16"/>
            <p:cNvSpPr/>
            <p:nvPr/>
          </p:nvSpPr>
          <p:spPr>
            <a:xfrm>
              <a:off x="2890800" y="5567040"/>
              <a:ext cx="348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9" name="Group 17"/>
            <p:cNvGrpSpPr/>
            <p:nvPr/>
          </p:nvGrpSpPr>
          <p:grpSpPr>
            <a:xfrm>
              <a:off x="1976400" y="2823840"/>
              <a:ext cx="4876560" cy="380880"/>
              <a:chOff x="1976400" y="2823840"/>
              <a:chExt cx="4876560" cy="380880"/>
            </a:xfrm>
          </p:grpSpPr>
          <p:grpSp>
            <p:nvGrpSpPr>
              <p:cNvPr id="560" name="Group 18"/>
              <p:cNvGrpSpPr/>
              <p:nvPr/>
            </p:nvGrpSpPr>
            <p:grpSpPr>
              <a:xfrm>
                <a:off x="1976400" y="2823840"/>
                <a:ext cx="2057400" cy="380880"/>
                <a:chOff x="1976400" y="2823840"/>
                <a:chExt cx="2057400" cy="380880"/>
              </a:xfrm>
            </p:grpSpPr>
            <p:sp>
              <p:nvSpPr>
                <p:cNvPr id="561" name="Line 19"/>
                <p:cNvSpPr/>
                <p:nvPr/>
              </p:nvSpPr>
              <p:spPr>
                <a:xfrm>
                  <a:off x="1976400" y="282384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Line 20"/>
                <p:cNvSpPr/>
                <p:nvPr/>
              </p:nvSpPr>
              <p:spPr>
                <a:xfrm>
                  <a:off x="1976400" y="2823840"/>
                  <a:ext cx="2057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3" name="Group 21"/>
              <p:cNvGrpSpPr/>
              <p:nvPr/>
            </p:nvGrpSpPr>
            <p:grpSpPr>
              <a:xfrm>
                <a:off x="4795560" y="2823840"/>
                <a:ext cx="2057400" cy="380880"/>
                <a:chOff x="4795560" y="2823840"/>
                <a:chExt cx="2057400" cy="380880"/>
              </a:xfrm>
            </p:grpSpPr>
            <p:sp>
              <p:nvSpPr>
                <p:cNvPr id="564" name="Line 22"/>
                <p:cNvSpPr/>
                <p:nvPr/>
              </p:nvSpPr>
              <p:spPr>
                <a:xfrm>
                  <a:off x="6852960" y="282384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Line 23"/>
                <p:cNvSpPr/>
                <p:nvPr/>
              </p:nvSpPr>
              <p:spPr>
                <a:xfrm>
                  <a:off x="4795560" y="2823840"/>
                  <a:ext cx="2057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6" name="Line 24"/>
            <p:cNvSpPr/>
            <p:nvPr/>
          </p:nvSpPr>
          <p:spPr>
            <a:xfrm>
              <a:off x="1938240" y="368136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25"/>
            <p:cNvSpPr/>
            <p:nvPr/>
          </p:nvSpPr>
          <p:spPr>
            <a:xfrm flipH="1">
              <a:off x="6395760" y="368136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 Box 26"/>
            <p:cNvSpPr/>
            <p:nvPr/>
          </p:nvSpPr>
          <p:spPr>
            <a:xfrm>
              <a:off x="1953360" y="2366640"/>
              <a:ext cx="74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cc3300"/>
                  </a:solidFill>
                  <a:latin typeface="Tahoma"/>
                </a:rPr>
                <a:t>Al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27"/>
            <p:cNvSpPr/>
            <p:nvPr/>
          </p:nvSpPr>
          <p:spPr>
            <a:xfrm>
              <a:off x="5829840" y="236664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cc3300"/>
                  </a:solidFill>
                  <a:latin typeface="Tahoma"/>
                </a:rPr>
                <a:t>Baix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0" name="Group 28"/>
            <p:cNvGrpSpPr/>
            <p:nvPr/>
          </p:nvGrpSpPr>
          <p:grpSpPr>
            <a:xfrm>
              <a:off x="1855800" y="4881240"/>
              <a:ext cx="5117760" cy="380880"/>
              <a:chOff x="1855800" y="4881240"/>
              <a:chExt cx="5117760" cy="380880"/>
            </a:xfrm>
          </p:grpSpPr>
          <p:grpSp>
            <p:nvGrpSpPr>
              <p:cNvPr id="571" name="Group 29"/>
              <p:cNvGrpSpPr/>
              <p:nvPr/>
            </p:nvGrpSpPr>
            <p:grpSpPr>
              <a:xfrm>
                <a:off x="1855800" y="4881240"/>
                <a:ext cx="2057400" cy="380880"/>
                <a:chOff x="1855800" y="4881240"/>
                <a:chExt cx="2057400" cy="380880"/>
              </a:xfrm>
            </p:grpSpPr>
            <p:sp>
              <p:nvSpPr>
                <p:cNvPr id="572" name="Line 30"/>
                <p:cNvSpPr/>
                <p:nvPr/>
              </p:nvSpPr>
              <p:spPr>
                <a:xfrm>
                  <a:off x="1855800" y="488124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Line 31"/>
                <p:cNvSpPr/>
                <p:nvPr/>
              </p:nvSpPr>
              <p:spPr>
                <a:xfrm>
                  <a:off x="1855800" y="4881240"/>
                  <a:ext cx="2057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4" name="Group 32"/>
              <p:cNvGrpSpPr/>
              <p:nvPr/>
            </p:nvGrpSpPr>
            <p:grpSpPr>
              <a:xfrm>
                <a:off x="4916160" y="4881240"/>
                <a:ext cx="2057400" cy="380880"/>
                <a:chOff x="4916160" y="4881240"/>
                <a:chExt cx="2057400" cy="380880"/>
              </a:xfrm>
            </p:grpSpPr>
            <p:sp>
              <p:nvSpPr>
                <p:cNvPr id="575" name="Line 33"/>
                <p:cNvSpPr/>
                <p:nvPr/>
              </p:nvSpPr>
              <p:spPr>
                <a:xfrm>
                  <a:off x="6973560" y="488124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Line 34"/>
                <p:cNvSpPr/>
                <p:nvPr/>
              </p:nvSpPr>
              <p:spPr>
                <a:xfrm>
                  <a:off x="4916160" y="4881240"/>
                  <a:ext cx="2057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77" name="Text Box 35"/>
            <p:cNvSpPr/>
            <p:nvPr/>
          </p:nvSpPr>
          <p:spPr>
            <a:xfrm>
              <a:off x="1953360" y="4424040"/>
              <a:ext cx="74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cc3300"/>
                  </a:solidFill>
                  <a:latin typeface="Tahoma"/>
                </a:rPr>
                <a:t>Al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 Box 36"/>
            <p:cNvSpPr/>
            <p:nvPr/>
          </p:nvSpPr>
          <p:spPr>
            <a:xfrm>
              <a:off x="5829840" y="442404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cc3300"/>
                  </a:solidFill>
                  <a:latin typeface="Tahoma"/>
                </a:rPr>
                <a:t>Baix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9" name="Group 37"/>
            <p:cNvGrpSpPr/>
            <p:nvPr/>
          </p:nvGrpSpPr>
          <p:grpSpPr>
            <a:xfrm>
              <a:off x="5557680" y="5719680"/>
              <a:ext cx="1447920" cy="228600"/>
              <a:chOff x="5557680" y="5719680"/>
              <a:chExt cx="1447920" cy="228600"/>
            </a:xfrm>
          </p:grpSpPr>
          <p:sp>
            <p:nvSpPr>
              <p:cNvPr id="580" name="Line 38"/>
              <p:cNvSpPr/>
              <p:nvPr/>
            </p:nvSpPr>
            <p:spPr>
              <a:xfrm>
                <a:off x="7005600" y="571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39"/>
              <p:cNvSpPr/>
              <p:nvPr/>
            </p:nvSpPr>
            <p:spPr>
              <a:xfrm flipH="1">
                <a:off x="5557680" y="5948280"/>
                <a:ext cx="144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pull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Título 1" descr=""/>
          <p:cNvPicPr/>
          <p:nvPr/>
        </p:nvPicPr>
        <p:blipFill>
          <a:blip r:embed="rId1"/>
          <a:stretch/>
        </p:blipFill>
        <p:spPr>
          <a:xfrm>
            <a:off x="1060560" y="2657520"/>
            <a:ext cx="6540480" cy="153036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1066320" y="1904760"/>
            <a:ext cx="6255000" cy="7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ítulo 1" descr=""/>
          <p:cNvPicPr/>
          <p:nvPr/>
        </p:nvPicPr>
        <p:blipFill>
          <a:blip r:embed="rId1"/>
          <a:stretch/>
        </p:blipFill>
        <p:spPr>
          <a:xfrm>
            <a:off x="1042920" y="2279520"/>
            <a:ext cx="6656400" cy="18846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066320" y="1904760"/>
            <a:ext cx="6255000" cy="7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Título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ipo e gravidade da hemofilia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emofilia A (principalmente a grave): 10-30%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emofilia B: 3-5%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is prevalentes em irmãos (50%) em relação a outros familiares (9%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ça negr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51,9% Americanos Afro-descendent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5,8% Caucasiano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ítulo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Tipo de mutação causadora doenç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LTO RISCO: inversão intron 22 / grandes deleções / nonsens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AIXO RISCO: missense / pequenas deleçõe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ítulo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Inib3"/>
          <p:cNvPicPr/>
          <p:nvPr/>
        </p:nvPicPr>
        <p:blipFill>
          <a:blip r:embed="rId2"/>
          <a:stretch/>
        </p:blipFill>
        <p:spPr>
          <a:xfrm>
            <a:off x="428760" y="1357200"/>
            <a:ext cx="7500960" cy="4786560"/>
          </a:xfrm>
          <a:prstGeom prst="rect">
            <a:avLst/>
          </a:prstGeom>
          <a:ln w="0">
            <a:noFill/>
          </a:ln>
        </p:spPr>
      </p:pic>
      <p:sp>
        <p:nvSpPr>
          <p:cNvPr id="245" name="CaixaDeTexto 4"/>
          <p:cNvSpPr/>
          <p:nvPr/>
        </p:nvSpPr>
        <p:spPr>
          <a:xfrm>
            <a:off x="3714840" y="621180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Haemophilia 2006; 12(suppl.3):52-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Título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aracterísticas do sistema imun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limorfismos dos genes das citocinas inflamatória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limorfismos dos genes de moléculas imunomoduladora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L 10 (alelo 134)             OR= 4,4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L 10 e Inv. Intron 22      OR= 8,9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-TNF (alelo 308 G/A)   OR= 16,8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TLA 4 (alelo 318 C/T)  OR= 0,2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4T14:13:50Z</dcterms:created>
  <dc:creator>Tassiana</dc:creator>
  <dc:description/>
  <dc:language>en-US</dc:language>
  <cp:lastModifiedBy>Tassiana</cp:lastModifiedBy>
  <dcterms:modified xsi:type="dcterms:W3CDTF">2009-06-17T02:42:38Z</dcterms:modified>
  <cp:revision>89</cp:revision>
  <dc:subject/>
  <dc:title>HEMOFILIA Congênita e inibidor</dc:title>
</cp:coreProperties>
</file>