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2B9-1950-4686-A6AB-360287FBEAB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2B94-26CE-44A6-BC84-2680D8C39A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2D04-5394-4EE0-BD64-F3CD11CBE3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7291-0152-483B-99CD-4971F7180A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8A7F-2E8F-4827-9832-6D79A4CB725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1EF-96DB-4480-AFD1-74D68BB3130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7F79-4DB2-479F-915C-0F63647DD05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2292-9051-4BCC-BFC3-390940494C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C7CC-DD23-4329-B5DB-D9F4C6C5DBB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94DF-867B-4955-9C12-B505C49F39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A12F-89A8-478B-81F8-282EDDCDA6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367-EC53-4452-A13E-9DB817D16F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7006-5A83-4034-B1E5-6C713345A2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F21-597D-45F5-8989-F931FC686D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5598-9021-4D7A-8151-C29772F0A9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ção varia conforme a resposta à exposição de fatores (resposta anamnéstica). Os inibidores de alta resposta são aqueles em que o título sobe acima de 5 UB quando o paciente é exposto ao fator. Os pacientes com baixa resposta sempre mantêm título &lt; 5UB, mesmo quando expostos ao fator defici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bidores transitórios (não representados): inibidores de baixo titulo que desaparecem em pcts que nao recebem regularmente FVIII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A7ED-4670-41A0-A412-C71828FFD7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9318-FCC4-4C92-BBB6-28CC41D5A4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AD1-ACC2-48B3-B489-4684D5003E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55FF-5FF3-40F6-9A63-A970CEFB0D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878-E1EA-41A6-9947-B47A808420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6C36-414E-47F4-9536-5F809E0CBD2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5EF7-DECE-4BD3-83EE-9EE533566E7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B591-F8BC-427F-9D66-4AE1BBB765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ECD5-B689-4EE7-A131-BC4CB71259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42E-B9EF-409A-BB70-FB7F9A26EFD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B66E-6868-46A7-AB6B-5AC0D4C802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2C6-CF23-4654-9B56-C8080E460A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82D9-0010-4932-A2F6-857C9A5329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F65-D503-4C62-A355-31C1403A43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3A9-2E22-4BB5-8DE8-027ACE68BA3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2D60-1FD3-49B8-A5F8-2C4337D80C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14B1-408D-4209-81D6-129A9615FB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FBA8-13C9-451C-ACEA-226B649132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13F-13B5-40AC-B72B-11C1EF72DD9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3603-8689-47FA-AB25-0FEB708AF58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476-1497-465D-91D2-36587E2FA02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C24-5527-445F-BB64-58DFE9A632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26C-6525-4100-BB5B-E9A2CA1007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D25-ECCE-4573-A6E6-B07340F709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4ADF-CFFC-44C2-91CC-56504E5CA01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B57C-1DB7-402E-A574-63CF706ACD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8CD-8AA5-4948-B5FC-FEEDFE342A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EB0D-ECA8-455C-A281-50500CB5BA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380-A6C0-484E-8C7D-36A05D957E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85A-CE61-4461-9495-B1E628BE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CD3-B4D6-4989-9E87-9F8EA36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82F-8284-469C-8E7F-10877218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831-FD20-4F29-BACB-378D763A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AF51-A2A6-4B25-B651-E10578F6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50D5-E15F-4E83-80F6-4ECC782E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B6DC-8C30-4941-8028-FB41620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98FD-CF2F-4645-9C91-54442673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ABD-D127-4863-BF59-9FDF055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A0E5-BC49-4914-A97E-08093C31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713F-3896-4685-B302-9A688DF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C2A-159D-484E-B562-487B8754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7607-73F8-4791-AF67-CCF8219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EAE9-88A7-4BD4-A3B2-C5F9C01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EF1-2FD4-4936-991E-372F1431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EC97-CA73-4E19-84EE-CACA462E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5773-A76A-43D8-BBB0-0BB14D2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DCDF-CF66-4900-9BA2-B9F0891D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641E-3494-4E35-90DA-A3D04DC3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CBFB-CB57-4AA5-8A8B-CF4519EB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B47F-620F-4DD9-944C-7795C0CD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3233-2F4C-434D-975C-093D1E3B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9DF-16AC-4C7A-8D19-4C59413A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2859-A2B7-4151-A60D-F6087668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0B44-2FD8-4B7C-B2CA-9C53869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D712-7BEE-469C-B279-3D0B64B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AB2B-72BF-4E3C-A9A0-911323F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8169-585C-4F55-BFAC-408B48C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2D33-723E-437C-8542-80F2E32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F581-8DC6-4230-A7C5-C59B2482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E894-06EE-4140-A3B8-EE9E34B0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58BA5-118E-4408-9323-241059DD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84B8-CBC5-4C1A-AEA0-EB3FC58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2DA-699F-41DF-B0D0-A0BEC5D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2EF3-A6C0-41FF-B8C0-6E423B3E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280E-8897-402D-A7FB-4B40438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71CD-CF16-4938-8082-331009A9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CF4C-9534-44D7-A618-E3D6D29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327A-5530-4A27-A426-CC249B49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37F2-78FB-413A-AAA9-49C4FC8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E226-7BC7-4B32-A4C7-D6DFBC4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D8CA-3CB7-423B-9433-B6CCCFFA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FBA9-1203-46FC-AD8C-5DA7898C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5B92F-E644-43E6-A2DA-F190D682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E59-8C7C-4B26-A2F6-DCD56752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FC15-19E2-43EF-A6A6-D0ECF76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B85B-9CA0-4366-96B8-4140A94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3457-876D-4DE0-8D7F-8A1FCE9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B919A-F371-438C-9D01-CEE24C2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FC086-66A7-4598-986B-165E2552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8C8F6-5B06-43F9-A63F-9633D4B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6F63-985B-411B-B5EA-3F6FEB8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467B-F2F0-4DD3-ACB1-C394AC6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852C-FC66-4C61-AC52-B8599AC0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BCEE-A4E2-468A-A804-3612ECE9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EA6-8401-4FF2-BCF1-69029BAC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7189-4A0C-4AD2-BA08-0104D1EF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9EF-255A-4CFD-86DE-145F038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D26-DA50-4CEE-95B7-BF27300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402-F88B-4942-8377-D8319FFC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52C7-4122-4D2C-8F2A-08BBDAF78B9D}" type="slidenum">
              <a:rPr b="0" lang="pt-BR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ângu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ângu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Conector reto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624C-24A1-40FF-84B9-DC6410A183F0}" type="slidenum">
              <a:rPr b="0" lang="pt-BR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3D5-1745-4567-AA46-C89407BC455F}" type="slidenum">
              <a:rPr b="0" lang="pt-BR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EF29-EE79-433B-BC95-CF55C2898ABB}" type="slidenum">
              <a:rPr b="0" lang="pt-BR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AFF-9385-449F-A4F1-DB97C7A14088}" type="slidenum">
              <a:rPr b="0" lang="pt-BR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ítulo 1" descr=""/>
          <p:cNvPicPr/>
          <p:nvPr/>
        </p:nvPicPr>
        <p:blipFill>
          <a:blip r:embed="rId1"/>
          <a:stretch/>
        </p:blipFill>
        <p:spPr>
          <a:xfrm>
            <a:off x="3346560" y="549360"/>
            <a:ext cx="5121000" cy="2876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7720" y="44290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Tassiana Sacchi Pit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C2 Hematologia Pediátri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omplexo de Histocompatibilidade (HL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elos classe I: A3/ B7 e C7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elos classe II: DQ A0102/ DQ B0602/ DR 15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1f34"/>
                </a:solidFill>
                <a:latin typeface="Arial"/>
              </a:rPr>
              <a:t>RR = 1,9 a 4,0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elos C2  DQ A0103  DQB 0603 DR 13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1f34"/>
                </a:solidFill>
                <a:latin typeface="Arial"/>
              </a:rPr>
              <a:t>RR = 0,1 a 0,2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3" marL="1004760" indent="-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c1f34"/>
                </a:solidFill>
                <a:latin typeface="Arial"/>
              </a:rPr>
              <a:t>*MIB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não encontrou associação consistente entre os tipos de HLA e o risco de desenvolvimento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8a2e4e"/>
                </a:solidFill>
                <a:latin typeface="Arial"/>
              </a:rPr>
              <a:t>Hemofilia 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uência menor (3-5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bidor: relacionados a grandes deleções do gene FI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0% casos com manifestações alérgicas e/ou anafilaxia *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ade: 19 meses (9 - 15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s de exposição: 11 dias (2 - 18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 Genotipagem ao diagnóst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Idade de início do tratamen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 6 me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41% inibi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 a 12 meses - 29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gt; 12 mes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12%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Br J Haematol ,200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Outro estudo: sem associação com desenvolvimento de inibidor e início do tratamento antes dos 11m ida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após ajuste para fatores genétic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400"/>
              </a:spcBef>
              <a:buClr>
                <a:srgbClr val="f9b639"/>
              </a:buClr>
              <a:buSzPct val="70000"/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Br J Haematol ,200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Chave esquerda 3"/>
          <p:cNvSpPr/>
          <p:nvPr/>
        </p:nvSpPr>
        <p:spPr>
          <a:xfrm>
            <a:off x="357120" y="2428920"/>
            <a:ext cx="428760" cy="12142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14280"/>
              <a:gd name="textAreaBottom" fmla="*/ 120312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1520">
            <a:solidFill>
              <a:srgbClr val="5c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úmero de exposições ao fator de coagul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dentro dos primeiros 150 DE (95% ocorrem nos primeiros 50 DE)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 em média após 10 infusõ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lterações no sistema imu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a2e4e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8a2e4e"/>
                </a:solidFill>
                <a:latin typeface="Trebuchet MS"/>
              </a:rPr>
              <a:t>Condições que ativam o sistema imune e modulam níveis citocinas e elementos regulatórios, tem o potencial de facilitar a formação de INIBIDO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enças Infeccios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Imunizaçõ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Sangramentos musculares volumo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Cirurgia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Tipo de produ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- Recombinante (22 A 38%)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- Derivado de plasma humano (22 A 27%) </a:t>
            </a:r>
            <a:r>
              <a:rPr b="0" lang="pt-BR" sz="2200" spc="-1" strike="noStrike">
                <a:solidFill>
                  <a:srgbClr val="b13f9a"/>
                </a:solidFill>
                <a:latin typeface="Trebuchet MS"/>
              </a:rPr>
              <a:t>**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** Teoria do efeito protetor do VWF prevenindo a ligação do inibidor a cadeia leve do FVIII e também prevenindo a apresentação do FVIII ao LT     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b13f9a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hromb Haematologicica 200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Haematologica, 2007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13f9a"/>
                </a:solidFill>
                <a:latin typeface="Trebuchet MS"/>
              </a:rPr>
              <a:t>* Os dados atuais são controversos e não se pode fazer recomendação com relação ao tipo de produto e imunogenicidad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ítulo 1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7493040" cy="1158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7238880" cy="2786400"/>
          </a:xfrm>
          <a:prstGeom prst="rect">
            <a:avLst/>
          </a:prstGeom>
          <a:ln w="0">
            <a:noFill/>
          </a:ln>
        </p:spPr>
      </p:pic>
      <p:sp>
        <p:nvSpPr>
          <p:cNvPr id="263" name="CaixaDeTexto 10"/>
          <p:cNvSpPr/>
          <p:nvPr/>
        </p:nvSpPr>
        <p:spPr>
          <a:xfrm>
            <a:off x="3714840" y="228600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a2c64"/>
                </a:solidFill>
                <a:latin typeface="Trebuchet MS"/>
              </a:rPr>
              <a:t>CADEIA L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Conector de seta reta 12"/>
          <p:cNvCxnSpPr/>
          <p:nvPr/>
        </p:nvCxnSpPr>
        <p:spPr>
          <a:xfrm>
            <a:off x="3642840" y="2642760"/>
            <a:ext cx="142956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headEnd len="med" type="arrow" w="med"/>
            <a:tailEnd len="med" type="arrow" w="med"/>
          </a:ln>
        </p:spPr>
      </p:cxnSp>
      <p:sp>
        <p:nvSpPr>
          <p:cNvPr id="265" name="CaixaDeTexto 13"/>
          <p:cNvSpPr/>
          <p:nvPr/>
        </p:nvSpPr>
        <p:spPr>
          <a:xfrm>
            <a:off x="571680" y="564372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* Estudos </a:t>
            </a:r>
            <a:r>
              <a:rPr b="0" i="1" lang="pt-BR" sz="1800" spc="-1" strike="noStrike">
                <a:solidFill>
                  <a:srgbClr val="000000"/>
                </a:solidFill>
                <a:latin typeface="Trebuchet MS"/>
              </a:rPr>
              <a:t>in vi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ixaDeTexto 15"/>
          <p:cNvSpPr/>
          <p:nvPr/>
        </p:nvSpPr>
        <p:spPr>
          <a:xfrm>
            <a:off x="4000680" y="621180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emophilia 2008; 14(suppl.3):36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Conector de seta reta 7"/>
          <p:cNvCxnSpPr/>
          <p:nvPr/>
        </p:nvCxnSpPr>
        <p:spPr>
          <a:xfrm>
            <a:off x="428760" y="3499920"/>
            <a:ext cx="307224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headEnd len="med" type="arrow" w="med"/>
            <a:tailEnd len="med" type="arrow" w="med"/>
          </a:ln>
        </p:spPr>
      </p:cxnSp>
      <p:sp>
        <p:nvSpPr>
          <p:cNvPr id="268" name="Retângulo 11"/>
          <p:cNvSpPr/>
          <p:nvPr/>
        </p:nvSpPr>
        <p:spPr>
          <a:xfrm>
            <a:off x="1163160" y="357192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a2c64"/>
                </a:solidFill>
                <a:latin typeface="Trebuchet MS"/>
              </a:rPr>
              <a:t>CADEIA  PES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Modo de administr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dministração em bolu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fusão contínua – exposição constante do sistema imune ao fator deficiente:    inibidor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13f9a"/>
                </a:solidFill>
                <a:latin typeface="Trebuchet MS"/>
              </a:rPr>
              <a:t>* Os dados atuais são controversos e não se pode fazer recomendação com relação ao tipo de infusã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1" name="Conector de seta reta 4"/>
          <p:cNvCxnSpPr/>
          <p:nvPr/>
        </p:nvCxnSpPr>
        <p:spPr>
          <a:xfrm flipV="1">
            <a:off x="3285000" y="2785680"/>
            <a:ext cx="2520" cy="286560"/>
          </a:xfrm>
          <a:prstGeom prst="straightConnector1">
            <a:avLst/>
          </a:prstGeom>
          <a:ln w="11520">
            <a:solidFill>
              <a:srgbClr val="5c1f34"/>
            </a:solidFill>
            <a:miter/>
            <a:tailEnd len="med" type="arrow" w="med"/>
          </a:ln>
        </p:spPr>
      </p:cxn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6" descr="Inib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85840" y="1500120"/>
            <a:ext cx="7572240" cy="4845240"/>
          </a:xfrm>
          <a:prstGeom prst="rect">
            <a:avLst/>
          </a:prstGeom>
          <a:ln w="0">
            <a:noFill/>
          </a:ln>
        </p:spPr>
      </p:pic>
      <p:sp>
        <p:nvSpPr>
          <p:cNvPr id="275" name="CaixaDeTexto 6"/>
          <p:cNvSpPr/>
          <p:nvPr/>
        </p:nvSpPr>
        <p:spPr>
          <a:xfrm>
            <a:off x="4143240" y="621180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emophilia 2006; 12(suppl.3):52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83d68"/>
                </a:solidFill>
                <a:latin typeface="Trebuchet MS"/>
              </a:rPr>
              <a:t>Uma unidade Bethesda corresponde à quantidade de inibidor capaz de neutralizar 50% da atividade do fa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Alta resposta (55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ítulo anticorpo  &gt; 5UB/ml em </a:t>
            </a: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qualquer momento da existência do inibid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resposta anamnéstica (elevação do título após nova exposiçã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incapacidade de tratamento com concentrado de fator específ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ítulo 1" descr=""/>
          <p:cNvPicPr/>
          <p:nvPr/>
        </p:nvPicPr>
        <p:blipFill>
          <a:blip r:embed="rId1"/>
          <a:stretch/>
        </p:blipFill>
        <p:spPr>
          <a:xfrm>
            <a:off x="1042920" y="2279520"/>
            <a:ext cx="6656400" cy="18846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Baixa respost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inibidores com níveis persistententement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rebuchet MS"/>
              </a:rPr>
              <a:t>&lt;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  5UB/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ausência de resposta anamnést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responde ao tratamento com altas doses do fator específ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Transitóri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baixo títul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não se sabe sobre relevância clínic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desaparecem sem tratamento específico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- acompanhamento clínic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23760" y="281160"/>
            <a:ext cx="81392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54"/>
          <p:cNvGrpSpPr/>
          <p:nvPr/>
        </p:nvGrpSpPr>
        <p:grpSpPr>
          <a:xfrm>
            <a:off x="858240" y="1357200"/>
            <a:ext cx="6669000" cy="5124600"/>
            <a:chOff x="858240" y="1357200"/>
            <a:chExt cx="6669000" cy="5124600"/>
          </a:xfrm>
        </p:grpSpPr>
        <p:sp>
          <p:nvSpPr>
            <p:cNvPr id="282" name="Line 3"/>
            <p:cNvSpPr/>
            <p:nvPr/>
          </p:nvSpPr>
          <p:spPr>
            <a:xfrm>
              <a:off x="5122800" y="4406760"/>
              <a:ext cx="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5122800" y="6027480"/>
              <a:ext cx="156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"/>
            <p:cNvSpPr/>
            <p:nvPr/>
          </p:nvSpPr>
          <p:spPr>
            <a:xfrm>
              <a:off x="4592520" y="5084640"/>
              <a:ext cx="32256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6636240" y="5532480"/>
              <a:ext cx="891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5211720" y="59403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8"/>
            <p:cNvSpPr/>
            <p:nvPr/>
          </p:nvSpPr>
          <p:spPr>
            <a:xfrm>
              <a:off x="4379400" y="4171680"/>
              <a:ext cx="60588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4646880" y="3886200"/>
              <a:ext cx="497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"/>
            <p:cNvSpPr/>
            <p:nvPr/>
          </p:nvSpPr>
          <p:spPr>
            <a:xfrm flipV="1">
              <a:off x="1671480" y="34257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1531800" y="1904760"/>
              <a:ext cx="0" cy="16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>
              <a:off x="1531800" y="3527280"/>
              <a:ext cx="157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3"/>
            <p:cNvSpPr/>
            <p:nvPr/>
          </p:nvSpPr>
          <p:spPr>
            <a:xfrm>
              <a:off x="1010880" y="2909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3037320" y="33112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858240" y="19810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1013040" y="1719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7"/>
            <p:cNvSpPr/>
            <p:nvPr/>
          </p:nvSpPr>
          <p:spPr>
            <a:xfrm>
              <a:off x="2457360" y="13572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990000"/>
                  </a:solidFill>
                  <a:latin typeface="Arial"/>
                </a:rPr>
                <a:t>Alta respos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5011560" y="1904760"/>
              <a:ext cx="0" cy="16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>
              <a:off x="5011560" y="352728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4474800" y="2909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1"/>
            <p:cNvSpPr/>
            <p:nvPr/>
          </p:nvSpPr>
          <p:spPr>
            <a:xfrm>
              <a:off x="6517080" y="331128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4287240" y="20732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4550040" y="1811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5111640" y="342396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2143080" y="3835440"/>
              <a:ext cx="383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990000"/>
                  </a:solidFill>
                  <a:latin typeface="Arial"/>
                </a:rPr>
                <a:t>Baixa respos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522440" y="4500360"/>
              <a:ext cx="0" cy="16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1522440" y="612144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1010880" y="5184720"/>
              <a:ext cx="32256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9"/>
            <p:cNvSpPr/>
            <p:nvPr/>
          </p:nvSpPr>
          <p:spPr>
            <a:xfrm>
              <a:off x="3027960" y="5626080"/>
              <a:ext cx="8910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0"/>
            <p:cNvSpPr/>
            <p:nvPr/>
          </p:nvSpPr>
          <p:spPr>
            <a:xfrm>
              <a:off x="858240" y="4317840"/>
              <a:ext cx="60588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1"/>
            <p:cNvSpPr/>
            <p:nvPr/>
          </p:nvSpPr>
          <p:spPr>
            <a:xfrm>
              <a:off x="1059120" y="3873240"/>
              <a:ext cx="497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>
              <a:off x="1622160" y="6018120"/>
              <a:ext cx="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5113080" y="362376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4"/>
            <p:cNvSpPr/>
            <p:nvPr/>
          </p:nvSpPr>
          <p:spPr>
            <a:xfrm flipV="1">
              <a:off x="6337080" y="362376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5"/>
            <p:cNvSpPr/>
            <p:nvPr/>
          </p:nvSpPr>
          <p:spPr>
            <a:xfrm flipV="1">
              <a:off x="1670040" y="36302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2655720" y="36302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7"/>
            <p:cNvSpPr/>
            <p:nvPr/>
          </p:nvSpPr>
          <p:spPr>
            <a:xfrm flipV="1">
              <a:off x="1619280" y="6221160"/>
              <a:ext cx="0" cy="260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V="1">
              <a:off x="2374920" y="6221160"/>
              <a:ext cx="0" cy="260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 flipV="1">
              <a:off x="5214960" y="61700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 flipV="1">
              <a:off x="6338880" y="6170040"/>
              <a:ext cx="0" cy="2602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1"/>
            <p:cNvSpPr/>
            <p:nvPr/>
          </p:nvSpPr>
          <p:spPr>
            <a:xfrm>
              <a:off x="5068800" y="2235240"/>
              <a:ext cx="2044800" cy="44424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2"/>
            <p:cNvSpPr/>
            <p:nvPr/>
          </p:nvSpPr>
          <p:spPr>
            <a:xfrm>
              <a:off x="5238720" y="5643360"/>
              <a:ext cx="1896840" cy="22068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>
              <a:off x="5048280" y="4748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5048280" y="5667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5"/>
            <p:cNvSpPr/>
            <p:nvPr/>
          </p:nvSpPr>
          <p:spPr>
            <a:xfrm>
              <a:off x="4952880" y="225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4940280" y="3106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7"/>
            <p:cNvSpPr/>
            <p:nvPr/>
          </p:nvSpPr>
          <p:spPr>
            <a:xfrm>
              <a:off x="1457280" y="216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1457280" y="3101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9"/>
            <p:cNvSpPr/>
            <p:nvPr/>
          </p:nvSpPr>
          <p:spPr>
            <a:xfrm>
              <a:off x="1450800" y="4889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0"/>
            <p:cNvSpPr/>
            <p:nvPr/>
          </p:nvSpPr>
          <p:spPr>
            <a:xfrm>
              <a:off x="1450800" y="5700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1"/>
            <p:cNvSpPr/>
            <p:nvPr/>
          </p:nvSpPr>
          <p:spPr>
            <a:xfrm>
              <a:off x="1593720" y="2057400"/>
              <a:ext cx="1465200" cy="123984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2"/>
            <p:cNvSpPr/>
            <p:nvPr/>
          </p:nvSpPr>
          <p:spPr>
            <a:xfrm>
              <a:off x="1568520" y="5700600"/>
              <a:ext cx="1269720" cy="385920"/>
            </a:xfrm>
            <a:prstGeom prst="pie">
              <a:avLst/>
            </a:pr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53"/>
          <p:cNvSpPr/>
          <p:nvPr/>
        </p:nvSpPr>
        <p:spPr>
          <a:xfrm>
            <a:off x="5204160" y="6502320"/>
            <a:ext cx="2912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Arial"/>
              </a:rPr>
              <a:t>White et al, Thromb Haemost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ítulo 1" descr=""/>
          <p:cNvPicPr/>
          <p:nvPr/>
        </p:nvPicPr>
        <p:blipFill>
          <a:blip r:embed="rId1"/>
          <a:stretch/>
        </p:blipFill>
        <p:spPr>
          <a:xfrm>
            <a:off x="212760" y="311040"/>
            <a:ext cx="7462800" cy="1693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dução da resposta ou eficácia ao concentrado infundido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umento de tendência ao sangramento ou ocorrência de episódios hemorrágicos de difícil controle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  Aumento do consumo de concentrado de fator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Não há alteração quanto ao local típico de sangramento ou gravidad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b83d68"/>
                </a:solidFill>
                <a:latin typeface="Trebuchet MS"/>
              </a:rPr>
              <a:t>TESTE DE MISTURA/ TESTE DE PESQUISA DO INIBID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50% pool plasma normal: 50% plasma teste (1: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istura é incubada por 2h à 37ºC somente para pesquisa de inibidor FVIII (tempo-termodependente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A NÃO correção do TTPA sugere inibidor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857160" y="500040"/>
          <a:ext cx="6334200" cy="5905440"/>
        </p:xfrm>
        <a:graphic>
          <a:graphicData uri="http://schemas.openxmlformats.org/drawingml/2006/table">
            <a:tbl>
              <a:tblPr/>
              <a:tblGrid>
                <a:gridCol w="3167280"/>
                <a:gridCol w="31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MO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TPA (se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da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ol de plasma normal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sma teste pre-mistura (paciente) (B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lasma teste apos mistura (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álc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rreção em segundos B –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-42=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ferença entre B e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-35=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bf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álise: correção em segundos (18s) d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 maior que 50% da diferença entre B 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 &gt; (25/2=12,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lusão: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rreção efic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d4e0"/>
                    </a:solidFill>
                  </a:tcPr>
                </a:tc>
              </a:tr>
            </a:tbl>
          </a:graphicData>
        </a:graphic>
      </p:graphicFrame>
      <p:sp>
        <p:nvSpPr>
          <p:cNvPr id="338" name="CaixaDeTexto 5"/>
          <p:cNvSpPr/>
          <p:nvPr/>
        </p:nvSpPr>
        <p:spPr>
          <a:xfrm>
            <a:off x="1714680" y="6519960"/>
            <a:ext cx="85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ual de diagnóstico e tratamento de eventos hemorrágicos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b83d68"/>
                </a:solidFill>
                <a:latin typeface="Trebuchet MS"/>
              </a:rPr>
              <a:t>QUANTIFICAÇÃO DO INIBIDOR (Bethesda modificado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istura plasma teste com plasma normal tamponado (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istura do plasma normal tamponado com plasma deficiente de FVIII ou solução 4% albumina (2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Realizam-se diversas diluições e faz-se a dosagem de FVIII:C de cada diluiç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214600" cy="5813280"/>
          </a:xfrm>
          <a:prstGeom prst="rect">
            <a:avLst/>
          </a:prstGeom>
          <a:ln w="0">
            <a:noFill/>
          </a:ln>
        </p:spPr>
      </p:pic>
      <p:sp>
        <p:nvSpPr>
          <p:cNvPr id="343" name="Retângulo 4"/>
          <p:cNvSpPr/>
          <p:nvPr/>
        </p:nvSpPr>
        <p:spPr>
          <a:xfrm>
            <a:off x="1643040" y="6357960"/>
            <a:ext cx="85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ual de diagnóstico e tratamento de eventos hemorrágicos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6286680" cy="5205600"/>
          </a:xfrm>
          <a:prstGeom prst="rect">
            <a:avLst/>
          </a:prstGeom>
          <a:ln w="0">
            <a:noFill/>
          </a:ln>
        </p:spPr>
      </p:pic>
      <p:sp>
        <p:nvSpPr>
          <p:cNvPr id="346" name="Retângulo 4"/>
          <p:cNvSpPr/>
          <p:nvPr/>
        </p:nvSpPr>
        <p:spPr>
          <a:xfrm>
            <a:off x="1643040" y="651996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ual de diagnóstico e tratamento de eventos hemorrágicos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3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13f9a"/>
                </a:solidFill>
                <a:latin typeface="Trebuchet MS"/>
              </a:rPr>
              <a:t>curto prazo</a:t>
            </a:r>
            <a:r>
              <a:rPr b="0" lang="pt-PT" sz="2000" spc="-1" strike="noStrike">
                <a:solidFill>
                  <a:srgbClr val="000000"/>
                </a:solidFill>
                <a:latin typeface="Trebuchet MS"/>
              </a:rPr>
              <a:t>: controle do sangram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3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b13f9a"/>
                </a:solidFill>
                <a:latin typeface="Trebuchet MS"/>
              </a:rPr>
              <a:t>longo prazo</a:t>
            </a:r>
            <a:r>
              <a:rPr b="0" lang="pt-PT" sz="2000" spc="-1" strike="noStrike">
                <a:solidFill>
                  <a:srgbClr val="000000"/>
                </a:solidFill>
                <a:latin typeface="Trebuchet MS"/>
              </a:rPr>
              <a:t>: erradicação do inibid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esmopressi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liberação do FVIII e Fv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Uso: sangramento leve na hemofilia A leve com inibidor de bxa resposta (até 2UB/ml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ltas doses do concentrado defici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títulos inibidores persistentemente baix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Envolve a formação de Ac contra FVIII e FIX exógen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Mecanismo LT, LB e CAA depend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Th1, Th2 e LTregulatórios estão envolvid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enótipo HLA classe II de cada paciente determina quais peptídeos do FVIII ou IX serão apresentados ao L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gentes bypassing (CCP/CCP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Fatores II/VII/IX/X e traços VII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eficácia de 64-81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canismo de ação não totalmente conhecido: 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complexo FII / Xa: geração de trombina; demais componentes asseguram o efeito prolongad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isco TEV/IAM/CIVD é ra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Não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usar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om antifibrinolític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ose: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CP 75 mg/kg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CCPA 75-100UI/kg/dose 1x ao dia ou 12/12h.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 ultrapassar a dose diária de 200mg/k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em testes de monitoram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valiação clínica periódic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ítulo 1" descr=""/>
          <p:cNvPicPr/>
          <p:nvPr/>
        </p:nvPicPr>
        <p:blipFill>
          <a:blip r:embed="rId2"/>
          <a:stretch/>
        </p:blipFill>
        <p:spPr>
          <a:xfrm>
            <a:off x="-182520" y="189000"/>
            <a:ext cx="8643960" cy="118260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3"/>
          <p:cNvGrpSpPr/>
          <p:nvPr/>
        </p:nvGrpSpPr>
        <p:grpSpPr>
          <a:xfrm>
            <a:off x="7560" y="1285920"/>
            <a:ext cx="8136000" cy="5270400"/>
            <a:chOff x="7560" y="1285920"/>
            <a:chExt cx="8136000" cy="5270400"/>
          </a:xfrm>
        </p:grpSpPr>
        <p:grpSp>
          <p:nvGrpSpPr>
            <p:cNvPr id="355" name="Group 4"/>
            <p:cNvGrpSpPr/>
            <p:nvPr/>
          </p:nvGrpSpPr>
          <p:grpSpPr>
            <a:xfrm>
              <a:off x="670320" y="1285920"/>
              <a:ext cx="6811200" cy="4021200"/>
              <a:chOff x="670320" y="1285920"/>
              <a:chExt cx="6811200" cy="4021200"/>
            </a:xfrm>
          </p:grpSpPr>
          <p:grpSp>
            <p:nvGrpSpPr>
              <p:cNvPr id="356" name="Group 5"/>
              <p:cNvGrpSpPr/>
              <p:nvPr/>
            </p:nvGrpSpPr>
            <p:grpSpPr>
              <a:xfrm>
                <a:off x="2449440" y="1443600"/>
                <a:ext cx="1519200" cy="1506960"/>
                <a:chOff x="2449440" y="1443600"/>
                <a:chExt cx="1519200" cy="1506960"/>
              </a:xfrm>
            </p:grpSpPr>
            <p:sp>
              <p:nvSpPr>
                <p:cNvPr id="357" name="Arc 6"/>
                <p:cNvSpPr/>
                <p:nvPr/>
              </p:nvSpPr>
              <p:spPr>
                <a:xfrm flipH="1" rot="14653800">
                  <a:off x="2584440" y="1857960"/>
                  <a:ext cx="1301400" cy="6073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7"/>
                <p:cNvSpPr/>
                <p:nvPr/>
              </p:nvSpPr>
              <p:spPr>
                <a:xfrm>
                  <a:off x="2449440" y="1842480"/>
                  <a:ext cx="407880" cy="38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8"/>
                <p:cNvSpPr/>
                <p:nvPr/>
              </p:nvSpPr>
              <p:spPr>
                <a:xfrm>
                  <a:off x="3492360" y="2481120"/>
                  <a:ext cx="476280" cy="46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Text Box 9"/>
              <p:cNvSpPr/>
              <p:nvPr/>
            </p:nvSpPr>
            <p:spPr>
              <a:xfrm>
                <a:off x="670320" y="3051720"/>
                <a:ext cx="1652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0"/>
              <p:cNvGrpSpPr/>
              <p:nvPr/>
            </p:nvGrpSpPr>
            <p:grpSpPr>
              <a:xfrm>
                <a:off x="4125240" y="1401840"/>
                <a:ext cx="1631520" cy="1594800"/>
                <a:chOff x="4125240" y="1401840"/>
                <a:chExt cx="1631520" cy="1594800"/>
              </a:xfrm>
            </p:grpSpPr>
            <p:sp>
              <p:nvSpPr>
                <p:cNvPr id="362" name="Arc 11"/>
                <p:cNvSpPr/>
                <p:nvPr/>
              </p:nvSpPr>
              <p:spPr>
                <a:xfrm flipV="1" rot="3380400">
                  <a:off x="4359960" y="1612800"/>
                  <a:ext cx="1135080" cy="1172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12"/>
                <p:cNvSpPr/>
                <p:nvPr/>
              </p:nvSpPr>
              <p:spPr>
                <a:xfrm>
                  <a:off x="4132800" y="1509840"/>
                  <a:ext cx="406800" cy="386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3"/>
                <p:cNvSpPr/>
                <p:nvPr/>
              </p:nvSpPr>
              <p:spPr>
                <a:xfrm>
                  <a:off x="5279760" y="2406600"/>
                  <a:ext cx="477000" cy="46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14"/>
              <p:cNvGrpSpPr/>
              <p:nvPr/>
            </p:nvGrpSpPr>
            <p:grpSpPr>
              <a:xfrm>
                <a:off x="1790280" y="2550600"/>
                <a:ext cx="3321360" cy="1307160"/>
                <a:chOff x="1790280" y="2550600"/>
                <a:chExt cx="3321360" cy="1307160"/>
              </a:xfrm>
            </p:grpSpPr>
            <p:sp>
              <p:nvSpPr>
                <p:cNvPr id="366" name="AutoShape 15"/>
                <p:cNvSpPr/>
                <p:nvPr/>
              </p:nvSpPr>
              <p:spPr>
                <a:xfrm>
                  <a:off x="1790280" y="2972160"/>
                  <a:ext cx="3321360" cy="49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Célula com exposição de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16"/>
                <p:cNvSpPr/>
                <p:nvPr/>
              </p:nvSpPr>
              <p:spPr>
                <a:xfrm>
                  <a:off x="2204280" y="2550600"/>
                  <a:ext cx="486360" cy="40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17"/>
                <p:cNvSpPr/>
                <p:nvPr/>
              </p:nvSpPr>
              <p:spPr>
                <a:xfrm>
                  <a:off x="1966680" y="3460320"/>
                  <a:ext cx="489240" cy="39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AutoShape 18"/>
              <p:cNvSpPr/>
              <p:nvPr/>
            </p:nvSpPr>
            <p:spPr>
              <a:xfrm>
                <a:off x="3973320" y="2608560"/>
                <a:ext cx="55368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Group 19"/>
              <p:cNvGrpSpPr/>
              <p:nvPr/>
            </p:nvGrpSpPr>
            <p:grpSpPr>
              <a:xfrm>
                <a:off x="2466000" y="2481840"/>
                <a:ext cx="711360" cy="1462320"/>
                <a:chOff x="2466000" y="2481840"/>
                <a:chExt cx="711360" cy="1462320"/>
              </a:xfrm>
            </p:grpSpPr>
            <p:sp>
              <p:nvSpPr>
                <p:cNvPr id="371" name="Oval 20"/>
                <p:cNvSpPr/>
                <p:nvPr/>
              </p:nvSpPr>
              <p:spPr>
                <a:xfrm>
                  <a:off x="2705040" y="2481840"/>
                  <a:ext cx="472320" cy="46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21"/>
                <p:cNvSpPr/>
                <p:nvPr/>
              </p:nvSpPr>
              <p:spPr>
                <a:xfrm>
                  <a:off x="2466000" y="3476160"/>
                  <a:ext cx="472320" cy="46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22"/>
              <p:cNvGrpSpPr/>
              <p:nvPr/>
            </p:nvGrpSpPr>
            <p:grpSpPr>
              <a:xfrm>
                <a:off x="5016600" y="2927520"/>
                <a:ext cx="1233360" cy="1088280"/>
                <a:chOff x="5016600" y="2927520"/>
                <a:chExt cx="1233360" cy="1088280"/>
              </a:xfrm>
            </p:grpSpPr>
            <p:sp>
              <p:nvSpPr>
                <p:cNvPr id="374" name="Line 23"/>
                <p:cNvSpPr/>
                <p:nvPr/>
              </p:nvSpPr>
              <p:spPr>
                <a:xfrm flipH="1">
                  <a:off x="5556960" y="2927520"/>
                  <a:ext cx="5760" cy="816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24"/>
                <p:cNvSpPr/>
                <p:nvPr/>
              </p:nvSpPr>
              <p:spPr>
                <a:xfrm>
                  <a:off x="5182920" y="3832200"/>
                  <a:ext cx="5137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25"/>
                <p:cNvSpPr/>
                <p:nvPr/>
              </p:nvSpPr>
              <p:spPr>
                <a:xfrm>
                  <a:off x="5016600" y="3709800"/>
                  <a:ext cx="307080" cy="264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TradeGothic LT Bold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26"/>
                <p:cNvSpPr/>
                <p:nvPr/>
              </p:nvSpPr>
              <p:spPr>
                <a:xfrm>
                  <a:off x="5696640" y="3653640"/>
                  <a:ext cx="553320" cy="362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Group 27"/>
              <p:cNvGrpSpPr/>
              <p:nvPr/>
            </p:nvGrpSpPr>
            <p:grpSpPr>
              <a:xfrm>
                <a:off x="5836320" y="2216520"/>
                <a:ext cx="1645200" cy="916560"/>
                <a:chOff x="5836320" y="2216520"/>
                <a:chExt cx="1645200" cy="916560"/>
              </a:xfrm>
            </p:grpSpPr>
            <p:sp>
              <p:nvSpPr>
                <p:cNvPr id="379" name="Text Box 28"/>
                <p:cNvSpPr/>
                <p:nvPr/>
              </p:nvSpPr>
              <p:spPr>
                <a:xfrm>
                  <a:off x="6302520" y="2216520"/>
                  <a:ext cx="1179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VIII / VW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9"/>
                <p:cNvSpPr/>
                <p:nvPr/>
              </p:nvSpPr>
              <p:spPr>
                <a:xfrm>
                  <a:off x="6994440" y="2509920"/>
                  <a:ext cx="1440" cy="23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0"/>
                <p:cNvSpPr/>
                <p:nvPr/>
              </p:nvSpPr>
              <p:spPr>
                <a:xfrm>
                  <a:off x="5836320" y="2644920"/>
                  <a:ext cx="96192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31"/>
                <p:cNvSpPr/>
                <p:nvPr/>
              </p:nvSpPr>
              <p:spPr>
                <a:xfrm>
                  <a:off x="6743880" y="2773440"/>
                  <a:ext cx="550800" cy="35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32"/>
              <p:cNvGrpSpPr/>
              <p:nvPr/>
            </p:nvGrpSpPr>
            <p:grpSpPr>
              <a:xfrm>
                <a:off x="694440" y="1285920"/>
                <a:ext cx="4687560" cy="4021200"/>
                <a:chOff x="694440" y="1285920"/>
                <a:chExt cx="4687560" cy="4021200"/>
              </a:xfrm>
            </p:grpSpPr>
            <p:sp>
              <p:nvSpPr>
                <p:cNvPr id="384" name="Rectangle 33"/>
                <p:cNvSpPr/>
                <p:nvPr/>
              </p:nvSpPr>
              <p:spPr>
                <a:xfrm>
                  <a:off x="694440" y="4960080"/>
                  <a:ext cx="412560" cy="34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4"/>
                <p:cNvSpPr/>
                <p:nvPr/>
              </p:nvSpPr>
              <p:spPr>
                <a:xfrm>
                  <a:off x="1491480" y="4910760"/>
                  <a:ext cx="452160" cy="36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5"/>
                <p:cNvSpPr/>
                <p:nvPr/>
              </p:nvSpPr>
              <p:spPr>
                <a:xfrm>
                  <a:off x="1308960" y="1285920"/>
                  <a:ext cx="4073040" cy="33343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6"/>
                <p:cNvSpPr/>
                <p:nvPr/>
              </p:nvSpPr>
              <p:spPr>
                <a:xfrm flipV="1" rot="21508200">
                  <a:off x="1019880" y="4741560"/>
                  <a:ext cx="634680" cy="1350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8" name="AutoShape 38"/>
            <p:cNvSpPr/>
            <p:nvPr/>
          </p:nvSpPr>
          <p:spPr>
            <a:xfrm>
              <a:off x="4644000" y="5287320"/>
              <a:ext cx="446760" cy="361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adeGothic LT Bold"/>
                </a:rPr>
                <a:t>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39"/>
            <p:cNvSpPr/>
            <p:nvPr/>
          </p:nvSpPr>
          <p:spPr>
            <a:xfrm flipV="1" rot="3380400">
              <a:off x="5310360" y="4548600"/>
              <a:ext cx="723240" cy="117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0"/>
            <p:cNvSpPr/>
            <p:nvPr/>
          </p:nvSpPr>
          <p:spPr>
            <a:xfrm>
              <a:off x="5105160" y="4627080"/>
              <a:ext cx="405360" cy="38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b13f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radeGothic LT Bold"/>
                </a:rPr>
                <a:t>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1"/>
            <p:cNvSpPr/>
            <p:nvPr/>
          </p:nvSpPr>
          <p:spPr>
            <a:xfrm>
              <a:off x="5731200" y="5233320"/>
              <a:ext cx="475200" cy="47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radeGothic LT Bold"/>
                </a:rPr>
                <a:t>I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2"/>
            <p:cNvGrpSpPr/>
            <p:nvPr/>
          </p:nvGrpSpPr>
          <p:grpSpPr>
            <a:xfrm>
              <a:off x="3411000" y="4328280"/>
              <a:ext cx="1378800" cy="1305720"/>
              <a:chOff x="3411000" y="4328280"/>
              <a:chExt cx="1378800" cy="1305720"/>
            </a:xfrm>
          </p:grpSpPr>
          <p:sp>
            <p:nvSpPr>
              <p:cNvPr id="393" name="Arc 43"/>
              <p:cNvSpPr/>
              <p:nvPr/>
            </p:nvSpPr>
            <p:spPr>
              <a:xfrm flipV="1" rot="3380400">
                <a:off x="3737880" y="4368240"/>
                <a:ext cx="725040" cy="1173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44"/>
              <p:cNvSpPr/>
              <p:nvPr/>
            </p:nvSpPr>
            <p:spPr>
              <a:xfrm>
                <a:off x="3472560" y="4429800"/>
                <a:ext cx="407160" cy="384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radeGothic LT Bold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5"/>
              <p:cNvSpPr/>
              <p:nvPr/>
            </p:nvSpPr>
            <p:spPr>
              <a:xfrm>
                <a:off x="4186800" y="5164560"/>
                <a:ext cx="476640" cy="469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radeGothic LT Bold"/>
                  </a:rPr>
                  <a:t>X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Line 46"/>
            <p:cNvSpPr/>
            <p:nvPr/>
          </p:nvSpPr>
          <p:spPr>
            <a:xfrm>
              <a:off x="6201000" y="5537160"/>
              <a:ext cx="739800" cy="40860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7"/>
            <p:cNvSpPr/>
            <p:nvPr/>
          </p:nvSpPr>
          <p:spPr>
            <a:xfrm>
              <a:off x="6162480" y="585252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Arial"/>
                </a:rPr>
                <a:t>Formação do Coág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48"/>
            <p:cNvGrpSpPr/>
            <p:nvPr/>
          </p:nvGrpSpPr>
          <p:grpSpPr>
            <a:xfrm>
              <a:off x="1374840" y="3729960"/>
              <a:ext cx="2249640" cy="2243520"/>
              <a:chOff x="1374840" y="3729960"/>
              <a:chExt cx="2249640" cy="2243520"/>
            </a:xfrm>
          </p:grpSpPr>
          <p:sp>
            <p:nvSpPr>
              <p:cNvPr id="399" name="AutoShape 49"/>
              <p:cNvSpPr/>
              <p:nvPr/>
            </p:nvSpPr>
            <p:spPr>
              <a:xfrm>
                <a:off x="3142080" y="5214960"/>
                <a:ext cx="482400" cy="356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II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50"/>
              <p:cNvGrpSpPr/>
              <p:nvPr/>
            </p:nvGrpSpPr>
            <p:grpSpPr>
              <a:xfrm>
                <a:off x="1374840" y="3729960"/>
                <a:ext cx="2146680" cy="2243520"/>
                <a:chOff x="1374840" y="3729960"/>
                <a:chExt cx="2146680" cy="2243520"/>
              </a:xfrm>
            </p:grpSpPr>
            <p:sp>
              <p:nvSpPr>
                <p:cNvPr id="401" name="Rectangle 51"/>
                <p:cNvSpPr/>
                <p:nvPr/>
              </p:nvSpPr>
              <p:spPr>
                <a:xfrm>
                  <a:off x="1374840" y="5626800"/>
                  <a:ext cx="412560" cy="34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52"/>
                <p:cNvSpPr/>
                <p:nvPr/>
              </p:nvSpPr>
              <p:spPr>
                <a:xfrm flipV="1" rot="20295000">
                  <a:off x="1575360" y="5199840"/>
                  <a:ext cx="1017360" cy="1929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Group 53"/>
                <p:cNvGrpSpPr/>
                <p:nvPr/>
              </p:nvGrpSpPr>
              <p:grpSpPr>
                <a:xfrm>
                  <a:off x="1926720" y="3729960"/>
                  <a:ext cx="1594800" cy="1834560"/>
                  <a:chOff x="1926720" y="3729960"/>
                  <a:chExt cx="1594800" cy="1834560"/>
                </a:xfrm>
              </p:grpSpPr>
              <p:sp>
                <p:nvSpPr>
                  <p:cNvPr id="404" name="Arc 54"/>
                  <p:cNvSpPr/>
                  <p:nvPr/>
                </p:nvSpPr>
                <p:spPr>
                  <a:xfrm flipH="1" rot="20274000">
                    <a:off x="2222280" y="3983400"/>
                    <a:ext cx="1135080" cy="2185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5"/>
                  <p:cNvSpPr/>
                  <p:nvPr/>
                </p:nvSpPr>
                <p:spPr>
                  <a:xfrm>
                    <a:off x="1926720" y="4320720"/>
                    <a:ext cx="475200" cy="47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Oval 56"/>
                  <p:cNvSpPr/>
                  <p:nvPr/>
                </p:nvSpPr>
                <p:spPr>
                  <a:xfrm>
                    <a:off x="2660760" y="5095080"/>
                    <a:ext cx="476280" cy="46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Arc 57"/>
                  <p:cNvSpPr/>
                  <p:nvPr/>
                </p:nvSpPr>
                <p:spPr>
                  <a:xfrm flipH="1" rot="14653800">
                    <a:off x="2091960" y="4607280"/>
                    <a:ext cx="874440" cy="2926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prstDash val="dash"/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Rectangle 58"/>
                  <p:cNvSpPr/>
                  <p:nvPr/>
                </p:nvSpPr>
                <p:spPr>
                  <a:xfrm>
                    <a:off x="3111840" y="3729960"/>
                    <a:ext cx="409680" cy="384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radeGothic LT Bold"/>
                      </a:rPr>
                      <a:t>I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9" name="Group 59"/>
            <p:cNvGrpSpPr/>
            <p:nvPr/>
          </p:nvGrpSpPr>
          <p:grpSpPr>
            <a:xfrm>
              <a:off x="2214360" y="3223800"/>
              <a:ext cx="5447520" cy="2873160"/>
              <a:chOff x="2214360" y="3223800"/>
              <a:chExt cx="5447520" cy="2873160"/>
            </a:xfrm>
          </p:grpSpPr>
          <p:sp>
            <p:nvSpPr>
              <p:cNvPr id="410" name="Oval 60"/>
              <p:cNvSpPr/>
              <p:nvPr/>
            </p:nvSpPr>
            <p:spPr>
              <a:xfrm>
                <a:off x="6771240" y="3223800"/>
                <a:ext cx="890640" cy="517320"/>
              </a:xfrm>
              <a:prstGeom prst="ellipse">
                <a:avLst/>
              </a:pr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radeGothic LT Bold"/>
                  </a:rPr>
                  <a:t>Plaque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61"/>
              <p:cNvSpPr/>
              <p:nvPr/>
            </p:nvSpPr>
            <p:spPr>
              <a:xfrm>
                <a:off x="2214360" y="5501520"/>
                <a:ext cx="3251880" cy="507240"/>
              </a:xfrm>
              <a:custGeom>
                <a:avLst/>
                <a:gdLst>
                  <a:gd name="textAreaLeft" fmla="*/ 650160 w 3251880"/>
                  <a:gd name="textAreaRight" fmla="*/ 3902400 w 3251880"/>
                  <a:gd name="textAreaTop" fmla="*/ 65520 h 507240"/>
                  <a:gd name="textAreaBottom" fmla="*/ 44172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320" y="1400"/>
                    </a:moveTo>
                    <a:cubicBezTo>
                      <a:pt x="9360" y="-3560"/>
                      <a:pt x="16560" y="6360"/>
                      <a:pt x="21600" y="1400"/>
                    </a:cubicBezTo>
                    <a:lnTo>
                      <a:pt x="17280" y="20200"/>
                    </a:lnTo>
                    <a:cubicBezTo>
                      <a:pt x="12240" y="25160"/>
                      <a:pt x="5040" y="15240"/>
                      <a:pt x="0" y="20200"/>
                    </a:cubicBezTo>
                    <a:close/>
                  </a:path>
                </a:pathLst>
              </a:cu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adeGothic LT Bold"/>
                  </a:rPr>
                  <a:t>Plaqueta Ativ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2"/>
              <p:cNvSpPr/>
              <p:nvPr/>
            </p:nvSpPr>
            <p:spPr>
              <a:xfrm rot="427800">
                <a:off x="5369400" y="3698640"/>
                <a:ext cx="1673640" cy="23029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Line 63"/>
            <p:cNvSpPr/>
            <p:nvPr/>
          </p:nvSpPr>
          <p:spPr>
            <a:xfrm>
              <a:off x="5704560" y="2794680"/>
              <a:ext cx="1058400" cy="606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64"/>
            <p:cNvSpPr/>
            <p:nvPr/>
          </p:nvSpPr>
          <p:spPr>
            <a:xfrm>
              <a:off x="434160" y="307116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50"/>
                  </a:solidFill>
                  <a:latin typeface="Arial"/>
                </a:rPr>
                <a:t>Inici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65"/>
            <p:cNvSpPr/>
            <p:nvPr/>
          </p:nvSpPr>
          <p:spPr>
            <a:xfrm>
              <a:off x="7560" y="605052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b050"/>
                  </a:solidFill>
                  <a:latin typeface="Arial"/>
                </a:rPr>
                <a:t>Amplific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73"/>
            <p:cNvSpPr/>
            <p:nvPr/>
          </p:nvSpPr>
          <p:spPr>
            <a:xfrm>
              <a:off x="5540760" y="471888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b050"/>
                  </a:solidFill>
                  <a:latin typeface="Arial"/>
                </a:rPr>
                <a:t>Propag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tângulo 77"/>
          <p:cNvSpPr/>
          <p:nvPr/>
        </p:nvSpPr>
        <p:spPr>
          <a:xfrm>
            <a:off x="4908600" y="6581880"/>
            <a:ext cx="33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rebuchet MS"/>
              </a:rPr>
              <a:t>Hoffman &amp; Munroe, Thromb Haemost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7"/>
          <p:cNvSpPr/>
          <p:nvPr/>
        </p:nvSpPr>
        <p:spPr>
          <a:xfrm>
            <a:off x="3059280" y="4941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8"/>
          <p:cNvSpPr/>
          <p:nvPr/>
        </p:nvSpPr>
        <p:spPr>
          <a:xfrm>
            <a:off x="1836720" y="41497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66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ítulo 1" descr=""/>
          <p:cNvPicPr/>
          <p:nvPr/>
        </p:nvPicPr>
        <p:blipFill>
          <a:blip r:embed="rId2"/>
          <a:stretch/>
        </p:blipFill>
        <p:spPr>
          <a:xfrm>
            <a:off x="585720" y="328680"/>
            <a:ext cx="8564760" cy="11761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3"/>
          <p:cNvGrpSpPr/>
          <p:nvPr/>
        </p:nvGrpSpPr>
        <p:grpSpPr>
          <a:xfrm>
            <a:off x="669960" y="1285920"/>
            <a:ext cx="7473960" cy="5270400"/>
            <a:chOff x="669960" y="1285920"/>
            <a:chExt cx="7473960" cy="5270400"/>
          </a:xfrm>
        </p:grpSpPr>
        <p:grpSp>
          <p:nvGrpSpPr>
            <p:cNvPr id="422" name="Group 4"/>
            <p:cNvGrpSpPr/>
            <p:nvPr/>
          </p:nvGrpSpPr>
          <p:grpSpPr>
            <a:xfrm>
              <a:off x="669960" y="1285920"/>
              <a:ext cx="6811560" cy="4021200"/>
              <a:chOff x="669960" y="1285920"/>
              <a:chExt cx="6811560" cy="402120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2449080" y="1443600"/>
                <a:ext cx="1519200" cy="1506960"/>
                <a:chOff x="2449080" y="1443600"/>
                <a:chExt cx="1519200" cy="1506960"/>
              </a:xfrm>
            </p:grpSpPr>
            <p:sp>
              <p:nvSpPr>
                <p:cNvPr id="424" name="Arc 6"/>
                <p:cNvSpPr/>
                <p:nvPr/>
              </p:nvSpPr>
              <p:spPr>
                <a:xfrm flipH="1" rot="14653800">
                  <a:off x="2584080" y="1857960"/>
                  <a:ext cx="1301400" cy="6073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7"/>
                <p:cNvSpPr/>
                <p:nvPr/>
              </p:nvSpPr>
              <p:spPr>
                <a:xfrm>
                  <a:off x="2449080" y="1842480"/>
                  <a:ext cx="407880" cy="387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8"/>
                <p:cNvSpPr/>
                <p:nvPr/>
              </p:nvSpPr>
              <p:spPr>
                <a:xfrm>
                  <a:off x="3492000" y="2481120"/>
                  <a:ext cx="476280" cy="46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X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Text Box 9"/>
              <p:cNvSpPr/>
              <p:nvPr/>
            </p:nvSpPr>
            <p:spPr>
              <a:xfrm>
                <a:off x="669960" y="3051720"/>
                <a:ext cx="16524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10"/>
              <p:cNvGrpSpPr/>
              <p:nvPr/>
            </p:nvGrpSpPr>
            <p:grpSpPr>
              <a:xfrm>
                <a:off x="4124880" y="1401840"/>
                <a:ext cx="1631520" cy="1594800"/>
                <a:chOff x="4124880" y="1401840"/>
                <a:chExt cx="1631520" cy="1594800"/>
              </a:xfrm>
            </p:grpSpPr>
            <p:sp>
              <p:nvSpPr>
                <p:cNvPr id="429" name="Arc 11"/>
                <p:cNvSpPr/>
                <p:nvPr/>
              </p:nvSpPr>
              <p:spPr>
                <a:xfrm flipV="1" rot="3380400">
                  <a:off x="4359600" y="1612800"/>
                  <a:ext cx="1135080" cy="1172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2"/>
                <p:cNvSpPr/>
                <p:nvPr/>
              </p:nvSpPr>
              <p:spPr>
                <a:xfrm>
                  <a:off x="4132440" y="1509840"/>
                  <a:ext cx="406800" cy="386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13"/>
                <p:cNvSpPr/>
                <p:nvPr/>
              </p:nvSpPr>
              <p:spPr>
                <a:xfrm>
                  <a:off x="5279400" y="2406600"/>
                  <a:ext cx="477000" cy="466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4"/>
              <p:cNvGrpSpPr/>
              <p:nvPr/>
            </p:nvGrpSpPr>
            <p:grpSpPr>
              <a:xfrm>
                <a:off x="1789920" y="2550600"/>
                <a:ext cx="3321720" cy="1307160"/>
                <a:chOff x="1789920" y="2550600"/>
                <a:chExt cx="3321720" cy="1307160"/>
              </a:xfrm>
            </p:grpSpPr>
            <p:sp>
              <p:nvSpPr>
                <p:cNvPr id="433" name="AutoShape 15"/>
                <p:cNvSpPr/>
                <p:nvPr/>
              </p:nvSpPr>
              <p:spPr>
                <a:xfrm>
                  <a:off x="1789920" y="2972160"/>
                  <a:ext cx="3321720" cy="49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Célula com exposição de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16"/>
                <p:cNvSpPr/>
                <p:nvPr/>
              </p:nvSpPr>
              <p:spPr>
                <a:xfrm>
                  <a:off x="2203920" y="2550600"/>
                  <a:ext cx="486360" cy="40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AutoShape 17"/>
                <p:cNvSpPr/>
                <p:nvPr/>
              </p:nvSpPr>
              <p:spPr>
                <a:xfrm>
                  <a:off x="1966320" y="3460320"/>
                  <a:ext cx="489600" cy="39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d490c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F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AutoShape 18"/>
              <p:cNvSpPr/>
              <p:nvPr/>
            </p:nvSpPr>
            <p:spPr>
              <a:xfrm>
                <a:off x="3973320" y="2608560"/>
                <a:ext cx="553680" cy="3610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9"/>
              <p:cNvGrpSpPr/>
              <p:nvPr/>
            </p:nvGrpSpPr>
            <p:grpSpPr>
              <a:xfrm>
                <a:off x="2466000" y="2481840"/>
                <a:ext cx="711360" cy="1462320"/>
                <a:chOff x="2466000" y="2481840"/>
                <a:chExt cx="711360" cy="1462320"/>
              </a:xfrm>
            </p:grpSpPr>
            <p:sp>
              <p:nvSpPr>
                <p:cNvPr id="438" name="Oval 20"/>
                <p:cNvSpPr/>
                <p:nvPr/>
              </p:nvSpPr>
              <p:spPr>
                <a:xfrm>
                  <a:off x="2705040" y="2481840"/>
                  <a:ext cx="472320" cy="46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21"/>
                <p:cNvSpPr/>
                <p:nvPr/>
              </p:nvSpPr>
              <p:spPr>
                <a:xfrm>
                  <a:off x="2466000" y="3476160"/>
                  <a:ext cx="472320" cy="468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22"/>
              <p:cNvGrpSpPr/>
              <p:nvPr/>
            </p:nvGrpSpPr>
            <p:grpSpPr>
              <a:xfrm>
                <a:off x="5016600" y="2927520"/>
                <a:ext cx="1233360" cy="1088280"/>
                <a:chOff x="5016600" y="2927520"/>
                <a:chExt cx="1233360" cy="1088280"/>
              </a:xfrm>
            </p:grpSpPr>
            <p:sp>
              <p:nvSpPr>
                <p:cNvPr id="441" name="Line 23"/>
                <p:cNvSpPr/>
                <p:nvPr/>
              </p:nvSpPr>
              <p:spPr>
                <a:xfrm flipH="1">
                  <a:off x="5556960" y="2927520"/>
                  <a:ext cx="5760" cy="816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4"/>
                <p:cNvSpPr/>
                <p:nvPr/>
              </p:nvSpPr>
              <p:spPr>
                <a:xfrm>
                  <a:off x="5182920" y="3832200"/>
                  <a:ext cx="5137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25"/>
                <p:cNvSpPr/>
                <p:nvPr/>
              </p:nvSpPr>
              <p:spPr>
                <a:xfrm>
                  <a:off x="5016600" y="3709800"/>
                  <a:ext cx="307080" cy="264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ffffff"/>
                      </a:solidFill>
                      <a:latin typeface="TradeGothic LT Bold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26"/>
                <p:cNvSpPr/>
                <p:nvPr/>
              </p:nvSpPr>
              <p:spPr>
                <a:xfrm>
                  <a:off x="5696640" y="3653640"/>
                  <a:ext cx="553320" cy="362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Group 27"/>
              <p:cNvGrpSpPr/>
              <p:nvPr/>
            </p:nvGrpSpPr>
            <p:grpSpPr>
              <a:xfrm>
                <a:off x="5836320" y="2216520"/>
                <a:ext cx="1645200" cy="916560"/>
                <a:chOff x="5836320" y="2216520"/>
                <a:chExt cx="1645200" cy="916560"/>
              </a:xfrm>
            </p:grpSpPr>
            <p:sp>
              <p:nvSpPr>
                <p:cNvPr id="446" name="Text Box 28"/>
                <p:cNvSpPr/>
                <p:nvPr/>
              </p:nvSpPr>
              <p:spPr>
                <a:xfrm>
                  <a:off x="6302520" y="2216520"/>
                  <a:ext cx="1179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radeGothic LT Bold"/>
                    </a:rPr>
                    <a:t>VIII / VW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9"/>
                <p:cNvSpPr/>
                <p:nvPr/>
              </p:nvSpPr>
              <p:spPr>
                <a:xfrm>
                  <a:off x="6994440" y="2509920"/>
                  <a:ext cx="1440" cy="23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30"/>
                <p:cNvSpPr/>
                <p:nvPr/>
              </p:nvSpPr>
              <p:spPr>
                <a:xfrm>
                  <a:off x="5836320" y="2644920"/>
                  <a:ext cx="96192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AutoShape 31"/>
                <p:cNvSpPr/>
                <p:nvPr/>
              </p:nvSpPr>
              <p:spPr>
                <a:xfrm>
                  <a:off x="6743880" y="2773440"/>
                  <a:ext cx="550800" cy="35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b13f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adeGothic LT Bold"/>
                    </a:rPr>
                    <a:t>VII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694080" y="1285920"/>
                <a:ext cx="4687920" cy="4021200"/>
                <a:chOff x="694080" y="1285920"/>
                <a:chExt cx="4687920" cy="4021200"/>
              </a:xfrm>
            </p:grpSpPr>
            <p:sp>
              <p:nvSpPr>
                <p:cNvPr id="451" name="Rectangle 33"/>
                <p:cNvSpPr/>
                <p:nvPr/>
              </p:nvSpPr>
              <p:spPr>
                <a:xfrm>
                  <a:off x="694080" y="4960080"/>
                  <a:ext cx="412560" cy="34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34"/>
                <p:cNvSpPr/>
                <p:nvPr/>
              </p:nvSpPr>
              <p:spPr>
                <a:xfrm>
                  <a:off x="1491120" y="4910760"/>
                  <a:ext cx="452160" cy="36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X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5"/>
                <p:cNvSpPr/>
                <p:nvPr/>
              </p:nvSpPr>
              <p:spPr>
                <a:xfrm>
                  <a:off x="1308600" y="1285920"/>
                  <a:ext cx="4073400" cy="33343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6"/>
                <p:cNvSpPr/>
                <p:nvPr/>
              </p:nvSpPr>
              <p:spPr>
                <a:xfrm flipV="1" rot="21508200">
                  <a:off x="1019520" y="4741560"/>
                  <a:ext cx="634680" cy="1350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AutoShape 38"/>
            <p:cNvSpPr/>
            <p:nvPr/>
          </p:nvSpPr>
          <p:spPr>
            <a:xfrm>
              <a:off x="4643640" y="5287320"/>
              <a:ext cx="446760" cy="361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adeGothic LT Bold"/>
                </a:rPr>
                <a:t>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rc 39"/>
            <p:cNvSpPr/>
            <p:nvPr/>
          </p:nvSpPr>
          <p:spPr>
            <a:xfrm flipV="1" rot="3380400">
              <a:off x="5310360" y="4548600"/>
              <a:ext cx="723240" cy="117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0"/>
            <p:cNvSpPr/>
            <p:nvPr/>
          </p:nvSpPr>
          <p:spPr>
            <a:xfrm>
              <a:off x="5104800" y="4572000"/>
              <a:ext cx="680040" cy="716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b13f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800" spc="-1" strike="noStrike">
                  <a:solidFill>
                    <a:srgbClr val="e36406"/>
                  </a:solidFill>
                  <a:latin typeface="TradeGothic LT Bold"/>
                </a:rPr>
                <a:t>I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1"/>
            <p:cNvSpPr/>
            <p:nvPr/>
          </p:nvSpPr>
          <p:spPr>
            <a:xfrm>
              <a:off x="5731200" y="5233320"/>
              <a:ext cx="478080" cy="47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e36406"/>
                  </a:solidFill>
                  <a:latin typeface="TradeGothic LT Bold"/>
                </a:rPr>
                <a:t>I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42"/>
            <p:cNvGrpSpPr/>
            <p:nvPr/>
          </p:nvGrpSpPr>
          <p:grpSpPr>
            <a:xfrm>
              <a:off x="3411000" y="4327560"/>
              <a:ext cx="1516680" cy="1253880"/>
              <a:chOff x="3411000" y="4327560"/>
              <a:chExt cx="1516680" cy="1253880"/>
            </a:xfrm>
          </p:grpSpPr>
          <p:sp>
            <p:nvSpPr>
              <p:cNvPr id="460" name="Arc 43"/>
              <p:cNvSpPr/>
              <p:nvPr/>
            </p:nvSpPr>
            <p:spPr>
              <a:xfrm flipV="1" rot="3380400">
                <a:off x="3737520" y="4367160"/>
                <a:ext cx="725040" cy="1173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44"/>
              <p:cNvSpPr/>
              <p:nvPr/>
            </p:nvSpPr>
            <p:spPr>
              <a:xfrm>
                <a:off x="3472200" y="4429800"/>
                <a:ext cx="407160" cy="38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TradeGothic LT Bold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45"/>
              <p:cNvSpPr/>
              <p:nvPr/>
            </p:nvSpPr>
            <p:spPr>
              <a:xfrm>
                <a:off x="4071240" y="4498560"/>
                <a:ext cx="856440" cy="85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e36406"/>
                    </a:solidFill>
                    <a:latin typeface="TradeGothic LT Bold"/>
                  </a:rPr>
                  <a:t>X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Line 46"/>
            <p:cNvSpPr/>
            <p:nvPr/>
          </p:nvSpPr>
          <p:spPr>
            <a:xfrm>
              <a:off x="6201000" y="5537160"/>
              <a:ext cx="739800" cy="40860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7"/>
            <p:cNvSpPr/>
            <p:nvPr/>
          </p:nvSpPr>
          <p:spPr>
            <a:xfrm>
              <a:off x="6162480" y="5852520"/>
              <a:ext cx="198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36406"/>
                  </a:solidFill>
                  <a:latin typeface="Arial"/>
                </a:rPr>
                <a:t>Formação do Coág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8"/>
            <p:cNvGrpSpPr/>
            <p:nvPr/>
          </p:nvGrpSpPr>
          <p:grpSpPr>
            <a:xfrm>
              <a:off x="1374480" y="3729960"/>
              <a:ext cx="2249640" cy="2243520"/>
              <a:chOff x="1374480" y="3729960"/>
              <a:chExt cx="2249640" cy="2243520"/>
            </a:xfrm>
          </p:grpSpPr>
          <p:sp>
            <p:nvSpPr>
              <p:cNvPr id="466" name="AutoShape 49"/>
              <p:cNvSpPr/>
              <p:nvPr/>
            </p:nvSpPr>
            <p:spPr>
              <a:xfrm>
                <a:off x="3141720" y="5214960"/>
                <a:ext cx="482400" cy="3564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adeGothic LT Bold"/>
                  </a:rPr>
                  <a:t>VII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Group 50"/>
              <p:cNvGrpSpPr/>
              <p:nvPr/>
            </p:nvGrpSpPr>
            <p:grpSpPr>
              <a:xfrm>
                <a:off x="1374480" y="3729960"/>
                <a:ext cx="2146680" cy="2243520"/>
                <a:chOff x="1374480" y="3729960"/>
                <a:chExt cx="2146680" cy="2243520"/>
              </a:xfrm>
            </p:grpSpPr>
            <p:sp>
              <p:nvSpPr>
                <p:cNvPr id="468" name="Rectangle 51"/>
                <p:cNvSpPr/>
                <p:nvPr/>
              </p:nvSpPr>
              <p:spPr>
                <a:xfrm>
                  <a:off x="1374480" y="5626800"/>
                  <a:ext cx="412560" cy="346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TradeGothic LT Bold"/>
                    </a:rPr>
                    <a:t>I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2"/>
                <p:cNvSpPr/>
                <p:nvPr/>
              </p:nvSpPr>
              <p:spPr>
                <a:xfrm flipV="1" rot="20295000">
                  <a:off x="1575000" y="5199840"/>
                  <a:ext cx="1017360" cy="1929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53"/>
                <p:cNvGrpSpPr/>
                <p:nvPr/>
              </p:nvGrpSpPr>
              <p:grpSpPr>
                <a:xfrm>
                  <a:off x="1926360" y="3729960"/>
                  <a:ext cx="1594800" cy="1834560"/>
                  <a:chOff x="1926360" y="3729960"/>
                  <a:chExt cx="1594800" cy="1834560"/>
                </a:xfrm>
              </p:grpSpPr>
              <p:sp>
                <p:nvSpPr>
                  <p:cNvPr id="471" name="Arc 54"/>
                  <p:cNvSpPr/>
                  <p:nvPr/>
                </p:nvSpPr>
                <p:spPr>
                  <a:xfrm flipH="1" rot="20274000">
                    <a:off x="2221920" y="3983400"/>
                    <a:ext cx="1135080" cy="2185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55"/>
                  <p:cNvSpPr/>
                  <p:nvPr/>
                </p:nvSpPr>
                <p:spPr>
                  <a:xfrm>
                    <a:off x="1926360" y="4320720"/>
                    <a:ext cx="475200" cy="47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56"/>
                  <p:cNvSpPr/>
                  <p:nvPr/>
                </p:nvSpPr>
                <p:spPr>
                  <a:xfrm>
                    <a:off x="2660400" y="5095080"/>
                    <a:ext cx="476280" cy="46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ffffff"/>
                        </a:solidFill>
                        <a:latin typeface="TradeGothic LT Bold"/>
                      </a:rPr>
                      <a:t>IX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rc 57"/>
                  <p:cNvSpPr/>
                  <p:nvPr/>
                </p:nvSpPr>
                <p:spPr>
                  <a:xfrm flipH="1" rot="14653800">
                    <a:off x="2091600" y="4607280"/>
                    <a:ext cx="874440" cy="2926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prstDash val="dash"/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Rectangle 58"/>
                  <p:cNvSpPr/>
                  <p:nvPr/>
                </p:nvSpPr>
                <p:spPr>
                  <a:xfrm>
                    <a:off x="3111480" y="3729960"/>
                    <a:ext cx="409680" cy="384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radeGothic LT Bold"/>
                      </a:rPr>
                      <a:t>IX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6" name="Group 59"/>
            <p:cNvGrpSpPr/>
            <p:nvPr/>
          </p:nvGrpSpPr>
          <p:grpSpPr>
            <a:xfrm>
              <a:off x="2214360" y="3223800"/>
              <a:ext cx="5447880" cy="2873160"/>
              <a:chOff x="2214360" y="3223800"/>
              <a:chExt cx="5447880" cy="2873160"/>
            </a:xfrm>
          </p:grpSpPr>
          <p:sp>
            <p:nvSpPr>
              <p:cNvPr id="477" name="Oval 60"/>
              <p:cNvSpPr/>
              <p:nvPr/>
            </p:nvSpPr>
            <p:spPr>
              <a:xfrm>
                <a:off x="6771600" y="3223800"/>
                <a:ext cx="890640" cy="517320"/>
              </a:xfrm>
              <a:prstGeom prst="ellipse">
                <a:avLst/>
              </a:pr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TradeGothic LT Bold"/>
                  </a:rPr>
                  <a:t>Plaque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61"/>
              <p:cNvSpPr/>
              <p:nvPr/>
            </p:nvSpPr>
            <p:spPr>
              <a:xfrm>
                <a:off x="2214360" y="5501520"/>
                <a:ext cx="3251880" cy="507240"/>
              </a:xfrm>
              <a:custGeom>
                <a:avLst/>
                <a:gdLst>
                  <a:gd name="textAreaLeft" fmla="*/ 650160 w 3251880"/>
                  <a:gd name="textAreaRight" fmla="*/ 3902400 w 3251880"/>
                  <a:gd name="textAreaTop" fmla="*/ 65520 h 507240"/>
                  <a:gd name="textAreaBottom" fmla="*/ 44172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320" y="1400"/>
                    </a:moveTo>
                    <a:cubicBezTo>
                      <a:pt x="9360" y="-3560"/>
                      <a:pt x="16560" y="6360"/>
                      <a:pt x="21600" y="1400"/>
                    </a:cubicBezTo>
                    <a:lnTo>
                      <a:pt x="17280" y="20200"/>
                    </a:lnTo>
                    <a:cubicBezTo>
                      <a:pt x="12240" y="25160"/>
                      <a:pt x="5040" y="15240"/>
                      <a:pt x="0" y="20200"/>
                    </a:cubicBezTo>
                    <a:close/>
                  </a:path>
                </a:pathLst>
              </a:custGeom>
              <a:solidFill>
                <a:srgbClr val="c6d46d"/>
              </a:solidFill>
              <a:ln w="9360">
                <a:solidFill>
                  <a:srgbClr val="b13f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adeGothic LT Bold"/>
                  </a:rPr>
                  <a:t>Plaqueta Ativ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2"/>
              <p:cNvSpPr/>
              <p:nvPr/>
            </p:nvSpPr>
            <p:spPr>
              <a:xfrm rot="427800">
                <a:off x="5369400" y="3698640"/>
                <a:ext cx="1673640" cy="23029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Line 63"/>
            <p:cNvSpPr/>
            <p:nvPr/>
          </p:nvSpPr>
          <p:spPr>
            <a:xfrm>
              <a:off x="5704200" y="2794680"/>
              <a:ext cx="1058400" cy="606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Oval 45"/>
          <p:cNvSpPr/>
          <p:nvPr/>
        </p:nvSpPr>
        <p:spPr>
          <a:xfrm>
            <a:off x="2714760" y="4572000"/>
            <a:ext cx="1143000" cy="92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e36406"/>
                </a:solidFill>
                <a:latin typeface="TradeGothic LT Bold"/>
              </a:rPr>
              <a:t>VI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45"/>
          <p:cNvSpPr/>
          <p:nvPr/>
        </p:nvSpPr>
        <p:spPr>
          <a:xfrm>
            <a:off x="2000160" y="5786280"/>
            <a:ext cx="857520" cy="85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e36406"/>
                </a:solidFill>
                <a:latin typeface="TradeGothic LT Bold"/>
              </a:rPr>
              <a:t>V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45"/>
          <p:cNvSpPr/>
          <p:nvPr/>
        </p:nvSpPr>
        <p:spPr>
          <a:xfrm>
            <a:off x="3492360" y="3933720"/>
            <a:ext cx="857520" cy="85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e36406"/>
                </a:solidFill>
                <a:latin typeface="TradeGothic LT Bold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Conector de seta reta 84"/>
          <p:cNvCxnSpPr>
            <a:stCxn id="482" idx="0"/>
            <a:endCxn id="481" idx="3"/>
          </p:cNvCxnSpPr>
          <p:nvPr/>
        </p:nvCxnSpPr>
        <p:spPr>
          <a:xfrm flipV="1">
            <a:off x="2427840" y="5363280"/>
            <a:ext cx="453240" cy="423000"/>
          </a:xfrm>
          <a:prstGeom prst="straightConnector1">
            <a:avLst/>
          </a:prstGeom>
          <a:ln w="38160">
            <a:solidFill>
              <a:srgbClr val="df9307"/>
            </a:solidFill>
            <a:miter/>
            <a:tailEnd len="med" type="triangle" w="med"/>
          </a:ln>
        </p:spPr>
      </p:cxnSp>
      <p:sp>
        <p:nvSpPr>
          <p:cNvPr id="485" name="CaixaDeTexto 86"/>
          <p:cNvSpPr/>
          <p:nvPr/>
        </p:nvSpPr>
        <p:spPr>
          <a:xfrm>
            <a:off x="5429160" y="6572160"/>
            <a:ext cx="328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Trebuchet MS"/>
              </a:rPr>
              <a:t>Hoffman &amp; Munroe, Thromb Haemost 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ator VIIa recombina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Mecanismo não completamente conhecido: atua de forma dependente do FT ou age no local de dano tissular através de ligação a plaquetas ativad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Níveis suprafisiológicos de rFVIIa para a geração de trombina na superfície plaquetária (ativação do Fator X independente do F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eficácia: 65-90%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isco TEV/IAM/CIVD é ra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uso concomitante de antifibrinolítico pode ser segu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ose: 90 -120 mcg/kg a cada 2,3,4 ou 6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eavaliações periódicas para definir interva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em testes de monitoramen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493040" cy="12859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395280" y="907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Fluxograma: Processo 3"/>
          <p:cNvSpPr/>
          <p:nvPr/>
        </p:nvSpPr>
        <p:spPr>
          <a:xfrm>
            <a:off x="1643040" y="1357200"/>
            <a:ext cx="221472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Trebuchet MS"/>
              </a:rPr>
              <a:t>Hemorragia leve o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Trebuchet MS"/>
              </a:rPr>
              <a:t>moder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luxograma: Processo 4"/>
          <p:cNvSpPr/>
          <p:nvPr/>
        </p:nvSpPr>
        <p:spPr>
          <a:xfrm>
            <a:off x="4786200" y="1357200"/>
            <a:ext cx="235764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Trebuchet MS"/>
              </a:rPr>
              <a:t>Hemorragia grave; cirurgia de médio e grande por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luxograma: Processo 12"/>
          <p:cNvSpPr/>
          <p:nvPr/>
        </p:nvSpPr>
        <p:spPr>
          <a:xfrm>
            <a:off x="3357720" y="4214880"/>
            <a:ext cx="193356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luxograma: Processo 14"/>
          <p:cNvSpPr/>
          <p:nvPr/>
        </p:nvSpPr>
        <p:spPr>
          <a:xfrm>
            <a:off x="928800" y="54291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luxograma: Processo 15"/>
          <p:cNvSpPr/>
          <p:nvPr/>
        </p:nvSpPr>
        <p:spPr>
          <a:xfrm>
            <a:off x="928800" y="421488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VIII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luxograma: Processo 16"/>
          <p:cNvSpPr/>
          <p:nvPr/>
        </p:nvSpPr>
        <p:spPr>
          <a:xfrm>
            <a:off x="6012000" y="5445000"/>
            <a:ext cx="201600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luxograma: Processo 17"/>
          <p:cNvSpPr/>
          <p:nvPr/>
        </p:nvSpPr>
        <p:spPr>
          <a:xfrm>
            <a:off x="6072120" y="421488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VIII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luxograma: Processo 18"/>
          <p:cNvSpPr/>
          <p:nvPr/>
        </p:nvSpPr>
        <p:spPr>
          <a:xfrm>
            <a:off x="6072120" y="29289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≤ 5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luxograma: Processo 19"/>
          <p:cNvSpPr/>
          <p:nvPr/>
        </p:nvSpPr>
        <p:spPr>
          <a:xfrm>
            <a:off x="928800" y="2857680"/>
            <a:ext cx="1790640" cy="64260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≤ 5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luxograma: Processo 20"/>
          <p:cNvSpPr/>
          <p:nvPr/>
        </p:nvSpPr>
        <p:spPr>
          <a:xfrm>
            <a:off x="3429000" y="2857680"/>
            <a:ext cx="1790640" cy="64260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Conector de seta reta 29"/>
          <p:cNvCxnSpPr/>
          <p:nvPr/>
        </p:nvCxnSpPr>
        <p:spPr>
          <a:xfrm flipH="1">
            <a:off x="4285440" y="3571560"/>
            <a:ext cx="252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1" name="Conector de seta reta 31"/>
          <p:cNvCxnSpPr>
            <a:stCxn id="494" idx="2"/>
            <a:endCxn id="493" idx="0"/>
          </p:cNvCxnSpPr>
          <p:nvPr/>
        </p:nvCxnSpPr>
        <p:spPr>
          <a:xfrm flipH="1">
            <a:off x="1821600" y="4859280"/>
            <a:ext cx="2520" cy="57240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2" name="Conector de seta reta 33"/>
          <p:cNvCxnSpPr/>
          <p:nvPr/>
        </p:nvCxnSpPr>
        <p:spPr>
          <a:xfrm flipH="1">
            <a:off x="1785600" y="3500280"/>
            <a:ext cx="2160" cy="6433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3" name="Conector de seta reta 37"/>
          <p:cNvCxnSpPr/>
          <p:nvPr/>
        </p:nvCxnSpPr>
        <p:spPr>
          <a:xfrm>
            <a:off x="3071880" y="2214360"/>
            <a:ext cx="100080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4" name="Conector de seta reta 39"/>
          <p:cNvCxnSpPr/>
          <p:nvPr/>
        </p:nvCxnSpPr>
        <p:spPr>
          <a:xfrm flipH="1">
            <a:off x="2142720" y="2213640"/>
            <a:ext cx="92952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5" name="Conector de seta reta 41"/>
          <p:cNvCxnSpPr/>
          <p:nvPr/>
        </p:nvCxnSpPr>
        <p:spPr>
          <a:xfrm flipH="1">
            <a:off x="4857480" y="2213640"/>
            <a:ext cx="100080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6" name="Conector de seta reta 43"/>
          <p:cNvCxnSpPr/>
          <p:nvPr/>
        </p:nvCxnSpPr>
        <p:spPr>
          <a:xfrm>
            <a:off x="5857560" y="2214360"/>
            <a:ext cx="114372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7" name="Conector de seta reta 45"/>
          <p:cNvCxnSpPr/>
          <p:nvPr/>
        </p:nvCxnSpPr>
        <p:spPr>
          <a:xfrm flipH="1">
            <a:off x="7000560" y="3645000"/>
            <a:ext cx="2160" cy="4989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08" name="Conector de seta reta 49"/>
          <p:cNvCxnSpPr/>
          <p:nvPr/>
        </p:nvCxnSpPr>
        <p:spPr>
          <a:xfrm flipH="1">
            <a:off x="7000560" y="493056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09" name="CaixaDeTexto 51"/>
          <p:cNvSpPr/>
          <p:nvPr/>
        </p:nvSpPr>
        <p:spPr>
          <a:xfrm>
            <a:off x="357120" y="621180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Se houver piora dor/disfunção ou FVIII&lt;30-40% 1h após infu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*Caso boa resposta conhecida a algum produto, optar 1ª o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VIII altas dos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Dose dobrada ou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Dose inicial neutralizante (título inibidor x volume plasmático) + dose incrementante (30-100UI/kg) e manutenção 50-100UI/kg 12/12h ou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Bolo inicial de 50-100UI/kg seguida de infusão contínua 5UI/kg/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493040" cy="1285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395280" y="907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Fluxograma: Processo 3"/>
          <p:cNvSpPr/>
          <p:nvPr/>
        </p:nvSpPr>
        <p:spPr>
          <a:xfrm>
            <a:off x="1857240" y="1357200"/>
            <a:ext cx="221472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Sem histó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reação alé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luxograma: Processo 4"/>
          <p:cNvSpPr/>
          <p:nvPr/>
        </p:nvSpPr>
        <p:spPr>
          <a:xfrm>
            <a:off x="5429160" y="1357200"/>
            <a:ext cx="2357640" cy="78588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Com histó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rebuchet MS"/>
              </a:rPr>
              <a:t>reação alé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luxograma: Processo 12"/>
          <p:cNvSpPr/>
          <p:nvPr/>
        </p:nvSpPr>
        <p:spPr>
          <a:xfrm>
            <a:off x="3357720" y="4214880"/>
            <a:ext cx="193356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luxograma: Processo 14"/>
          <p:cNvSpPr/>
          <p:nvPr/>
        </p:nvSpPr>
        <p:spPr>
          <a:xfrm>
            <a:off x="928800" y="54291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CCPA ou 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luxograma: Processo 15"/>
          <p:cNvSpPr/>
          <p:nvPr/>
        </p:nvSpPr>
        <p:spPr>
          <a:xfrm>
            <a:off x="928800" y="421488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IX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luxograma: Processo 16"/>
          <p:cNvSpPr/>
          <p:nvPr/>
        </p:nvSpPr>
        <p:spPr>
          <a:xfrm>
            <a:off x="5857920" y="4214880"/>
            <a:ext cx="193356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FVIIa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luxograma: Processo 18"/>
          <p:cNvSpPr/>
          <p:nvPr/>
        </p:nvSpPr>
        <p:spPr>
          <a:xfrm>
            <a:off x="5929200" y="2928960"/>
            <a:ext cx="1790640" cy="64296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rebuchet MS"/>
              </a:rPr>
              <a:t>Qualquer título de inib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luxograma: Processo 19"/>
          <p:cNvSpPr/>
          <p:nvPr/>
        </p:nvSpPr>
        <p:spPr>
          <a:xfrm>
            <a:off x="928800" y="2857680"/>
            <a:ext cx="1790640" cy="64260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rebuchet MS"/>
              </a:rPr>
              <a:t>Inibidor ≤ 5UB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luxograma: Processo 20"/>
          <p:cNvSpPr/>
          <p:nvPr/>
        </p:nvSpPr>
        <p:spPr>
          <a:xfrm>
            <a:off x="3429000" y="2857680"/>
            <a:ext cx="1790640" cy="714240"/>
          </a:xfrm>
          <a:prstGeom prst="flowChartProcess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rebuchet MS"/>
              </a:rPr>
              <a:t>Inibidor &gt;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rebuchet MS"/>
              </a:rPr>
              <a:t>UB/ml ou sg/o gr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Conector de seta reta 29"/>
          <p:cNvCxnSpPr/>
          <p:nvPr/>
        </p:nvCxnSpPr>
        <p:spPr>
          <a:xfrm flipH="1">
            <a:off x="4284360" y="364464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4" name="Conector de seta reta 31"/>
          <p:cNvCxnSpPr>
            <a:stCxn id="518" idx="2"/>
            <a:endCxn id="517" idx="0"/>
          </p:cNvCxnSpPr>
          <p:nvPr/>
        </p:nvCxnSpPr>
        <p:spPr>
          <a:xfrm flipH="1">
            <a:off x="1821600" y="4859280"/>
            <a:ext cx="2520" cy="57240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5" name="Conector de seta reta 33"/>
          <p:cNvCxnSpPr/>
          <p:nvPr/>
        </p:nvCxnSpPr>
        <p:spPr>
          <a:xfrm flipH="1">
            <a:off x="1785600" y="3500280"/>
            <a:ext cx="2160" cy="6433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6" name="Conector de seta reta 37"/>
          <p:cNvCxnSpPr/>
          <p:nvPr/>
        </p:nvCxnSpPr>
        <p:spPr>
          <a:xfrm>
            <a:off x="3071880" y="2214360"/>
            <a:ext cx="100080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7" name="Conector de seta reta 39"/>
          <p:cNvCxnSpPr/>
          <p:nvPr/>
        </p:nvCxnSpPr>
        <p:spPr>
          <a:xfrm flipH="1">
            <a:off x="2142720" y="2213640"/>
            <a:ext cx="92952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528" name="Conector de seta reta 45"/>
          <p:cNvCxnSpPr/>
          <p:nvPr/>
        </p:nvCxnSpPr>
        <p:spPr>
          <a:xfrm flipH="1">
            <a:off x="6857640" y="364284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529" name="CaixaDeTexto 51"/>
          <p:cNvSpPr/>
          <p:nvPr/>
        </p:nvSpPr>
        <p:spPr>
          <a:xfrm>
            <a:off x="357120" y="621180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Se houver piora dor/disfu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**Caso boa resposta conhecida a algum produto, optar 1ª o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Conector de seta reta 25"/>
          <p:cNvCxnSpPr/>
          <p:nvPr/>
        </p:nvCxnSpPr>
        <p:spPr>
          <a:xfrm flipH="1">
            <a:off x="6857640" y="2214360"/>
            <a:ext cx="2160" cy="57204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493040" cy="1285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IX altas dos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Se sangramento leve/moderado: iniciar 100-200UI/kg seguido de 50-100 UI/kg a cada 12 ou 24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*  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Na impossibilidade de rFVIIa em pctes com reação alérgica, usar hemoderivados contendo FIX em regime de internaçã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Indução dos Linfócitos T regulatórios - altos níveis de IL-10 e TGF-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 diminuindo a formação de inibidores anti FVIII e FIX (padrão th1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Indução de anticorpos neutralizant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Indução de apoptose de células T clonais – th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rebuchet MS"/>
              </a:rPr>
              <a:t>Melhor opção a logo praz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Título 1" descr=""/>
          <p:cNvPicPr/>
          <p:nvPr/>
        </p:nvPicPr>
        <p:blipFill>
          <a:blip r:embed="rId1"/>
          <a:stretch/>
        </p:blipFill>
        <p:spPr>
          <a:xfrm>
            <a:off x="274680" y="317520"/>
            <a:ext cx="7729560" cy="11509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a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 entre diagnóstico do inibidor e início da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ipo de concentrado de fator VIII (purez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ítulo de inibidor pré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ico histórico do título do inibid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ico do título do inibidor durante a 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ose de fator VIII utilizad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Nenhum estudo randomizado controlado concluí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47040" cy="1176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Inib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8584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235" name="CaixaDeTexto 5"/>
          <p:cNvSpPr/>
          <p:nvPr/>
        </p:nvSpPr>
        <p:spPr>
          <a:xfrm>
            <a:off x="4071960" y="624204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aemophilia 2006; 12(suppl.3):52-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ector reto 7"/>
          <p:cNvSpPr/>
          <p:nvPr/>
        </p:nvSpPr>
        <p:spPr>
          <a:xfrm>
            <a:off x="5143680" y="4857840"/>
            <a:ext cx="285480" cy="1440"/>
          </a:xfrm>
          <a:prstGeom prst="line">
            <a:avLst/>
          </a:prstGeom>
          <a:ln w="1152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Object 2"/>
          <p:cNvGraphicFramePr/>
          <p:nvPr/>
        </p:nvGraphicFramePr>
        <p:xfrm>
          <a:off x="785880" y="857160"/>
          <a:ext cx="6357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857160"/>
                    <a:ext cx="6357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3"/>
          <p:cNvSpPr/>
          <p:nvPr/>
        </p:nvSpPr>
        <p:spPr>
          <a:xfrm>
            <a:off x="4323600" y="60721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MICHELE, D.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 Haemophili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214200" y="785880"/>
          <a:ext cx="876456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85880"/>
                    <a:ext cx="876456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Text Box 3"/>
          <p:cNvSpPr/>
          <p:nvPr/>
        </p:nvSpPr>
        <p:spPr>
          <a:xfrm>
            <a:off x="4323600" y="607212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IMICHELE, D.</a:t>
            </a: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 Haemophilia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ixaDeTexto 3"/>
          <p:cNvSpPr/>
          <p:nvPr/>
        </p:nvSpPr>
        <p:spPr>
          <a:xfrm>
            <a:off x="214200" y="49291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: recuperação f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: vida média f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871560" y="357120"/>
            <a:ext cx="6966720" cy="5806800"/>
            <a:chOff x="871560" y="357120"/>
            <a:chExt cx="6966720" cy="5806800"/>
          </a:xfrm>
        </p:grpSpPr>
        <p:sp>
          <p:nvSpPr>
            <p:cNvPr id="545" name="Text Box 3"/>
            <p:cNvSpPr/>
            <p:nvPr/>
          </p:nvSpPr>
          <p:spPr>
            <a:xfrm>
              <a:off x="2286000" y="357120"/>
              <a:ext cx="4357440" cy="11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Diagnóstico de Inibi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Bom prognóstico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Pico histórico: 5-200 UB (2x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700" spc="-1" strike="noStrike">
                  <a:solidFill>
                    <a:srgbClr val="000000"/>
                  </a:solidFill>
                  <a:latin typeface="Tahoma"/>
                </a:rPr>
                <a:t>Título atual: &lt; 10 UB (2x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4"/>
            <p:cNvSpPr/>
            <p:nvPr/>
          </p:nvSpPr>
          <p:spPr>
            <a:xfrm>
              <a:off x="3592440" y="2055600"/>
              <a:ext cx="1658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andomiz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2296440" y="3971880"/>
              <a:ext cx="4111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cuperação </a:t>
              </a:r>
              <a:r>
                <a:rPr b="0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66%, meia vida </a:t>
              </a:r>
              <a:r>
                <a:rPr b="0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6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871560" y="5338440"/>
              <a:ext cx="20192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dução gra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7"/>
            <p:cNvSpPr/>
            <p:nvPr/>
          </p:nvSpPr>
          <p:spPr>
            <a:xfrm>
              <a:off x="6377400" y="5343480"/>
              <a:ext cx="1185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filax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8"/>
            <p:cNvSpPr/>
            <p:nvPr/>
          </p:nvSpPr>
          <p:spPr>
            <a:xfrm>
              <a:off x="3455640" y="5795640"/>
              <a:ext cx="1919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Final do Estu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9"/>
            <p:cNvSpPr/>
            <p:nvPr/>
          </p:nvSpPr>
          <p:spPr>
            <a:xfrm>
              <a:off x="4033800" y="2668320"/>
              <a:ext cx="761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0"/>
            <p:cNvSpPr/>
            <p:nvPr/>
          </p:nvSpPr>
          <p:spPr>
            <a:xfrm>
              <a:off x="1263600" y="3281040"/>
              <a:ext cx="1471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200 UI/Kg/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1"/>
            <p:cNvSpPr/>
            <p:nvPr/>
          </p:nvSpPr>
          <p:spPr>
            <a:xfrm>
              <a:off x="5874480" y="3281040"/>
              <a:ext cx="1963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50 UI/Kg 3x/s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2"/>
            <p:cNvSpPr/>
            <p:nvPr/>
          </p:nvSpPr>
          <p:spPr>
            <a:xfrm>
              <a:off x="3919320" y="4728960"/>
              <a:ext cx="9907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g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>
              <a:off x="4414680" y="1680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4"/>
            <p:cNvSpPr/>
            <p:nvPr/>
          </p:nvSpPr>
          <p:spPr>
            <a:xfrm>
              <a:off x="4414680" y="243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"/>
            <p:cNvSpPr/>
            <p:nvPr/>
          </p:nvSpPr>
          <p:spPr>
            <a:xfrm>
              <a:off x="4414680" y="43480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6"/>
            <p:cNvSpPr/>
            <p:nvPr/>
          </p:nvSpPr>
          <p:spPr>
            <a:xfrm>
              <a:off x="2890800" y="5567040"/>
              <a:ext cx="348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Group 17"/>
            <p:cNvGrpSpPr/>
            <p:nvPr/>
          </p:nvGrpSpPr>
          <p:grpSpPr>
            <a:xfrm>
              <a:off x="1976400" y="2823840"/>
              <a:ext cx="4876560" cy="380880"/>
              <a:chOff x="1976400" y="2823840"/>
              <a:chExt cx="4876560" cy="380880"/>
            </a:xfrm>
          </p:grpSpPr>
          <p:grpSp>
            <p:nvGrpSpPr>
              <p:cNvPr id="560" name="Group 18"/>
              <p:cNvGrpSpPr/>
              <p:nvPr/>
            </p:nvGrpSpPr>
            <p:grpSpPr>
              <a:xfrm>
                <a:off x="1976400" y="2823840"/>
                <a:ext cx="2057400" cy="380880"/>
                <a:chOff x="1976400" y="2823840"/>
                <a:chExt cx="2057400" cy="380880"/>
              </a:xfrm>
            </p:grpSpPr>
            <p:sp>
              <p:nvSpPr>
                <p:cNvPr id="561" name="Line 19"/>
                <p:cNvSpPr/>
                <p:nvPr/>
              </p:nvSpPr>
              <p:spPr>
                <a:xfrm>
                  <a:off x="1976400" y="28238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0"/>
                <p:cNvSpPr/>
                <p:nvPr/>
              </p:nvSpPr>
              <p:spPr>
                <a:xfrm>
                  <a:off x="1976400" y="28238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21"/>
              <p:cNvGrpSpPr/>
              <p:nvPr/>
            </p:nvGrpSpPr>
            <p:grpSpPr>
              <a:xfrm>
                <a:off x="4795560" y="2823840"/>
                <a:ext cx="2057400" cy="380880"/>
                <a:chOff x="4795560" y="2823840"/>
                <a:chExt cx="2057400" cy="380880"/>
              </a:xfrm>
            </p:grpSpPr>
            <p:sp>
              <p:nvSpPr>
                <p:cNvPr id="564" name="Line 22"/>
                <p:cNvSpPr/>
                <p:nvPr/>
              </p:nvSpPr>
              <p:spPr>
                <a:xfrm>
                  <a:off x="6852960" y="28238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3"/>
                <p:cNvSpPr/>
                <p:nvPr/>
              </p:nvSpPr>
              <p:spPr>
                <a:xfrm>
                  <a:off x="4795560" y="28238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6" name="Line 24"/>
            <p:cNvSpPr/>
            <p:nvPr/>
          </p:nvSpPr>
          <p:spPr>
            <a:xfrm>
              <a:off x="1938240" y="368136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 flipH="1">
              <a:off x="6395760" y="36813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6"/>
            <p:cNvSpPr/>
            <p:nvPr/>
          </p:nvSpPr>
          <p:spPr>
            <a:xfrm>
              <a:off x="1953360" y="236664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7"/>
            <p:cNvSpPr/>
            <p:nvPr/>
          </p:nvSpPr>
          <p:spPr>
            <a:xfrm>
              <a:off x="5829840" y="23666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Ba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28"/>
            <p:cNvGrpSpPr/>
            <p:nvPr/>
          </p:nvGrpSpPr>
          <p:grpSpPr>
            <a:xfrm>
              <a:off x="1855800" y="4881240"/>
              <a:ext cx="5117760" cy="380880"/>
              <a:chOff x="1855800" y="4881240"/>
              <a:chExt cx="5117760" cy="380880"/>
            </a:xfrm>
          </p:grpSpPr>
          <p:grpSp>
            <p:nvGrpSpPr>
              <p:cNvPr id="571" name="Group 29"/>
              <p:cNvGrpSpPr/>
              <p:nvPr/>
            </p:nvGrpSpPr>
            <p:grpSpPr>
              <a:xfrm>
                <a:off x="1855800" y="4881240"/>
                <a:ext cx="2057400" cy="380880"/>
                <a:chOff x="1855800" y="4881240"/>
                <a:chExt cx="2057400" cy="380880"/>
              </a:xfrm>
            </p:grpSpPr>
            <p:sp>
              <p:nvSpPr>
                <p:cNvPr id="572" name="Line 30"/>
                <p:cNvSpPr/>
                <p:nvPr/>
              </p:nvSpPr>
              <p:spPr>
                <a:xfrm>
                  <a:off x="1855800" y="48812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1"/>
                <p:cNvSpPr/>
                <p:nvPr/>
              </p:nvSpPr>
              <p:spPr>
                <a:xfrm>
                  <a:off x="1855800" y="48812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32"/>
              <p:cNvGrpSpPr/>
              <p:nvPr/>
            </p:nvGrpSpPr>
            <p:grpSpPr>
              <a:xfrm>
                <a:off x="4916160" y="4881240"/>
                <a:ext cx="2057400" cy="380880"/>
                <a:chOff x="4916160" y="4881240"/>
                <a:chExt cx="2057400" cy="380880"/>
              </a:xfrm>
            </p:grpSpPr>
            <p:sp>
              <p:nvSpPr>
                <p:cNvPr id="575" name="Line 33"/>
                <p:cNvSpPr/>
                <p:nvPr/>
              </p:nvSpPr>
              <p:spPr>
                <a:xfrm>
                  <a:off x="6973560" y="48812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4"/>
                <p:cNvSpPr/>
                <p:nvPr/>
              </p:nvSpPr>
              <p:spPr>
                <a:xfrm>
                  <a:off x="4916160" y="4881240"/>
                  <a:ext cx="20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7" name="Text Box 35"/>
            <p:cNvSpPr/>
            <p:nvPr/>
          </p:nvSpPr>
          <p:spPr>
            <a:xfrm>
              <a:off x="1953360" y="442404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6"/>
            <p:cNvSpPr/>
            <p:nvPr/>
          </p:nvSpPr>
          <p:spPr>
            <a:xfrm>
              <a:off x="5829840" y="44240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cc3300"/>
                  </a:solidFill>
                  <a:latin typeface="Tahoma"/>
                </a:rPr>
                <a:t>Bai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7"/>
            <p:cNvGrpSpPr/>
            <p:nvPr/>
          </p:nvGrpSpPr>
          <p:grpSpPr>
            <a:xfrm>
              <a:off x="5557680" y="5719680"/>
              <a:ext cx="1447920" cy="228600"/>
              <a:chOff x="5557680" y="5719680"/>
              <a:chExt cx="1447920" cy="228600"/>
            </a:xfrm>
          </p:grpSpPr>
          <p:sp>
            <p:nvSpPr>
              <p:cNvPr id="580" name="Line 38"/>
              <p:cNvSpPr/>
              <p:nvPr/>
            </p:nvSpPr>
            <p:spPr>
              <a:xfrm>
                <a:off x="7005600" y="571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9"/>
              <p:cNvSpPr/>
              <p:nvPr/>
            </p:nvSpPr>
            <p:spPr>
              <a:xfrm flipH="1">
                <a:off x="5557680" y="59482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Título 1" descr=""/>
          <p:cNvPicPr/>
          <p:nvPr/>
        </p:nvPicPr>
        <p:blipFill>
          <a:blip r:embed="rId1"/>
          <a:stretch/>
        </p:blipFill>
        <p:spPr>
          <a:xfrm>
            <a:off x="1060560" y="2657520"/>
            <a:ext cx="6540480" cy="15303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ítulo 1" descr=""/>
          <p:cNvPicPr/>
          <p:nvPr/>
        </p:nvPicPr>
        <p:blipFill>
          <a:blip r:embed="rId1"/>
          <a:stretch/>
        </p:blipFill>
        <p:spPr>
          <a:xfrm>
            <a:off x="1042920" y="2279520"/>
            <a:ext cx="6656400" cy="1884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625500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e gravidade da hemofili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mofilia A (principalmente a grave): 10-30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mofilia B: 3-5%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prevalentes em irmãos (50%) em relação a outros familiares (9%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ça neg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1,9% Americanos Afro-descenden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5,8% Caucasian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ipo de mutação causadora doenç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LTO RISCO: inversão intron 22 / grandes deleções / nonsen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IXO RISCO: missense / pequenas deleçõ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Inib3"/>
          <p:cNvPicPr/>
          <p:nvPr/>
        </p:nvPicPr>
        <p:blipFill>
          <a:blip r:embed="rId2"/>
          <a:stretch/>
        </p:blipFill>
        <p:spPr>
          <a:xfrm>
            <a:off x="428760" y="1357200"/>
            <a:ext cx="7500960" cy="4786560"/>
          </a:xfrm>
          <a:prstGeom prst="rect">
            <a:avLst/>
          </a:prstGeom>
          <a:ln w="0">
            <a:noFill/>
          </a:ln>
        </p:spPr>
      </p:pic>
      <p:sp>
        <p:nvSpPr>
          <p:cNvPr id="245" name="CaixaDeTexto 4"/>
          <p:cNvSpPr/>
          <p:nvPr/>
        </p:nvSpPr>
        <p:spPr>
          <a:xfrm>
            <a:off x="3714840" y="62118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emophilia 2006; 12(suppl.3):52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racterísticas do sistema imu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imorfismos dos genes das citocinas inflamatóri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imorfismos dos genes de moléculas imunomodulador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 10 (alelo 134)             OR= 4,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L 10 e Inv. Intron 22      OR= 8,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-TNF (alelo 308 G/A)   OR= 16,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TLA 4 (alelo 318 C/T)  OR= 0,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4:13:50Z</dcterms:created>
  <dc:creator>Tassiana</dc:creator>
  <dc:description/>
  <dc:language>en-US</dc:language>
  <cp:lastModifiedBy>Tassiana</cp:lastModifiedBy>
  <dcterms:modified xsi:type="dcterms:W3CDTF">2009-06-17T02:42:38Z</dcterms:modified>
  <cp:revision>89</cp:revision>
  <dc:subject/>
  <dc:title>HEMOFILIA Congênita e inibidor</dc:title>
</cp:coreProperties>
</file>