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F2FB-E5EC-4EA9-A3B4-BEC1333A79F7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393B-CDFB-4D9B-882E-207B2D45DB25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4470-6316-4F5A-9123-9CDB6B8611B4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1BD7-F56B-4AFB-8FFE-6F8CB70209A4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7230-55EC-4447-A957-5E4E16DF46A4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8F74-B283-4F08-8CD0-96686EA11DE9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938F-ACA0-458A-BA93-ED7FEB73FA33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477-D2A9-45AA-AC36-7BE97779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48C-294A-4474-B178-5C7F417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4DD-697C-43C9-8328-AACEAB23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D39-004F-46B4-9926-6E8D46A1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F90-5E75-4646-877F-13504087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C5C-0020-4A37-86E5-E81526ED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DE2-A883-41E8-93AF-DEAC495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5E3-3E6D-49F6-A414-39989BC5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CCB-9D7A-4C1D-A794-118B7749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215-78D2-4CFE-BB0F-F7C8821E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126-3C21-4FC1-BF0D-FA85884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55B-A4FF-4A70-A932-5C942292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516A-E4AE-4475-921E-D1144DADA6B0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upuri.cncsis.ro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adrian.curaj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rupuri.cncsis.ro/documente.php?idDownload=4261" TargetMode="External"/><Relationship Id="rId2" Type="http://schemas.openxmlformats.org/officeDocument/2006/relationships/hyperlink" Target="http://grupuri.cncsis.ro/documente.php?idDownload=4262" TargetMode="External"/><Relationship Id="rId3" Type="http://schemas.openxmlformats.org/officeDocument/2006/relationships/hyperlink" Target="http://grupuri.cncsis.ro/documente.php?idDownload=4263" TargetMode="External"/><Relationship Id="rId4" Type="http://schemas.openxmlformats.org/officeDocument/2006/relationships/hyperlink" Target="http://grupuri.cncsis.ro/documente.php?idDownload=4264" TargetMode="External"/><Relationship Id="rId5" Type="http://schemas.openxmlformats.org/officeDocument/2006/relationships/hyperlink" Target="http://grupuri.cncsis.ro/documente.php?idDownload=4265" TargetMode="External"/><Relationship Id="rId6" Type="http://schemas.openxmlformats.org/officeDocument/2006/relationships/hyperlink" Target="http://grupuri.cncsis.ro/documente.php?idDownload=4266" TargetMode="External"/><Relationship Id="rId7" Type="http://schemas.openxmlformats.org/officeDocument/2006/relationships/hyperlink" Target="http://grupuri.cncsis.ro/documente.php?idDownload=4267" TargetMode="External"/><Relationship Id="rId8" Type="http://schemas.openxmlformats.org/officeDocument/2006/relationships/hyperlink" Target="http://grupuri.cncsis.ro/documente.php?idDownload=4268" TargetMode="External"/><Relationship Id="rId9" Type="http://schemas.openxmlformats.org/officeDocument/2006/relationships/hyperlink" Target="http://grupuri.cncsis.ro/documente.php?idDownload=4269" TargetMode="External"/><Relationship Id="rId10" Type="http://schemas.openxmlformats.org/officeDocument/2006/relationships/hyperlink" Target="http://grupuri.cncsis.ro/documente.php?idDownload=4270" TargetMode="External"/><Relationship Id="rId11" Type="http://schemas.openxmlformats.org/officeDocument/2006/relationships/hyperlink" Target="http://grupuri.cncsis.ro/documente.php?idDownload=4271" TargetMode="External"/><Relationship Id="rId12" Type="http://schemas.openxmlformats.org/officeDocument/2006/relationships/hyperlink" Target="http://grupuri.cncsis.ro/documente.php?idDownload=4272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9. 04.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428760" y="1285920"/>
            <a:ext cx="82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nk: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rupuri.cncsis.ro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Utilizator: a.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Parola: 67a88a74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285840"/>
            <a:ext cx="9144000" cy="9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sierul cu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ibutia individuala pentru evaluare se va incarca in folderu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tributii cursuri dista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sierele vor avea explicit numele autorului pentru identifica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me-prenume.doc/pdf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ungim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x 8 pagini, max 1 pagina bibliografie, A4, Times New Roman, 1 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ternativ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rian.curaj@gmail.c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0"/>
            <a:ext cx="871524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valuar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arcare CV in folderu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V cursuri distanta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5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arcare un document (carte, capitol carte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iu, raport etc.) in domeniul cursului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Documente ale studentilor cursuri distant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1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arcarea fisei bibliografice pentru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cumentul de mai sus in folder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Documente ale studentilor cursuri dis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ta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5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este trei contributii nu sunt obligatorii. Incarcarea lor contribuie la nota finala dar lipsa lor nu o diminueaz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ibutia individual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e obligatori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! toate contributiile trebuie sa poata fi usor asociate unui student; atentie la numele fisierul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87152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ibutiile se transmit si prin e-ma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drian.curaj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U UITATI SA ADAUGATI INFORMATIE REF ANUL DE STUDIU  : MASTER 1 sau MASTE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28760" y="285840"/>
            <a:ext cx="8501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de in Germany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  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RC IC 2007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  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CR 2005 Karolinska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R banca austriei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ICR Third Sector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ICR PANAC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CR Infineon AT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ICR 6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ICR Studiu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CR Univer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ICR Ricardis EC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ICR Aus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IC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ICR lug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ICR AAS 2006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286160" y="1643040"/>
            <a:ext cx="41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bile tipuri de Rapoarte de Capital Intelectual prezentate in site-ul cursul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06:28Z</dcterms:created>
  <dc:creator>Windows User</dc:creator>
  <dc:description/>
  <dc:language>en-US</dc:language>
  <cp:lastModifiedBy>tommy</cp:lastModifiedBy>
  <dcterms:modified xsi:type="dcterms:W3CDTF">2010-04-27T09:18:31Z</dcterms:modified>
  <cp:revision>20</cp:revision>
  <dc:subject/>
  <dc:title>Tutorial</dc:title>
</cp:coreProperties>
</file>