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515-F94E-40C4-95D1-DD534ED8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49F-48E7-458F-9F17-7A387BB2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C43-BC35-43FD-991E-4E2CE0DD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743-A9C0-4179-A83B-80C88BD0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2DE9-EEBF-4A61-83D0-52FE42AD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90CE-F750-4BBF-8633-0AEB8A17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75A5-656B-42B4-BA14-98E0634E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94BD-A354-4F61-BC96-2116015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3E2A-90B3-4649-B6CB-578BA67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0FA-DA0C-4960-90C1-737B71B5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653D-879E-4045-A93B-D0E16365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893-09BD-4E0C-8235-6C57D12C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25BC-9223-4944-955B-BF40D5C1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7F6F-09F8-41F9-8FD6-0A17D2E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31AB-1923-426C-949C-5DCE749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D4C7-B2F9-4F2F-9474-F0191D49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B3C0-3E07-49C7-8F80-A992589E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F09-DBB7-41C2-9B65-958DA2B5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AF5-5D3C-43D0-A33B-DF022DD6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FFF-5BB0-49E2-9D44-F256C6C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8DE-B1C5-446F-8777-D9EBA93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FAB-2B59-436D-BB60-4D8495D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F89-7F3A-49E9-BEE6-2623E38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985-5AF0-48FE-8BB7-0018136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6C5-CEE2-44B0-B573-D07C566C427C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0FEB-3D1E-4373-9C28-D830404D46F3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comic"/>
              </a:rPr>
              <a:t>Ca la noi…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7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omic"/>
              </a:rPr>
              <a:t>MADE IN ROMAN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2991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1428840"/>
            <a:ext cx="3810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3080"/>
            <a:ext cx="9144000" cy="617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0"/>
            <a:ext cx="8950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240" y="0"/>
            <a:ext cx="9082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8160"/>
            <a:ext cx="9144000" cy="6780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36880" y="0"/>
            <a:ext cx="5068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3080"/>
            <a:ext cx="9144000" cy="671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68400"/>
            <a:ext cx="9144000" cy="492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8240" y="0"/>
            <a:ext cx="4740120" cy="69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8320" y="0"/>
            <a:ext cx="5067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3760"/>
            <a:ext cx="9144000" cy="6810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9000" y="0"/>
            <a:ext cx="5164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40"/>
            <a:ext cx="9144000" cy="6851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62040" y="0"/>
            <a:ext cx="4218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80" y="0"/>
            <a:ext cx="8915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62400" y="0"/>
            <a:ext cx="2417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0"/>
            <a:ext cx="5145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7000"/>
            <a:ext cx="9144000" cy="680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303120"/>
            <a:ext cx="85676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9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2800" y="480960"/>
            <a:ext cx="82584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110484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1:40:16Z</dcterms:created>
  <dc:creator/>
  <dc:description/>
  <dc:language>en-US</dc:language>
  <cp:lastModifiedBy> </cp:lastModifiedBy>
  <dcterms:modified xsi:type="dcterms:W3CDTF">2009-03-11T14:54:24Z</dcterms:modified>
  <cp:revision>5</cp:revision>
  <dc:subject/>
  <dc:title>1502_romania</dc:title>
</cp:coreProperties>
</file>