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bd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228600"/>
            <a:ext cx="8839440" cy="64771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sto@amaltea.ro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bd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838080" y="1844640"/>
            <a:ext cx="75042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deile din aceast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rezentare le-am primit prin e-mail. Am f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ut c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va adapt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i,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 vi le trimit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 vou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pentru a v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juta pe drumul c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e o via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ţ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plinit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.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Cristian Carstoi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bd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71640" y="3573360"/>
            <a:ext cx="698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195640"/>
            <a:ext cx="82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ritoriul s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 este ca o mare fabric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plutitoare care import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materie prim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din toat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lumea, o prelucreaz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iar produsul rezultat este exportat apoi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 toat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lumea,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uit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se acumuleaz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bog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bd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flipV="1">
            <a:off x="250920" y="923400"/>
            <a:ext cx="8642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i avem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 exemplul Elve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ei, tar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cces la mare, dar care de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e una din cele mai mari  flote maritime din lume.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 Car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u are cacao, dar are ciocolata cea mai bun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in lume. Care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 pu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ii ei kilometri p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a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 cre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 vite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 permite cultura doar 4 luni pe an, deoarece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 restul timpului este foarte frig. Care are cele mai bune produse lactate din Europa. Si care, ca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 Japonia, nu are materii prime, dar export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roduse de o calitate greu de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trec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e care siguran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, ordinea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 munca au transformat-o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 “casa de bani” a lumii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bd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0800" y="2637000"/>
            <a:ext cx="75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ro-RO" sz="32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nu este nici inteligen</a:t>
            </a:r>
            <a:r>
              <a:rPr b="1" i="1" lang="ro-RO" sz="32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oamenilor </a:t>
            </a:r>
            <a:r>
              <a:rPr b="1" i="1" lang="ro-RO" sz="3200" spc="-1" strike="noStrike">
                <a:solidFill>
                  <a:srgbClr val="ffffff"/>
                </a:solidFill>
                <a:latin typeface="Arial"/>
              </a:rPr>
              <a:t>cea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re face diferen</a:t>
            </a:r>
            <a:r>
              <a:rPr b="1" i="1" lang="ro-RO" sz="32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1" i="1" lang="ro-RO" sz="3200" spc="-1" strike="noStrike">
                <a:solidFill>
                  <a:srgbClr val="ffffff"/>
                </a:solidFill>
                <a:latin typeface="Arial"/>
              </a:rPr>
              <a:t> între bogăţie şi sărăci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bd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38080" y="2225520"/>
            <a:ext cx="741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east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fap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este demonstrat de studen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i din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ile s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ace care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studi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ile bogate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ob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 rezultate excelente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 educa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a 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bd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2057400"/>
            <a:ext cx="754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n alt exemplu poate fi v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zut la managerii din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ile occidentale care ne viziteaz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ra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. V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rbind cu ei ne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pute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 seama c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nu exist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nici o diferen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ntelectual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 notabil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bd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3560" y="2666880"/>
            <a:ext cx="769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 sf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âr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, putem spune c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nici rasa nu face diferen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a între bogaţi şi săraci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bd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43040" y="2301840"/>
            <a:ext cx="7562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ile Europei Occidentale putem vedea cum  “lene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i” (hispanici sau africani) demonstreaz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c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ei sunt for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productiv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 aceste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bd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14120" y="2330280"/>
            <a:ext cx="545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i atunci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Ce face diferen</a:t>
            </a:r>
            <a:r>
              <a:rPr b="1" lang="ro-RO" sz="48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bd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2482920"/>
            <a:ext cx="789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ATITUDINE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oamenilor face diferen</a:t>
            </a:r>
            <a:r>
              <a:rPr b="1" lang="ro-RO" sz="48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bd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2120" y="2225520"/>
            <a:ext cx="777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udiind comportamentul persoanelor din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ile bogate, descoperim c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marea parte a popula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ei respect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urm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arele reguli (ordinea nu este important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bd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1662120"/>
            <a:ext cx="792468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voile primare ale oamenilor se consider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 f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ii (prin intermediul c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ra ob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em alimente, adapost,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br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nte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distrac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agos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bd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66680" y="1074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 E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5600" y="2011320"/>
            <a:ext cx="45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. Ordine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cur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i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4880" y="2925720"/>
            <a:ext cx="47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3. Integritate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cinste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5960" y="3840120"/>
            <a:ext cx="340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4. Punctualitate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5600" y="4800600"/>
            <a:ext cx="38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5. Resposabilitate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bd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2240" y="99072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6. Dorin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de perfec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o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11160" y="1905120"/>
            <a:ext cx="77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7. Respectul pentru legi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regul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77344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8. Respectul pentru drepturile celorla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l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2600" y="3809880"/>
            <a:ext cx="541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9. Dragostea pentru munc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48006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0. Efortul pentru a face economii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cheltuiala cu chibzuin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bd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230184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re Rom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ia nevoie de alte leg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u ar fi oare de ajuns s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respect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 cu to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i aceste 10 reguli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bd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2209680"/>
            <a:ext cx="753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ile s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ace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numai o mic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parte (nesemnificativ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 din popula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e se conduce dup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regulile acestea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 via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de zi cu z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bd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120" y="146376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u suntem s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aci din cauz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c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ra noastr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n-are resurse naturale sau fiindc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natura este crud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cu noi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3809880"/>
            <a:ext cx="60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ntem s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aci pur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simp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n cauza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titudinii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noas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bd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62120" y="2438280"/>
            <a:ext cx="7659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 lipse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 caracterul pentru a ne comporta  dup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ceste  principii de baz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le func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ii societ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bd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43000" y="2332080"/>
            <a:ext cx="69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c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vom a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pta ca Guvernul s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ne rezolve problemele noastre, vom a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pta toat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via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bd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2133720"/>
            <a:ext cx="7815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he-I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aten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e deosebit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c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t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fap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lor noastre,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preun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cu schimbarea de atitudine pot semnifica intrarea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ii nostre pe drumul progresului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bun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bd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164772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alorile acestea vor anima fiecare proces de schimbare pe care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 impulsion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, fiecare obiectiv care-l vom atinge,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 principal stilul de via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care-l vom av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preun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vom putea modela o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r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mai bun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bd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07784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ca vei returna sau vei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rge acest e-mail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îţ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 va muri c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ele sau pisica, nu te vor da afar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e la serviciu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 nici m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vei avea 7 ani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grozito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r dac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îţ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 dore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 un alt viitor, mai bun, pentru tine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 copiii t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, las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i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erul ac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oin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sc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rin Interne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tfel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c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 mai mul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 oameni s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e poat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g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di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 mod serios la aceste ide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bd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743200"/>
            <a:ext cx="736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ul din modurile de a atinge  aceste obiective este s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fii bogat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pros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bd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95560" y="2332080"/>
            <a:ext cx="680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p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cum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exist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ameni boga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oameni s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ci, tot a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exist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i bogate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i s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bd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27040" y="2408400"/>
            <a:ext cx="61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eren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tre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ile s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ce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ile bogate nu const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 vechimea 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bd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4520" y="2149560"/>
            <a:ext cx="7995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east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fap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poate fi dovedit dac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d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 ca exemplu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i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precu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ndia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sau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Egiptul,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re exist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de mii de ani, dar sunt s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bd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2043000"/>
            <a:ext cx="7954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re deosebire de acestea, sunt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i ca Australia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sau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Noua Zeeland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care p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 urm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cu mai pu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de 150 de ani erau necunoscute, iar ast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i sunt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i dezvoltate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bog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bd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90720" y="248436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eren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tre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ile bogate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cele s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ace nu este legat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de resursele naturale pe care acestea le posed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bd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73120" y="2057400"/>
            <a:ext cx="8037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 exemplu, Japonia, care are un teritoriu mic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muntos, care nu este deloc potrivit nici agriculturii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nici cre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rii vitelor,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 nici nu are petrol sau minereuri, dar est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doua putere economic</a:t>
            </a:r>
            <a:r>
              <a:rPr b="1" i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mondial</a:t>
            </a:r>
            <a:r>
              <a:rPr b="1" i="1" lang="ro-RO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23:40:31Z</dcterms:created>
  <dc:creator/>
  <dc:description/>
  <dc:language>en-US</dc:language>
  <cp:lastModifiedBy>Andy Vasilescu-Colentina</cp:lastModifiedBy>
  <dcterms:modified xsi:type="dcterms:W3CDTF">2006-07-25T13:47:41Z</dcterms:modified>
  <cp:revision>46</cp:revision>
  <dc:subject/>
  <dc:title>Los deseos primarios de todas las personas son:</dc:title>
</cp:coreProperties>
</file>