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  <p:custShowLst>
    <p:custShow name="Le tour" id="0">
      <p:sldLst>
        <p:sld r:id="rId3"/>
        <p:sld r:id="rId11"/>
        <p:sld r:id="rId14"/>
      </p:sldLst>
    </p:custShow>
    <p:custShow name="Copie de Le tour" id="1">
      <p:sldLst>
        <p:sld r:id="rId3"/>
        <p:sld r:id="rId11"/>
        <p:sld r:id="rId1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0985-BAD0-40AB-94DB-7972EB91B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DD2F-9E74-4C51-A6C7-235105981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946B-B9D2-434A-8C76-061EC2EB0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1717-E7C6-4393-A071-7E2F01BCC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8394-9D21-4EB8-BDAC-A4AD7A932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14A2-B2A3-4D6E-A402-3C26EB333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7F32-749E-43B6-BE2D-4608F69B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0C9F-E7B6-407F-9499-1A2F79675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BBFD-B8DD-498B-B5F2-408E9F2E4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4A30-5A31-48B3-B551-88B81F7C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A4FE-ED39-4E8C-A158-CC9F5DCF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F66C-DDAE-4B89-AFD6-1973CA11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8714B-BB9E-4753-8DF4-3A888C94A1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Vrei sa vezi de ce sunt capabil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667640" y="6524640"/>
            <a:ext cx="1471680" cy="324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Impact"/>
              </a:rPr>
              <a:t>www.6vs9.net</a:t>
            </a:r>
            <a:endParaRPr b="0" lang="en-US" sz="20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6000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51000" y="2438280"/>
            <a:ext cx="429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400" spc="-1" strike="noStrike">
                <a:solidFill>
                  <a:srgbClr val="66ccff"/>
                </a:solidFill>
                <a:latin typeface="Times New Roman"/>
              </a:rPr>
              <a:t>Acum  priveşte  drept  în  ochii  mei şi gândeşte-te la  cartea  ta</a:t>
            </a:r>
            <a:r>
              <a:rPr b="0" i="1" lang="pl-PL" sz="2400" spc="-1" strike="noStrike">
                <a:solidFill>
                  <a:srgbClr val="66cc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7667640" y="6524640"/>
            <a:ext cx="1471680" cy="324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Impact"/>
              </a:rPr>
              <a:t>www.6vs9.net</a:t>
            </a:r>
            <a:endParaRPr b="0" lang="en-US" sz="20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6000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51000" y="2438280"/>
            <a:ext cx="429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400" spc="-1" strike="noStrike">
                <a:solidFill>
                  <a:srgbClr val="b2b2b2"/>
                </a:solidFill>
                <a:latin typeface="Times New Roman"/>
              </a:rPr>
              <a:t>Nu  te  cunosc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400" spc="-1" strike="noStrike">
                <a:solidFill>
                  <a:srgbClr val="b2b2b2"/>
                </a:solidFill>
                <a:latin typeface="Times New Roman"/>
              </a:rPr>
              <a:t>Nu  pot  vedea  cartea  pe  care  ai  ales-o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400" spc="-1" strike="noStrike">
                <a:solidFill>
                  <a:srgbClr val="b2b2b2"/>
                </a:solidFill>
                <a:latin typeface="Times New Roman"/>
              </a:rPr>
              <a:t>...dar  ştiu  exact  cartea  care  se  află  în  mintea  ta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667640" y="6524640"/>
            <a:ext cx="1471680" cy="324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Impact"/>
              </a:rPr>
              <a:t>www.6vs9.net</a:t>
            </a:r>
            <a:endParaRPr b="0" lang="en-US" sz="20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5000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352680" y="5408640"/>
            <a:ext cx="3505320" cy="9158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51000" y="2438280"/>
            <a:ext cx="42973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800" spc="-1" strike="noStrike">
                <a:solidFill>
                  <a:srgbClr val="ffffff"/>
                </a:solidFill>
                <a:latin typeface="Times New Roman"/>
              </a:rPr>
              <a:t>Priveşte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 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800" spc="-1" strike="noStrike">
                <a:solidFill>
                  <a:srgbClr val="ffffff"/>
                </a:solidFill>
                <a:latin typeface="Times New Roman"/>
              </a:rPr>
              <a:t>Cartea ta a  dispărut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pl-PL" sz="4800" spc="-1" strike="noStrike">
                <a:solidFill>
                  <a:srgbClr val="ffffff"/>
                </a:solidFill>
                <a:latin typeface="Times New Roman"/>
              </a:rPr>
              <a:t>!!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7667640" y="6524640"/>
            <a:ext cx="1471680" cy="324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Impact"/>
              </a:rPr>
              <a:t>www.6vs9.net</a:t>
            </a:r>
            <a:endParaRPr b="0" lang="en-US" sz="20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9000">
    <p:randomBar dir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26960" y="2787480"/>
            <a:ext cx="429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b-NO" sz="4800" spc="-1" strike="noStrike">
                <a:solidFill>
                  <a:srgbClr val="ffffff"/>
                </a:solidFill>
                <a:latin typeface="Times New Roman"/>
              </a:rPr>
              <a:t>Surpri</a:t>
            </a:r>
            <a:r>
              <a:rPr b="1" i="1" lang="ro-RO" sz="4800" spc="-1" strike="noStrike">
                <a:solidFill>
                  <a:srgbClr val="ffffff"/>
                </a:solidFill>
                <a:latin typeface="Times New Roman"/>
              </a:rPr>
              <a:t>ns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nb-NO" sz="4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b-NO" sz="4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7667640" y="6524640"/>
            <a:ext cx="1471680" cy="324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Impact"/>
              </a:rPr>
              <a:t>www.6vs9.net</a:t>
            </a:r>
            <a:endParaRPr b="0" lang="en-US" sz="20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5000">
    <p:randomBar dir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279440" y="2546280"/>
            <a:ext cx="413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1600200"/>
            <a:ext cx="397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200" spc="-1" strike="noStrike">
                <a:solidFill>
                  <a:srgbClr val="cc0000"/>
                </a:solidFill>
                <a:latin typeface="Times New Roman"/>
              </a:rPr>
              <a:t>Îţi  rămân  7  zile  după  citirea  acestui  mesaj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es-MX" sz="3200" spc="-1" strike="noStrike">
                <a:solidFill>
                  <a:srgbClr val="cc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7667640" y="6524640"/>
            <a:ext cx="1471680" cy="324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Impact"/>
              </a:rPr>
              <a:t>www.6vs9.net</a:t>
            </a:r>
            <a:endParaRPr b="0" lang="en-US" sz="20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2000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295280" y="2590920"/>
            <a:ext cx="3276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cc0000"/>
                </a:solidFill>
                <a:latin typeface="Times New Roman"/>
              </a:rPr>
              <a:t>... t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imp in care trebuie sa il imparti la cat mai multe persoane  </a:t>
            </a:r>
            <a:r>
              <a:rPr b="1" i="1" lang="ro-RO" sz="3200" spc="-1" strike="noStrike">
                <a:solidFill>
                  <a:srgbClr val="cc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7667640" y="6524640"/>
            <a:ext cx="1471680" cy="324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Impact"/>
              </a:rPr>
              <a:t>www.6vs9.net</a:t>
            </a:r>
            <a:endParaRPr b="0" lang="en-US" sz="20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2000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295280" y="259092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cc0000"/>
                </a:solidFill>
                <a:latin typeface="Times New Roman"/>
              </a:rPr>
              <a:t>... Gandindu-te la o dorinta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ro-RO" sz="3200" spc="-1" strike="noStrike">
                <a:solidFill>
                  <a:srgbClr val="cc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667640" y="6524640"/>
            <a:ext cx="1471680" cy="324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Impact"/>
              </a:rPr>
              <a:t>www.6vs9.net</a:t>
            </a:r>
            <a:endParaRPr b="0" lang="en-US" sz="20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2000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295280" y="2590920"/>
            <a:ext cx="32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cc0000"/>
                </a:solidFill>
                <a:latin typeface="Times New Roman"/>
              </a:rPr>
              <a:t>... CEA MAI MARE DORINTA A TA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7667640" y="6524640"/>
            <a:ext cx="1471680" cy="324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Impact"/>
              </a:rPr>
              <a:t>www.6vs9.net</a:t>
            </a:r>
            <a:endParaRPr b="0" lang="en-US" sz="20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2000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95280" y="2590920"/>
            <a:ext cx="32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cc0000"/>
                </a:solidFill>
                <a:latin typeface="Times New Roman"/>
              </a:rPr>
              <a:t>... si dorinta ta are sa se indeplineasca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ro-RO" sz="3200" spc="-1" strike="noStrike">
                <a:solidFill>
                  <a:srgbClr val="cc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7667640" y="6524640"/>
            <a:ext cx="1471680" cy="324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Impact"/>
              </a:rPr>
              <a:t>www.6vs9.net</a:t>
            </a:r>
            <a:endParaRPr b="0" lang="en-US" sz="20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2000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295280" y="2590920"/>
            <a:ext cx="32767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cc0000"/>
                </a:solidFill>
                <a:latin typeface="Times New Roman"/>
              </a:rPr>
              <a:t>... daca vine din suflet si crezi cu adevarat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GARANTAT 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7667640" y="6524640"/>
            <a:ext cx="1471680" cy="324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Impact"/>
              </a:rPr>
              <a:t>www.6vs9.net</a:t>
            </a:r>
            <a:endParaRPr b="0" lang="en-US" sz="20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2000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25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4400" spc="-1" strike="noStrike">
                <a:solidFill>
                  <a:srgbClr val="ffffff"/>
                </a:solidFill>
                <a:latin typeface="Times New Roman"/>
              </a:rPr>
              <a:t>În  doar o  clipă</a:t>
            </a: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o-RO" sz="4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7667640" y="6524640"/>
            <a:ext cx="1471680" cy="324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Impact"/>
              </a:rPr>
              <a:t>www.6vs9.net</a:t>
            </a:r>
            <a:endParaRPr b="0" lang="en-US" sz="20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2000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26960" y="2787480"/>
            <a:ext cx="450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b-NO" sz="4800" spc="-1" strike="noStrike">
                <a:solidFill>
                  <a:srgbClr val="ffffff"/>
                </a:solidFill>
                <a:latin typeface="Times New Roman"/>
              </a:rPr>
              <a:t>Sa ai o zi buna 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7667640" y="6524640"/>
            <a:ext cx="1471680" cy="324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Impact"/>
              </a:rPr>
              <a:t>www.6vs9.net</a:t>
            </a:r>
            <a:endParaRPr b="0" lang="en-US" sz="20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2000">
    <p:randomBar dir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95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ei  fi  martorul  a  ceva  cu  adevărat  ciud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7667640" y="6524640"/>
            <a:ext cx="1471680" cy="324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Impact"/>
              </a:rPr>
              <a:t>www.6vs9.net</a:t>
            </a:r>
            <a:endParaRPr b="0" lang="en-US" sz="20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3000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18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4400" spc="-1" strike="noStrike">
                <a:solidFill>
                  <a:srgbClr val="ffffff"/>
                </a:solidFill>
                <a:latin typeface="Times New Roman"/>
              </a:rPr>
              <a:t>Vei  fi  martorul</a:t>
            </a:r>
            <a:r>
              <a:rPr b="0" i="1" lang="nb-NO" sz="4400" spc="-1" strike="noStrike">
                <a:solidFill>
                  <a:srgbClr val="ffffff"/>
                </a:solidFill>
                <a:latin typeface="Times New Roman"/>
              </a:rPr>
              <a:t> ...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7667640" y="6524640"/>
            <a:ext cx="1471680" cy="324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Impact"/>
              </a:rPr>
              <a:t>www.6vs9.net</a:t>
            </a:r>
            <a:endParaRPr b="0" lang="en-US" sz="20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2000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40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4400" spc="-1" strike="noStrike">
                <a:solidFill>
                  <a:srgbClr val="ffffff"/>
                </a:solidFill>
                <a:latin typeface="Times New Roman"/>
              </a:rPr>
              <a:t>Unei  iluzii  uimitoare</a:t>
            </a: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, nemaivazut</a:t>
            </a:r>
            <a:r>
              <a:rPr b="0" i="1" lang="ro-RO" sz="4400" spc="-1" strike="noStrike">
                <a:solidFill>
                  <a:srgbClr val="ffffff"/>
                </a:solidFill>
                <a:latin typeface="Times New Roman"/>
              </a:rPr>
              <a:t>ă</a:t>
            </a: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 in lume 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...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667640" y="6524640"/>
            <a:ext cx="1471680" cy="324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Impact"/>
              </a:rPr>
              <a:t>www.6vs9.net</a:t>
            </a:r>
            <a:endParaRPr b="0" lang="en-US" sz="20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2000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3500280"/>
            <a:ext cx="511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i="1" lang="ro-RO" sz="4400" spc="-1" strike="noStrike">
                <a:solidFill>
                  <a:srgbClr val="ffffff"/>
                </a:solidFill>
                <a:latin typeface="Times New Roman"/>
              </a:rPr>
              <a:t> iluzie </a:t>
            </a: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reeat</a:t>
            </a:r>
            <a:r>
              <a:rPr b="0" i="1" lang="ro-RO" sz="4400" spc="-1" strike="noStrike">
                <a:solidFill>
                  <a:srgbClr val="ffffff"/>
                </a:solidFill>
                <a:latin typeface="Times New Roman"/>
              </a:rPr>
              <a:t>ă</a:t>
            </a: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 de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667640" y="6524640"/>
            <a:ext cx="1471680" cy="324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Impact"/>
              </a:rPr>
              <a:t>www.6vs9.net</a:t>
            </a:r>
            <a:endParaRPr b="0" lang="en-US" sz="20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6000">
    <p:randomBa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25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4400" spc="-1" strike="noStrike">
                <a:solidFill>
                  <a:srgbClr val="ffffff"/>
                </a:solidFill>
                <a:latin typeface="Times New Roman"/>
              </a:rPr>
              <a:t>Deşi  </a:t>
            </a: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sunt convins </a:t>
            </a:r>
            <a:r>
              <a:rPr b="0" i="1" lang="ro-RO" sz="4400" spc="-1" strike="noStrike">
                <a:solidFill>
                  <a:srgbClr val="ffffff"/>
                </a:solidFill>
                <a:latin typeface="Times New Roman"/>
              </a:rPr>
              <a:t>că</a:t>
            </a: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 nu ma crezi</a:t>
            </a:r>
            <a:r>
              <a:rPr b="0" i="1" lang="ro-RO" sz="4400" spc="-1" strike="noStrike">
                <a:solidFill>
                  <a:srgbClr val="ffffff"/>
                </a:solidFill>
                <a:latin typeface="Times New Roman"/>
              </a:rPr>
              <a:t>, vei  vedea  că</a:t>
            </a: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..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7667640" y="6524640"/>
            <a:ext cx="1471680" cy="324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Impact"/>
              </a:rPr>
              <a:t>www.6vs9.net</a:t>
            </a:r>
            <a:endParaRPr b="0" lang="en-US" sz="20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3000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458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4400" spc="-1" strike="noStrike">
                <a:solidFill>
                  <a:srgbClr val="ffffff"/>
                </a:solidFill>
                <a:latin typeface="Times New Roman"/>
              </a:rPr>
              <a:t>Pot </a:t>
            </a: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face o conexiune telepatic</a:t>
            </a:r>
            <a:r>
              <a:rPr b="0" i="1" lang="ro-RO" sz="4400" spc="-1" strike="noStrike">
                <a:solidFill>
                  <a:srgbClr val="ffffff"/>
                </a:solidFill>
                <a:latin typeface="Times New Roman"/>
              </a:rPr>
              <a:t>ă</a:t>
            </a: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o-RO" sz="4400" spc="-1" strike="noStrike">
                <a:solidFill>
                  <a:srgbClr val="ffffff"/>
                </a:solidFill>
                <a:latin typeface="Times New Roman"/>
              </a:rPr>
              <a:t>prin </a:t>
            </a: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intermediul </a:t>
            </a:r>
            <a:r>
              <a:rPr b="0" i="1" lang="ro-RO" sz="4400" spc="-1" strike="noStrike">
                <a:solidFill>
                  <a:srgbClr val="ffffff"/>
                </a:solidFill>
                <a:latin typeface="Times New Roman"/>
              </a:rPr>
              <a:t>monitor</a:t>
            </a: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ului</a:t>
            </a:r>
            <a:r>
              <a:rPr b="0" i="1" lang="ro-RO" sz="4400" spc="-1" strike="noStrike">
                <a:solidFill>
                  <a:srgbClr val="ffffff"/>
                </a:solidFill>
                <a:latin typeface="Times New Roman"/>
              </a:rPr>
              <a:t>,  </a:t>
            </a: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pentru a vedea</a:t>
            </a:r>
            <a:r>
              <a:rPr b="0" i="1" lang="ro-RO" sz="4400" spc="-1" strike="noStrike">
                <a:solidFill>
                  <a:srgbClr val="ffffff"/>
                </a:solidFill>
                <a:latin typeface="Times New Roman"/>
              </a:rPr>
              <a:t> în interiorul minţii tale.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667640" y="6524640"/>
            <a:ext cx="1471680" cy="324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Impact"/>
              </a:rPr>
              <a:t>www.6vs9.net</a:t>
            </a:r>
            <a:endParaRPr b="0" lang="en-US" sz="20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4000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514600" y="5194440"/>
            <a:ext cx="4495680" cy="9777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04920" y="1314360"/>
            <a:ext cx="4724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400" spc="-1" strike="noStrike">
                <a:solidFill>
                  <a:srgbClr val="ffffff"/>
                </a:solidFill>
                <a:latin typeface="Times New Roman"/>
              </a:rPr>
              <a:t>Vezi  6  cărţi  difer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400" spc="-1" strike="noStrike">
                <a:solidFill>
                  <a:srgbClr val="ffffff"/>
                </a:solidFill>
                <a:latin typeface="Times New Roman"/>
              </a:rPr>
              <a:t>Gândeşte-te  la  u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400" spc="-1" strike="noStrike">
                <a:solidFill>
                  <a:srgbClr val="ffffff"/>
                </a:solidFill>
                <a:latin typeface="Times New Roman"/>
              </a:rPr>
              <a:t>Doar  gândeşte-te  la  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400" spc="-1" strike="noStrike">
                <a:solidFill>
                  <a:srgbClr val="ffffff"/>
                </a:solidFill>
                <a:latin typeface="Times New Roman"/>
              </a:rPr>
              <a:t>Nu  o  atin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400" spc="-1" strike="noStrike">
                <a:solidFill>
                  <a:srgbClr val="ffffff"/>
                </a:solidFill>
                <a:latin typeface="Times New Roman"/>
              </a:rPr>
              <a:t>Nu  face  click  pe  ea.</a:t>
            </a:r>
            <a:r>
              <a:rPr b="0" i="1" lang="nb-NO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400" spc="-1" strike="noStrike">
                <a:solidFill>
                  <a:srgbClr val="ffffff"/>
                </a:solidFill>
                <a:latin typeface="Times New Roman"/>
              </a:rPr>
              <a:t>Voi descoperi cartea  din  mintea  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34280" y="5262480"/>
            <a:ext cx="455760" cy="243000"/>
          </a:xfrm>
          <a:custGeom>
            <a:avLst/>
            <a:gdLst/>
            <a:ahLst/>
            <a:rect l="l" t="t" r="r" b="b"/>
            <a:pathLst>
              <a:path w="861" h="459">
                <a:moveTo>
                  <a:pt x="39" y="30"/>
                </a:moveTo>
                <a:lnTo>
                  <a:pt x="26" y="236"/>
                </a:lnTo>
                <a:lnTo>
                  <a:pt x="14" y="446"/>
                </a:lnTo>
                <a:lnTo>
                  <a:pt x="845" y="427"/>
                </a:lnTo>
                <a:lnTo>
                  <a:pt x="813" y="268"/>
                </a:lnTo>
                <a:lnTo>
                  <a:pt x="861" y="436"/>
                </a:lnTo>
                <a:lnTo>
                  <a:pt x="0" y="459"/>
                </a:lnTo>
                <a:lnTo>
                  <a:pt x="26" y="0"/>
                </a:lnTo>
                <a:lnTo>
                  <a:pt x="39" y="30"/>
                </a:lnTo>
                <a:lnTo>
                  <a:pt x="39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667640" y="6524640"/>
            <a:ext cx="1471680" cy="324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Impact"/>
              </a:rPr>
              <a:t>www.6vs9.net</a:t>
            </a:r>
            <a:endParaRPr b="0" lang="en-US" sz="20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25000">
    <p:randomBar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65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15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40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2T14:36:11Z</dcterms:created>
  <dc:creator>DC</dc:creator>
  <dc:description/>
  <dc:language>en-US</dc:language>
  <cp:lastModifiedBy>db</cp:lastModifiedBy>
  <dcterms:modified xsi:type="dcterms:W3CDTF">2007-05-31T18:26:18Z</dcterms:modified>
  <cp:revision>54</cp:revision>
  <dc:subject/>
  <dc:title>DC</dc:title>
</cp:coreProperties>
</file>