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D685-7899-4EF4-99CF-3FD04FD1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EF1E-65EE-4A0D-9CEA-DD152EC7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EA5-73BC-46FD-BB03-0D70938B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C87-944E-47B0-A5B3-5478479D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C31-1C03-4D51-A6C0-DB531A48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117-8CC7-4D22-9EFF-79839FEF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51A-ACA8-4DB0-A326-0B1EA8CF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58F-3AEB-4BF7-ABF2-2CDF7DA8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EEB-900C-49DE-913E-ED5364A9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596-DF76-4CD6-B320-AB9C370D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336-643C-4FAB-B433-769DA977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815D-77D8-4C82-98D0-2E9F9AD3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D67E-9F37-4625-B2AF-C0692A3D8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00"/>
                </a:solidFill>
                <a:latin typeface="Tekton Pro Cond"/>
              </a:rPr>
              <a:t>Cine a mai rămas în România...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lorin Popes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981000"/>
            <a:ext cx="82803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ogat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În ciuda previziunilor optimiste ale telenovelelor, boga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i nu pl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g. Nu au de ce, nu au 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d, nu le-a adus aminte secreta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i mai mul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nu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u 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s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t boga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pentru 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nu se mai m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a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în raport cu tine, ci în raport cu al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boga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estia asta aduce cu sine o situa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e pe care nici psihologul pl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t cu 200 euro/o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n-o poate rezolva: s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t boga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cu Mercedes care sufe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n-au Bugat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ogatul român are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o alt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problem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nu e bogat de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 aici. 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d iese din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 doar ostentat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11320" y="0"/>
            <a:ext cx="51213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11280" y="1197000"/>
            <a:ext cx="7777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iatul de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 e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în general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fiul celui de mai 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Ziua lui de mun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 noaptea, spaima lui e moartea de plictiseal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arele cele mai robuste rezist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f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care o s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tam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p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a la dou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zile f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paparazz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deile lui s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t simple: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“M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le, du-te tu la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al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da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n-ai bani de distra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e!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Zilele lui s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t num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te: le num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presa de scandal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poporul odat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u ea, 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d scoate din frigider b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za, la o salat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de ro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i t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ate repede, p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nu începe Magda la OT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5640" y="1341360"/>
            <a:ext cx="770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ăş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ia au r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s în 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r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Restul au plecat, 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nu în concediu. Or mai fi 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al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i, nu 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iu, e treaba institutelor s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ne zic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Ce vreau eu s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spun e altce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ita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-v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la ei 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 încerca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 apoi s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v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închipui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 c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 din marfa asta, trebuie s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cem o na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u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9448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765000"/>
            <a:ext cx="7920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Zugrav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e o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ga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în col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l gurii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chef de mun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în col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l îndep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tat al vie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icoul rupt de pe el nu-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d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nici o idee despre onorariul pe care îl va cere la cap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ul unei zile de spoit în lene, pe un perete care nu se poate opune sau fu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g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ile lui s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t alea din reclama de la b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voile s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t cele naturale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în multe dintre ele apare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un copac, exact ca în cazul 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i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a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lui e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ea o reclam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la societatea moder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care a reu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cumva s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limine sele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a natural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um 30 de mii de ani, zugravul ar fi fost ucis pe loc, dup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primul cerb desenat st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b în pe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la Lascaux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480"/>
            <a:ext cx="9144000" cy="6735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71280"/>
            <a:ext cx="856944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ba urban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re deosebire de sora ei de la sat, baba urba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 v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zut multe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e tot. Î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u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, în ordine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nora, vecina, vecinul, administratorul, cartierul, ora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l. Paradoxal, î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iube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 îns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a, chiar da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nu-i poate g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 alte calit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de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 acelea cu care a 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s din cartea de româ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 di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195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ba urba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b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uie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 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otul în jurul ei e f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ut s-o fure: administra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a blocului, compania de gaze, st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ul care tocmai a intrat în hol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se uit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suspect la cutiile de scrisori. Asta nu-i face în nici un fel via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mai bu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 Destinul babei e s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oa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iar ea accept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sta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nu se mai ocup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u absolut nim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noi lipsesc cu des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re babele din America, alea care se duc voluntare la ONG-uri, sau alea din Fra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, care merg la mitinguri, 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d nu citesc literatu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de st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ga. Babele noastre doar voteaz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a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ult, b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fes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 p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oa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t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lumea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circul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gratis cu RA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600"/>
            <a:ext cx="9144000" cy="6831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476280"/>
            <a:ext cx="8820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ferul mane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rapid, pentru 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nu poate fi nimic altceva, în afa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de negustor de droguri sau combinator de terenu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l mai bun lucru din via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lui e motorul, f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ut de un neam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u mult mai de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pt, îns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ferul nostru nu pare s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sesizeze iro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Îi place s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împart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pumni, muzi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opin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e despre tine 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 prost.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e 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l e de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pt, iar via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, în felul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, devine foarte simpl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-aia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ferul manelist e cel mai relaxat dintre românii care au 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s în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a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d te întrebi de ce primarul Maz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 a pus palmieri la Consta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, 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unsul e limpede pe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sea: pentru 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aimu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e erau deja acolo.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nici n-aveau du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ni natur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05000" y="0"/>
            <a:ext cx="653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549360"/>
            <a:ext cx="85690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giner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lucrat 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dva în cercet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volu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a l-a prins la pla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t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dese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d cl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ri u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, cu spera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într-o bu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zi va fi l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t s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fie genial. 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d a fost l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, a continuat s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fie el însu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, cu program clar: diminea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la 8 la serviciu, la 17 acas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la 20 la a doua sticl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de vin.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      Î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trul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i s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t o mul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me de bagaje desf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ute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l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te a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, în lipsa de o nou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destina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e: literatu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SF, poe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optzeci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, dou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trei iubiri, neap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t consumate la Costine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, cu Radio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a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undeva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în surdi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 Se mi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greu printre ele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de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ia e depri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e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s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vi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vremuri mai bune, dar chiar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d apar la orizont, el spe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 s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i bat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la u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s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l ia de m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p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în Germania, unde sigur cineva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e de lucrarea lui de diplom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o revolu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e la vremea 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0:58:44Z</dcterms:created>
  <dc:creator>Florin Popescu</dc:creator>
  <dc:description/>
  <dc:language>en-US</dc:language>
  <cp:lastModifiedBy>Consuela Albu</cp:lastModifiedBy>
  <dcterms:modified xsi:type="dcterms:W3CDTF">2009-10-13T18:22:14Z</dcterms:modified>
  <cp:revision>12</cp:revision>
  <dc:subject/>
  <dc:title>Cine a mai rămas în Bucureşti...</dc:title>
</cp:coreProperties>
</file>