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4127-96F7-4652-AD67-E2A994E5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5DF0-60B6-4337-846E-9092F171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399D-9235-44D1-88A9-B66E3D837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D2BA-07A1-428F-B5F7-14991A83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27EE-B876-4586-86FD-66DB2EC6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D8F5-13A0-4885-B7FB-E92C1BBB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7F3F-02B9-4AFA-8018-996D2E5E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5615-59BF-4A5D-AFA4-6D2FE5F8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283B-19C3-4FAC-897D-5706A912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7749-E9CE-4F21-B963-05D8254B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3DCE-C100-40FA-B7D7-6D53F53B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B7CA-DFEF-46A8-8469-B31E78F6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330E-C855-4887-8A45-8A8BB1EA6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333360"/>
            <a:ext cx="9144000" cy="75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16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44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369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8:47:52Z</dcterms:created>
  <dc:creator>sanda</dc:creator>
  <dc:description/>
  <dc:language>en-US</dc:language>
  <cp:lastModifiedBy>sanda</cp:lastModifiedBy>
  <dcterms:modified xsi:type="dcterms:W3CDTF">2009-06-24T18:49:40Z</dcterms:modified>
  <cp:revision>2</cp:revision>
  <dc:subject/>
  <dc:title>Slide 1</dc:title>
</cp:coreProperties>
</file>