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962-8432-4D40-9CF4-30A942C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A78-05AD-474E-B8F4-9EE5313A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6DA-0365-45B9-9093-D88CC0C6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C7C-A50C-4705-8E00-B9AAF03A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4C7-114E-43F1-9015-6C8CBCC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785-8CAF-48C5-9043-0CF3FD2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514-A7CC-474D-99D9-040B2D3E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2F4-268C-4371-BBE9-F6925E44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572-ADA1-4970-BC99-F44C6B95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F0F-C85F-45F9-BADC-83FED54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5D7-4E6C-4AD9-A548-5F296B4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276-0CDA-455C-B396-05CDCA7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DE6-65FA-453E-8DF2-60BC583C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0"/>
            <a:ext cx="5143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76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549440" y="-54000"/>
            <a:ext cx="10693440" cy="710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332000" y="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476360" y="0"/>
            <a:ext cx="10620360" cy="705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0" y="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0333080" cy="686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0" y="-2700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16:00Z</dcterms:created>
  <dc:creator>ge</dc:creator>
  <dc:description/>
  <dc:language>en-US</dc:language>
  <cp:lastModifiedBy>ge</cp:lastModifiedBy>
  <dcterms:modified xsi:type="dcterms:W3CDTF">2008-09-21T14:27:06Z</dcterms:modified>
  <cp:revision>4</cp:revision>
  <dc:subject/>
  <dc:title>Dia 1</dc:title>
</cp:coreProperties>
</file>