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7.jpeg" ContentType="image/jpeg"/>
  <Override PartName="/ppt/media/image33.jpeg" ContentType="image/jpeg"/>
  <Override PartName="/ppt/media/image4.gif" ContentType="image/gif"/>
  <Override PartName="/ppt/media/image35.jpeg" ContentType="image/jpeg"/>
  <Override PartName="/ppt/media/image1.jpeg" ContentType="image/jpeg"/>
  <Override PartName="/ppt/media/image22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E150-FBBC-4359-B076-31227A10D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806C-73E5-4541-BEE3-B2D35506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DEA3-B102-4EC5-8E1E-95D280843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B52E-E95A-41E9-A774-5EF7581D5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FD8E-76BD-4595-B6D8-954B3DEE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0C73-7988-40E2-B562-82A90BFC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9167-CEFE-4A8C-9A3C-05A2B887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6BB5-731A-4E76-B8B7-5AB3590D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7D18-AC02-4FFE-8CAE-878DD2F1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9593-BF32-498D-84C6-9540F128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50F4-A1B9-475B-A2DB-56CDA905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9C83-F291-4649-89A2-78D45FE0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7CE7-2485-46C1-998D-92AD2E34C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0"/>
            <a:ext cx="51433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182080" y="0"/>
            <a:ext cx="961920" cy="990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428840" cy="7621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68360" y="0"/>
            <a:ext cx="455616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10404360" cy="69134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1405080" y="-27000"/>
            <a:ext cx="10549080" cy="70088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1549440" y="-54000"/>
            <a:ext cx="10693440" cy="7104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68360" y="0"/>
            <a:ext cx="455616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68360" y="0"/>
            <a:ext cx="455616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68360" y="0"/>
            <a:ext cx="455616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-1405080" y="-27000"/>
            <a:ext cx="10549080" cy="70088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68360" y="0"/>
            <a:ext cx="455616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1332000" y="0"/>
            <a:ext cx="10476000" cy="69595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1405080" y="-27000"/>
            <a:ext cx="10549080" cy="70088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-1260360" y="0"/>
            <a:ext cx="10404360" cy="69134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68360" y="0"/>
            <a:ext cx="455616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68360" y="0"/>
            <a:ext cx="455616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68360" y="0"/>
            <a:ext cx="455616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68360" y="0"/>
            <a:ext cx="455616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1405080" y="0"/>
            <a:ext cx="10549080" cy="70088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-1260360" y="0"/>
            <a:ext cx="10404360" cy="69134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1405080" y="0"/>
            <a:ext cx="10549080" cy="70088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1405080" y="0"/>
            <a:ext cx="10549080" cy="70088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68360" y="0"/>
            <a:ext cx="455616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9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68360" y="0"/>
            <a:ext cx="455616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1476360" y="0"/>
            <a:ext cx="10620360" cy="7056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1260360" y="0"/>
            <a:ext cx="10404360" cy="69134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1332000" y="0"/>
            <a:ext cx="10476000" cy="69595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10333080" cy="6865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1405080" y="0"/>
            <a:ext cx="10549080" cy="70088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68360" y="0"/>
            <a:ext cx="455616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0"/>
            <a:ext cx="455616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68360" y="0"/>
            <a:ext cx="455616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1332000" y="-27000"/>
            <a:ext cx="10476000" cy="69595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68360" y="0"/>
            <a:ext cx="455616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0"/>
            <a:ext cx="455616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4:16:00Z</dcterms:created>
  <dc:creator>ge</dc:creator>
  <dc:description/>
  <dc:language>en-US</dc:language>
  <cp:lastModifiedBy>ge</cp:lastModifiedBy>
  <dcterms:modified xsi:type="dcterms:W3CDTF">2008-09-21T14:27:06Z</dcterms:modified>
  <cp:revision>4</cp:revision>
  <dc:subject/>
  <dc:title>Dia 1</dc:title>
</cp:coreProperties>
</file>