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E6E-88C9-43B7-AB65-A5BC1E97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449-D8B4-49E2-96A8-1616CFD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E7B-9B56-47A2-A7C6-BCE18694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033-7D8B-46F5-B23A-12F84314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D50-B37F-4AD6-B739-421888CB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F4A-DF45-4009-ACE2-3CB5097C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9DA-61B9-4C27-9A15-656F442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A43-E80C-45B3-9C6B-7C49159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400-A96C-43B4-88BA-B54637B8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FF8-E0E9-4155-A88F-D14687E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592-D740-4C69-962D-BF46BD3C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B20-8D47-4F3E-8B20-E9CEC337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25EE-5D19-476E-85E7-2D43F08BFA3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988D-4AAA-4702-8786-FE333F62B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‘</a:t>
            </a: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‘Z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ESS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Y Z 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arly goal setting: Plan what you want to achieve based on your priorities in your career, relationship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t for life: Each day is a gift, smile and be thankful that you are a part of the bigger picture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바탕"/>
              </a:rPr>
              <a:t>FRIENDS, LET US FOLLOW THIS ALPHABET ON “STRESS MANAGEMENT” TO HAVE A LESS STRESSFUL AND MORE ENJOYABLE 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4648320"/>
            <a:ext cx="19350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A B C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ways take time for yourself, at least 30 minutes per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 aware of your own stress meter: Know when to step back and cool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ncentrate on controlling your own situation, without controlling everybody 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D E F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ily exercise will burn off the stress chemi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 lots of fresh fruit, veggies, bread and water, give your body the best for it to perform at its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rgive others, don't hold grudges and be tolerant -- not everyone is as capable as you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G H 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in perspective on things, how important is the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gs, kisses and laughter: Have fun and don't be afraid to share your feelings wit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ntify stressors and plan to deal with them better next tim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J K 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dge your own performance realistically; don't set goals out of your own r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ep a positive attitude, your outlook will influence outcomes and the way others trea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mit alcohol, drugs and other stimulants, they affect your perception and behaviou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M N 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nage money well, seek advice and save at least 10 per cent of what you 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 is a word you need to learn to use without feeling guil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tdoor activities by yourself, or with friends and family, can be a great way to relax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P Q 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ay your favourite music rather than watching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it smoking: It is stressing your body daily, not to mention killing you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lationships: Nurture and enjoy them, learn to listen more and talk less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S T U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eep well, with a firm mattress and a supportive pillow; don't overheat yourself and allow plenty of venti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at yourself once a week with a massage, dinner out, the movies: Moderation is the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derstand things from the other person's point of view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V W X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rify information from the source before explo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rry less, it really does not get things completed better or quic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ess: Make a regular retreat to your favourite space, make holidays part of your yearly plan and budget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lay Vyas</dc:creator>
  <dc:description/>
  <dc:language>en-US</dc:language>
  <cp:lastModifiedBy>nilayvyas</cp:lastModifiedBy>
  <dcterms:modified xsi:type="dcterms:W3CDTF">2007-09-03T10:33:21Z</dcterms:modified>
  <cp:revision>10</cp:revision>
  <dc:subject/>
  <dc:title>PowerPoint Presentation</dc:title>
</cp:coreProperties>
</file>