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juan1.wav" ContentType="audio/x-wav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FD2-2092-4B59-8331-128B60DD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EF6-43F9-4DE3-957F-9D2F13A9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3C8-0CC6-4222-BB41-234BE099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B6F-B41C-4541-839E-3487B588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561-B386-49E9-8361-E793A896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752-907F-4B30-BB15-4866964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E4A-C3FF-44A6-8729-2285AD51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E45-88CB-49CC-8C8C-EBF389B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18B-0AEC-4407-B361-9EE7B6B6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3EE-6198-45C4-BFEE-70D4C71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B23-EF0B-43F5-8BF9-2C3DE3D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1C-B016-4A02-9D69-0474424A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5F64-AE90-48F8-AD72-3D7EAD66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an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"/>
          <p:cNvPicPr/>
          <p:nvPr/>
        </p:nvPicPr>
        <p:blipFill>
          <a:blip r:embed="rId1"/>
          <a:stretch/>
        </p:blipFill>
        <p:spPr>
          <a:xfrm>
            <a:off x="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91966"/>
                </a:solidFill>
                <a:latin typeface="Tahoma"/>
              </a:rPr>
              <a:t>Alfabeto emocional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191966"/>
                </a:solidFill>
                <a:latin typeface="Tahoma"/>
              </a:rPr>
              <a:t>El Dr. Juan Hitzig estudió las características de algunos longevos saludables y concluyó que más allá de las características biológicas, el denominador común de todos ellos radicaba en sus conductas y acti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539640" y="33336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Cada pensamiento genera una emoción y cada emoción moviliza un circuito hormonal que tendrá impacto en las 5 trillones de células que forman un organismo –explica–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6842160" y="5908680"/>
            <a:ext cx="16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43280" y="189000"/>
            <a:ext cx="63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Las conductas “S”: serenidad, silencio, sabiduría, sabor, sexo, sueño, sonrisa, promueven secreción de Serotoni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6 Diagrama" descr=""/>
          <p:cNvPicPr/>
          <p:nvPr/>
        </p:nvPicPr>
        <p:blipFill>
          <a:blip r:embed="rId2"/>
          <a:stretch/>
        </p:blipFill>
        <p:spPr>
          <a:xfrm>
            <a:off x="944640" y="1133640"/>
            <a:ext cx="7059600" cy="50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mientras que las conductas “R”: resentimiento, rabia, rencor, reproche, resistencias, represión, facilitan la secreción de coRtisol, una hormona coRRosiva para las células, que acelera el envejecimient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3 Diagrama" descr=""/>
          <p:cNvPicPr/>
          <p:nvPr/>
        </p:nvPicPr>
        <p:blipFill>
          <a:blip r:embed="rId2"/>
          <a:stretch/>
        </p:blipFill>
        <p:spPr>
          <a:xfrm>
            <a:off x="1468440" y="1852560"/>
            <a:ext cx="6254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0" y="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ahoma"/>
              </a:rPr>
              <a:t>Las conductas “S” generan actitudes “A”: ánimo, amor, aprecio, amistad, acercamient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3333cc"/>
                </a:solidFill>
                <a:latin typeface="Tahoma"/>
              </a:rPr>
              <a:t>Las conductas “R” por el contrario generan actitudes “D”: depresión, desánimo, desesperación, desol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5 Diagrama" descr=""/>
          <p:cNvPicPr/>
          <p:nvPr/>
        </p:nvPicPr>
        <p:blipFill>
          <a:blip r:embed="rId2"/>
          <a:stretch/>
        </p:blipFill>
        <p:spPr>
          <a:xfrm>
            <a:off x="865080" y="1530360"/>
            <a:ext cx="7834320" cy="49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928800" y="3068640"/>
            <a:ext cx="8215200" cy="308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on solo aprender este alfabeto emocional,  lograremos  vivir más tiempo y mejor, porque la “mala sangre” (mucho cortisol y poca serotonina) deterioran la salud, posibilitan la enfermedad y aceleran el envejecimiento. El buen humor, en cambio, es clave para la longevidad saludable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manec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250920" y="450072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Que tengas una excelente vida! Plena de serotonina!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6:14:15Z</dcterms:created>
  <dc:creator>usuario microsoft</dc:creator>
  <dc:description/>
  <dc:language>en-US</dc:language>
  <cp:lastModifiedBy>Bj</cp:lastModifiedBy>
  <dcterms:modified xsi:type="dcterms:W3CDTF">2008-06-12T19:55:22Z</dcterms:modified>
  <cp:revision>24</cp:revision>
  <dc:subject/>
  <dc:title>Presentación de PowerPoint</dc:title>
</cp:coreProperties>
</file>