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jpeg" ContentType="image/jpeg"/>
  <Override PartName="/ppt/media/image22.jpeg" ContentType="image/jpeg"/>
  <Override PartName="/ppt/media/image4.jpeg" ContentType="image/jpeg"/>
  <Override PartName="/ppt/media/image25.jpeg" ContentType="image/jpeg"/>
  <Override PartName="/ppt/media/image2.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29.jpeg" ContentType="image/jpeg"/>
  <Override PartName="/ppt/media/image28.jpeg" ContentType="image/jpeg"/>
  <Override PartName="/ppt/media/Knockin'%20on%20Heaven's%20Door.wav" ContentType="audio/x-wav"/>
  <Override PartName="/ppt/media/image3.jpeg" ContentType="image/jpeg"/>
  <Override PartName="/ppt/media/drumroll.wav" ContentType="audio/x-wav"/>
  <Override PartName="/ppt/media/image24.jpeg" ContentType="image/jpeg"/>
  <Override PartName="/ppt/media/image7.jpeg" ContentType="image/jpeg"/>
  <Override PartName="/ppt/media/image1.wmf" ContentType="image/x-wmf"/>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48A1-F927-4A9A-96E6-9C88787317E9}"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EF95-51E2-4823-B68A-6CF4C76D0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DC2F-74EB-4218-94A7-938685BF1EF2}"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C7DBB-3F9C-41A2-8444-149BD333C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EFAF-6837-4540-8E08-A98D3B6AB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7E39D-95A2-49D8-ACC6-8371A3638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2C52A-A204-48D1-9BBA-8D6E3E67E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C78BB-D466-46C7-A8E4-F31491E8E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02E61-829A-4091-9431-9DD454D32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8FB49-3C5B-44F8-9F2B-1195A0E40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7E48E-47C9-496A-8040-F5D843DFC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C596-593B-45AF-80BD-4AF9659B1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F7D31-F8B9-41AF-88D9-7F8620490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2F74-C597-4CED-9451-CD87CB285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D0008-6BDC-4A4C-A325-0ACEB55A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F4E54-8EDD-4913-978B-0F1C4959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CCCF8-5E41-4E97-8D15-98A7D966D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FABBB-47DB-496F-8E48-32CA0AE04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24E3E-1069-4370-83EB-598684F4E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6B334-7B79-4BE6-A84B-7B99CE124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10588-B324-4C29-A130-1DEBB0759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1DABB-14DC-4ED0-80CE-407DB9426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B9C21-A583-4D5A-A191-FB8FFB83E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7CB43-04CF-4EB4-8A90-7749E05BE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41BE5-C702-4F35-A43F-82EFBBB37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8E98-1DD8-4D8A-8E53-D0F51A71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3A6FA-6A0D-474F-B180-2E4121469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44EFF-0E83-4EE4-A6C2-51C4A2900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1A555-FCF1-46FC-9EED-8E68C0E3C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2DC09-34D0-49E1-8093-6B8BFC71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E0139-BB10-429E-A128-FBBC32219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AC891-A623-426A-8959-B757A6246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35B985-CB4E-41D4-9771-9CB2F3EE3D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CB14CD-CDAE-445C-83B1-22CA3F336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BD0B2-5C76-416A-9968-B29923234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F5613-9510-4447-960D-E539C9F0C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701A-C19A-46BF-9A34-19A563E8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2DE29-B701-4F3C-A95F-E44F9FEF9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16535-F192-4EF5-890C-F6ADB417E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45B07-AD91-4214-A7D8-12E2BB8E5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B5D9E-1097-454B-ADC0-C0DB7A55F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44A27-E57E-478B-9F92-ECB0AAE76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DE159-3BC0-421A-8D13-031256A53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90CE3-87A2-4D34-9341-3EA0518F5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9F31A6-FD2E-4C10-88AB-E34D2FAF0E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59EA8-501A-4725-A8AC-8E0A2A12A1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C253F0-6C51-4D65-BD6C-BC9466AE0B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187E-F59F-497A-B751-A3E59CBF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73AA7-90CD-4048-AFD9-FB0E9573D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6C3C3-D537-411A-8BA5-61BE3A270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A7668-5561-4CA9-AC4D-962CB247F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6B703-9C6D-41FD-B1CF-9C62C3263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1EFA5-A40E-4148-A429-C95E45F84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D070A-2EB3-463E-814E-EFE20F307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BA4A1-A670-43F4-A913-DFBAF4E30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6B299-6C95-4725-B4C8-B7D280434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9C1C44-FFA0-4F44-881F-6573400E6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8A3CC-2583-4DCC-8840-312D82384B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5FECC-79C1-4EEE-AE34-5626A99F2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B2F7C8-8C5C-48C6-9507-4FCA18F831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20BFE6-1242-40B0-87F0-C83CD6EF9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9D4A9-AD11-433E-983D-3B1E501CC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BA4CE-FB69-4F60-9162-7C7A0D2F5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1AFF1-0B24-47AA-B500-0ED495E200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5FB4D-1F32-4EA0-96C9-52FC48020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D981D-FB2E-4061-A9A9-F58732309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755F9-DFB3-4D02-8034-6AE0455AC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B0ABB-BC99-432E-AF45-E9F966A1D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CD3C5-5E91-4BE5-9EF0-D89971A69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0DCF-9E97-48E6-984A-98529AC1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3E1EE-354A-4EAB-B4E3-DD6C7FA63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E9A38C-B6F4-40C8-8587-05B533CBDE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A69182-5D8A-406A-8F74-90A689E2EB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C375-3B21-483F-8350-C7FC6AFE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5B47-D50B-4C56-9DFF-1A8793616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gd name="textAreaLeft" fmla="*/ 0 w 1828800"/>
              <a:gd name="textAreaRight" fmla="*/ 1829160 w 1828800"/>
              <a:gd name="textAreaTop" fmla="*/ 0 h 6858000"/>
              <a:gd name="textAreaBottom" fmla="*/ 6858360 h 6858000"/>
            </a:gdLst>
            <a:ahLst/>
            <a:rect l="textAreaLeft" t="textAreaTop" r="textAreaRight" b="textAreaBottom"/>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2179-96F6-448D-B8CC-45FD2B9516B3}"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060E-0F95-40DF-A4A4-34C1239ED7B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gd name="textAreaLeft" fmla="*/ 0 w 3038400"/>
              <a:gd name="textAreaRight" fmla="*/ 3038760 w 3038400"/>
              <a:gd name="textAreaTop" fmla="*/ 0 h 6858000"/>
              <a:gd name="textAreaBottom" fmla="*/ 6858360 h 6858000"/>
            </a:gdLst>
            <a:ahLst/>
            <a:rect l="textAreaLeft" t="textAreaTop" r="textAreaRight" b="textAreaBottom"/>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82AF-1B12-4DE9-8378-944FF6FCED42}"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95A1-87D0-4ACE-AE5B-18F691B624D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gd name="textAreaLeft" fmla="*/ 0 w 3038400"/>
              <a:gd name="textAreaRight" fmla="*/ 3038760 w 3038400"/>
              <a:gd name="textAreaTop" fmla="*/ 0 h 6858000"/>
              <a:gd name="textAreaBottom" fmla="*/ 6858360 h 6858000"/>
            </a:gdLst>
            <a:ahLst/>
            <a:rect l="textAreaLeft" t="textAreaTop" r="textAreaRight" b="textAreaBottom"/>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E777-BCBA-49FC-A402-2C3619845CB5}"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9C21-1567-4630-8271-68020626AC2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9A7D-1961-4B2A-9FB1-6B04E56A0A8E}"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3CAF-A859-4784-8786-5F8D278B5E3D}"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gd name="textAreaLeft" fmla="*/ 0 w 1828800"/>
              <a:gd name="textAreaRight" fmla="*/ 1829160 w 1828800"/>
              <a:gd name="textAreaTop" fmla="*/ 0 h 6858000"/>
              <a:gd name="textAreaBottom" fmla="*/ 6858360 h 6858000"/>
            </a:gdLst>
            <a:ahLst/>
            <a:rect l="textAreaLeft" t="textAreaTop" r="textAreaRight" b="textAreaBottom"/>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CB85-8A5A-4055-9B0A-DE770328ECB9}"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E3FB-A9C7-40B1-96BA-AA016BB4C325}"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36B7-FFF3-4D91-8375-EABCC7984ECE}" type="datetime">
              <a:rPr b="0" lang="en-US" sz="1000" spc="-1" strike="noStrike">
                <a:solidFill>
                  <a:srgbClr val="9b9a98"/>
                </a:solidFill>
                <a:latin typeface="Arial"/>
              </a:rPr>
              <a:t>07/30/26</a:t>
            </a:fld>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8454-179E-4A92-83EA-3C7C95E76F9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Knockin&apos;%20on%20Heaven&apos;s%20Do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WordArt 4"/>
          <p:cNvSpPr txBox="1"/>
          <p:nvPr/>
        </p:nvSpPr>
        <p:spPr>
          <a:xfrm>
            <a:off x="0" y="2514600"/>
            <a:ext cx="9144000" cy="13716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 “</a:t>
            </a:r>
            <a:r>
              <a:rPr b="0" lang="en-US" sz="1800" spc="1" strike="noStrike">
                <a:ln w="0">
                  <a:noFill/>
                </a:ln>
                <a:solidFill>
                  <a:srgbClr val="ffffff"/>
                </a:solidFill>
                <a:latin typeface="Arial"/>
              </a:rPr>
              <a:t>Mayor Felicidad”</a:t>
            </a:r>
            <a:endParaRPr b="0" lang="en-US" sz="1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 </a:t>
            </a:r>
            <a:endParaRPr b="0" lang="en-US" sz="1800" spc="1" strike="noStrike">
              <a:ln w="0">
                <a:noFill/>
              </a:ln>
              <a:solidFill>
                <a:srgbClr val="ffffff"/>
              </a:solidFill>
              <a:latin typeface="Arial"/>
              <a:ea typeface="Arial"/>
            </a:endParaRPr>
          </a:p>
        </p:txBody>
      </p:sp>
      <p:sp>
        <p:nvSpPr>
          <p:cNvPr id="263" name="Text Box 8"/>
          <p:cNvSpPr/>
          <p:nvPr/>
        </p:nvSpPr>
        <p:spPr>
          <a:xfrm>
            <a:off x="6934320" y="63961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 </a:t>
            </a:r>
            <a:r>
              <a:rPr b="1" lang="en-US" sz="2400" spc="-1" strike="noStrike">
                <a:solidFill>
                  <a:srgbClr val="ffc000"/>
                </a:solidFill>
                <a:latin typeface="Verdana"/>
              </a:rPr>
              <a:t>Clic</a:t>
            </a:r>
            <a:endParaRPr b="0" lang="en-US" sz="2400" spc="-1" strike="noStrike">
              <a:solidFill>
                <a:srgbClr val="ffffff"/>
              </a:solidFill>
              <a:latin typeface="Arial"/>
            </a:endParaRPr>
          </a:p>
        </p:txBody>
      </p:sp>
      <p:pic>
        <p:nvPicPr>
          <p:cNvPr id="264" name="Picture 9" descr="MCj03230110000[1]"/>
          <p:cNvPicPr/>
          <p:nvPr/>
        </p:nvPicPr>
        <p:blipFill>
          <a:blip r:embed="rId1"/>
          <a:stretch/>
        </p:blipFill>
        <p:spPr>
          <a:xfrm rot="17038200">
            <a:off x="7646040" y="125640"/>
            <a:ext cx="1166760" cy="1371600"/>
          </a:xfrm>
          <a:prstGeom prst="rect">
            <a:avLst/>
          </a:prstGeom>
          <a:ln w="0">
            <a:noFill/>
          </a:ln>
        </p:spPr>
      </p:pic>
      <p:pic>
        <p:nvPicPr>
          <p:cNvPr id="265" name="Rectangle 11" descr=""/>
          <p:cNvPicPr/>
          <p:nvPr/>
        </p:nvPicPr>
        <p:blipFill>
          <a:blip r:embed="rId2"/>
          <a:stretch/>
        </p:blipFill>
        <p:spPr>
          <a:xfrm>
            <a:off x="-360360" y="549360"/>
            <a:ext cx="9912240" cy="1260360"/>
          </a:xfrm>
          <a:prstGeom prst="rect">
            <a:avLst/>
          </a:prstGeom>
          <a:ln w="0">
            <a:noFill/>
          </a:ln>
        </p:spPr>
      </p:pic>
      <p:sp>
        <p:nvSpPr>
          <p:cNvPr id="266" name="9 CuadroTexto"/>
          <p:cNvSpPr/>
          <p:nvPr/>
        </p:nvSpPr>
        <p:spPr>
          <a:xfrm>
            <a:off x="179280" y="3500280"/>
            <a:ext cx="8964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n Harvard, el curso con más popularidad y éxito, más que los de economía</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de los cuales son los grandes especialistas, es sobre la felicidad.</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Dicho curso se llama “Mayor felicidad”, y es dictado por Tal Ben Shahar.</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ste curso atrae a 1400 alumnos por semestre y 20% de los graduados de Harvard</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oman este curso electivo ¿Por qué? Quizás porque este curso, basado en las últimas investigaciones de psicología positiva, los hace cuestionar creencias y supuestos arraigados en nuestra sociedad.</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Kép 1" descr="1241432609T8aGVTw.jpg"/>
          <p:cNvPicPr/>
          <p:nvPr/>
        </p:nvPicPr>
        <p:blipFill>
          <a:blip r:embed="rId1"/>
          <a:stretch/>
        </p:blipFill>
        <p:spPr>
          <a:xfrm>
            <a:off x="-179280" y="0"/>
            <a:ext cx="932328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1 Rectángulo"/>
          <p:cNvSpPr/>
          <p:nvPr/>
        </p:nvSpPr>
        <p:spPr>
          <a:xfrm>
            <a:off x="684360" y="2413080"/>
            <a:ext cx="770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Desayuna: algunas personas se saltan el desayuno porque no tienen tiempo o porque no quieren engordar. Estudios demuestran que desayunar te ayuda a tener energía, pensar y desempeñar  exitosamente tus actividade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Kép 1" descr="1220464645WAtCJYq.jpg"/>
          <p:cNvPicPr/>
          <p:nvPr/>
        </p:nvPicPr>
        <p:blipFill>
          <a:blip r:embed="rId1"/>
          <a:stretch/>
        </p:blipFill>
        <p:spPr>
          <a:xfrm>
            <a:off x="-542880" y="0"/>
            <a:ext cx="968688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1 Rectángulo"/>
          <p:cNvSpPr/>
          <p:nvPr/>
        </p:nvSpPr>
        <p:spPr>
          <a:xfrm>
            <a:off x="971640" y="3068640"/>
            <a:ext cx="748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gradece a la vida todo lo bueno que tienes: Escribe en un papel 10 cosas que tienes en tu vida que te dan felicidad. Cuando hacemos una lista de gratitud nos obligamos a enfocarnos en cosas buenas.</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Kép 1" descr="1228248628cQiQeLm.jpg"/>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1 Rectángulo"/>
          <p:cNvSpPr/>
          <p:nvPr/>
        </p:nvSpPr>
        <p:spPr>
          <a:xfrm>
            <a:off x="611280" y="227484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é asertivo: pide lo que quieras y di lo que piensas. Está demostrado q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er asertivo ayuda a mejorar tu autoestima. Ser dejado y aguantar en silencio todo lo que te digan y hagan, genera tristeza y desesperanza.</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Kép 3" descr="1225076994HnF9ltz.jpg"/>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1 Rectángulo"/>
          <p:cNvSpPr/>
          <p:nvPr/>
        </p:nvSpPr>
        <p:spPr>
          <a:xfrm>
            <a:off x="755640" y="2637000"/>
            <a:ext cx="763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Gasta tu dinero en EXPERIENCIAS no en cosas: Un estudio descubrió que el 75% de personas se sentían más felices cuando invertían su dinero en viajes, cursos y clases; mientras que sólo el 34% dijo sentirse más feliz cuando compraba cosas.</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 descr="Snow8.jpg"/>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Rectángulo"/>
          <p:cNvSpPr/>
          <p:nvPr/>
        </p:nvSpPr>
        <p:spPr>
          <a:xfrm>
            <a:off x="971640" y="2492280"/>
            <a:ext cx="7345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nfrenta tus retos: No dejes para mañana lo que puedes hacer hoy. Estudios demuestran que cuanto más postergas algo que sabes que tienes que hacer, más ansiedad y tensión generas. Escribe pequeñas listas semanales de tareas a cumplir y cúmplelas.</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Kép 1" descr="1240125592LtkifDh.jpg"/>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KALN SU KRYZ"/>
          <p:cNvPicPr/>
          <p:nvPr/>
        </p:nvPicPr>
        <p:blipFill>
          <a:blip r:embed="rId1"/>
          <a:stretch/>
        </p:blipFill>
        <p:spPr>
          <a:xfrm>
            <a:off x="0" y="0"/>
            <a:ext cx="10375920" cy="6921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1 Rectángulo"/>
          <p:cNvSpPr/>
          <p:nvPr/>
        </p:nvSpPr>
        <p:spPr>
          <a:xfrm>
            <a:off x="900000" y="2565360"/>
            <a:ext cx="741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ega recuerdos bonitos, frases y fotos de tus seres queridos por todos l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lena tu refrigerador, tu computadora, tu escritorio, tu cuarto. TU VIDA de recuerdos bonitos.</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 descr="Snow1.jpg"/>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1 Rectángulo"/>
          <p:cNvSpPr/>
          <p:nvPr/>
        </p:nvSpPr>
        <p:spPr>
          <a:xfrm>
            <a:off x="755640" y="2690640"/>
            <a:ext cx="76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iempre saluda y sé amable con otras personas: Más de cien investigaciones afirman que sólo sonreír cambia el estado de ánimo.</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 descr="snow2.jpg"/>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1 Rectángulo"/>
          <p:cNvSpPr/>
          <p:nvPr/>
        </p:nvSpPr>
        <p:spPr>
          <a:xfrm>
            <a:off x="826920" y="3141720"/>
            <a:ext cx="749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Usa zapatos que te queden cómodos: Si te duelen los pies te pones de malas asegura el Dr. Keinth Wapner, Presidente de la Asociación Americana de Ortopedia.</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Snow7.jpg"/>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1 Rectángulo"/>
          <p:cNvSpPr/>
          <p:nvPr/>
        </p:nvSpPr>
        <p:spPr>
          <a:xfrm>
            <a:off x="755640" y="2690640"/>
            <a:ext cx="77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uida tu postura: Caminar derecho con los hombros ligeramente hacia atrás y la vista hacia enfrente ayuda a mantener un buen estado de ánimo.</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 descr="Snow3.jpg"/>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1 Rectángulo"/>
          <p:cNvSpPr/>
          <p:nvPr/>
        </p:nvSpPr>
        <p:spPr>
          <a:xfrm>
            <a:off x="826920" y="282888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scucha música: Está comprobado que escuchar música te despierta deseos de cantar y bailar, esto te va a alegrar la vida.</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1 Rectángulo"/>
          <p:cNvSpPr/>
          <p:nvPr/>
        </p:nvSpPr>
        <p:spPr>
          <a:xfrm>
            <a:off x="611280" y="1844640"/>
            <a:ext cx="806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t>
            </a:r>
            <a:r>
              <a:rPr b="0" lang="es-PE" sz="1800" spc="-1" strike="noStrike">
                <a:solidFill>
                  <a:srgbClr val="ffffff"/>
                </a:solidFill>
                <a:latin typeface="Arial"/>
              </a:rPr>
              <a:t>La vida es similar a una empresa. Una empresa tiene ganancias, costos 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endrá utilidad en la medida en que sus ganancias sean mayores que s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os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n la vida diaria, nuestros costos son nuestras emociones y pensa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negativos, y nuestras ganancias, nuestros pensamientos y emo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osi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i tenemos en balance más pensamientos y emociones positivas en nuest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vida, la empresa de nuestra vida está logrando utilida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Una persona con una depresión prolongada, sería como una empresa queb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nalice cómo está su vida en cuanto a las utilidades de felicidad, ¿Está en positivo o está en rojo?</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1" descr="Snow4.jpg"/>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Rectángulo"/>
          <p:cNvSpPr/>
          <p:nvPr/>
        </p:nvSpPr>
        <p:spPr>
          <a:xfrm>
            <a:off x="826920" y="2565360"/>
            <a:ext cx="7490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o que comes tiene un impacto importante en tu estado de áni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omer algo ligero cada 3-4 horas mantiene los niveles de gluc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stables, no te saltes comid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vita el exceso de harinas blancas y el azúc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OME DE TO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Varía tus alimento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Kép 1" descr="1221752632zIsXt7D.jpg"/>
          <p:cNvPicPr/>
          <p:nvPr/>
        </p:nvPicPr>
        <p:blipFill>
          <a:blip r:embed="rId1"/>
          <a:stretch/>
        </p:blipFill>
        <p:spPr>
          <a:xfrm>
            <a:off x="0" y="-123840"/>
            <a:ext cx="9144000" cy="6981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1 Rectángulo"/>
          <p:cNvSpPr/>
          <p:nvPr/>
        </p:nvSpPr>
        <p:spPr>
          <a:xfrm>
            <a:off x="826920" y="269064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1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rréglate y siéntete atractivo(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l 41% de la gente dice que se sienten más felices cuando piensan que se ven bien. !Ponte guapo(a)!</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Snow5.jpg"/>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1 Rectángulo"/>
          <p:cNvSpPr/>
          <p:nvPr/>
        </p:nvSpPr>
        <p:spPr>
          <a:xfrm>
            <a:off x="826920" y="2997360"/>
            <a:ext cx="763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t>
            </a:r>
            <a:r>
              <a:rPr b="0" lang="es-PE" sz="1800" spc="-1" strike="noStrike">
                <a:solidFill>
                  <a:srgbClr val="ffffff"/>
                </a:solidFill>
                <a:latin typeface="Arial"/>
              </a:rPr>
              <a:t>Hagamos un esfuerzo por lograr un balance en azul en nuestra cuenta de felicidad. No solo nuestro cuerpo nos lo va a agra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 </a:t>
            </a:r>
            <a:r>
              <a:rPr b="0" lang="es-PE" sz="1800" spc="-1" strike="noStrike">
                <a:solidFill>
                  <a:srgbClr val="ffffff"/>
                </a:solidFill>
                <a:latin typeface="Arial"/>
              </a:rPr>
              <a:t>La buena vibra trae salud, pero al estar más positivos atraeremos también mayor bienestar a nuestras vidas”</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Kép 2" descr="1237981837DLaNxCf.jpg"/>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1 Rectángulo"/>
          <p:cNvSpPr/>
          <p:nvPr/>
        </p:nvSpPr>
        <p:spPr>
          <a:xfrm>
            <a:off x="611280" y="314172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er feliz, es al final, la construcción de un gran fondo de ahorr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xperiencias significativas, pobre de aquel que guarda lo que posee en donde se corre el riesgo de perderlo todo. ¿O no?.</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Kép 1" descr="1239017518azGcjyF.jpg"/>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1 CuadroTexto"/>
          <p:cNvSpPr/>
          <p:nvPr/>
        </p:nvSpPr>
        <p:spPr>
          <a:xfrm>
            <a:off x="4075920" y="3500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o duda?</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Kép 1" descr="1243937669AiCEVa3.jpg"/>
          <p:cNvPicPr/>
          <p:nvPr/>
        </p:nvPicPr>
        <p:blipFill>
          <a:blip r:embed="rId1"/>
          <a:stretch/>
        </p:blipFill>
        <p:spPr>
          <a:xfrm>
            <a:off x="-406440" y="0"/>
            <a:ext cx="9550440" cy="685800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Kép 1" descr="1233236307qaeGkks.jpg"/>
          <p:cNvPicPr/>
          <p:nvPr/>
        </p:nvPicPr>
        <p:blipFill>
          <a:blip r:embed="rId1"/>
          <a:stretch/>
        </p:blipFill>
        <p:spPr>
          <a:xfrm>
            <a:off x="0" y="0"/>
            <a:ext cx="9144000" cy="7358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1 CuadroTexto"/>
          <p:cNvSpPr/>
          <p:nvPr/>
        </p:nvSpPr>
        <p:spPr>
          <a:xfrm>
            <a:off x="539640" y="299736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Quizás es porque usted permite que tan solo un árbol  tape el bosque de oportunidades…</a:t>
            </a:r>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Kép 1" descr="1221507902WhYPYqm.jpg"/>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CuadroTexto"/>
          <p:cNvSpPr/>
          <p:nvPr/>
        </p:nvSpPr>
        <p:spPr>
          <a:xfrm>
            <a:off x="755640" y="3500280"/>
            <a:ext cx="727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implifíquese…. el mundo no está  en su contra.</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Kép 1" descr="zabrinskie point.jpg"/>
          <p:cNvPicPr/>
          <p:nvPr/>
        </p:nvPicPr>
        <p:blipFill>
          <a:blip r:embed="rId1"/>
          <a:stretch/>
        </p:blipFill>
        <p:spPr>
          <a:xfrm>
            <a:off x="-179280" y="0"/>
            <a:ext cx="932328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1 CuadroTexto"/>
          <p:cNvSpPr/>
          <p:nvPr/>
        </p:nvSpPr>
        <p:spPr>
          <a:xfrm>
            <a:off x="1608120" y="335772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os que nos rodean nos quieren… cada quien a su modo.</a:t>
            </a:r>
            <a:endParaRPr b="0" lang="en-US" sz="1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Kép 1" descr="12542221615j2MV29.jpg"/>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1 CuadroTexto"/>
          <p:cNvSpPr/>
          <p:nvPr/>
        </p:nvSpPr>
        <p:spPr>
          <a:xfrm>
            <a:off x="2576520" y="3429000"/>
            <a:ext cx="333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l orgullo no es un buena guía.</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Kép 2" descr="1225913711tlx3P8J.jpg"/>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1 CuadroTexto"/>
          <p:cNvSpPr/>
          <p:nvPr/>
        </p:nvSpPr>
        <p:spPr>
          <a:xfrm>
            <a:off x="539640" y="3789360"/>
            <a:ext cx="777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n la Universidad de Harvard no enseñan a ser feliz …allí tan solo intentan que sepamos como podríamos obtener MAYOR FELICIDAD</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1 Rectángulo"/>
          <p:cNvSpPr/>
          <p:nvPr/>
        </p:nvSpPr>
        <p:spPr>
          <a:xfrm>
            <a:off x="684360" y="2492280"/>
            <a:ext cx="777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Felicidad, ese estado de plenitud y equilibrio que todo ser humano anhe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omo ideal de realización y bienestar y que combina una justa propor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ntre lo que se es, lo que se tiene y a lo que se aspira, es y será siempre uno de los temas motores de nuestra existencia y por tanto un tema fundamental de estudio, que al parecer no ha escapado de la lista de temas abordados por las más prestigiadas escuelas de negocios.</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Kép 2" descr="1245095496qxYPzfJ.jpg"/>
          <p:cNvPicPr/>
          <p:nvPr/>
        </p:nvPicPr>
        <p:blipFill>
          <a:blip r:embed="rId1"/>
          <a:stretch/>
        </p:blipFill>
        <p:spPr>
          <a:xfrm>
            <a:off x="0" y="-571680"/>
            <a:ext cx="9144000" cy="7429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1 Rectángulo"/>
          <p:cNvSpPr/>
          <p:nvPr/>
        </p:nvSpPr>
        <p:spPr>
          <a:xfrm>
            <a:off x="684360" y="2060640"/>
            <a:ext cx="7559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a psicología positiva es una rama de la psicología que busca comprender, a través de la investigación científica, los procesos que subyacen a las cualidades y emociones positivas del ser humano. El objeto de este interés es aportar nuevos conocimientos acerca de la psique humana no sólo para ayudar a resolver los problemas de salud mental que adolecen a los individuos, sino también para alcanzar mejor calidad de vida y bienestar, todo ello sin apartarse nunca de la más rigurosa metodología científica propia de toda ciencia de la salud. </a:t>
            </a:r>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Kép 1" descr="1215218378Kq8zN9A.jpg"/>
          <p:cNvPicPr/>
          <p:nvPr/>
        </p:nvPicPr>
        <p:blipFill>
          <a:blip r:embed="rId1"/>
          <a:stretch/>
        </p:blipFill>
        <p:spPr>
          <a:xfrm>
            <a:off x="0" y="0"/>
            <a:ext cx="9144000" cy="6858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 Rectángulo"/>
          <p:cNvSpPr/>
          <p:nvPr/>
        </p:nvSpPr>
        <p:spPr>
          <a:xfrm>
            <a:off x="468360" y="1197000"/>
            <a:ext cx="8028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a psicología positiva estudia las bases del bienestar psicológico y de la felicidad así como de las fortalezas y virtudes humanas. Tradicionalmente la ciencia psicológica ha dedicado mucho esfuerzo a estudiar los aspectos negativos y patológicos del ser humano (ansiedad, estrés, depresión, etc), dejando de lado a menudo el estudio de aspectos más positivos como, por ejemplo, la creatividad, la inteligencia emocional, el humor, la sabiduría, la felicidad, la resiliencia, etc. Este enfoque es denominado también por algunos autores como salugénic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Se pueden encontrar antecedentes de la psicología positiva en filósofos como Aristóteles, que dedicó parte de sus escritos a la eudaimonia (término griego habitualmente traducido como felicidad), pero también en psicólogos como Abraham Maslow o Carl Rogers, pertenecientes a la corriente llamada psicología humanista.</a:t>
            </a:r>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Kép 1" descr="1215652070YBgX4HT.jpg"/>
          <p:cNvPicPr/>
          <p:nvPr/>
        </p:nvPicPr>
        <p:blipFill>
          <a:blip r:embed="rId1"/>
          <a:stretch/>
        </p:blipFill>
        <p:spPr>
          <a:xfrm>
            <a:off x="-393840" y="0"/>
            <a:ext cx="953784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1 Rectángulo"/>
          <p:cNvSpPr/>
          <p:nvPr/>
        </p:nvSpPr>
        <p:spPr>
          <a:xfrm>
            <a:off x="395280" y="292428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Las personas que nos rodean no son idiotas, cada una de ellas tiene habilidades diferentes a las nuestra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C:\Users\Elias MENSUR\Desktop\Many Folders MANY\gREEN HEART.jpg"/>
          <p:cNvPicPr/>
          <p:nvPr/>
        </p:nvPicPr>
        <p:blipFill>
          <a:blip r:embed="rId1"/>
          <a:stretch/>
        </p:blipFill>
        <p:spPr>
          <a:xfrm>
            <a:off x="-7920" y="-7920"/>
            <a:ext cx="9161280" cy="687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1 Rectángulo"/>
          <p:cNvSpPr/>
          <p:nvPr/>
        </p:nvSpPr>
        <p:spPr>
          <a:xfrm>
            <a:off x="684360" y="2550960"/>
            <a:ext cx="7848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Cómo lograr estar más en azul en cuanto a felicidad?”</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13 Consejos Clave o tips para mejorar la calidad de nuestro estado personal y que contribuyen a la generación de una vida positiva.</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Kép 1" descr="1231039635T8hnbzy.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1 Rectángulo"/>
          <p:cNvSpPr/>
          <p:nvPr/>
        </p:nvSpPr>
        <p:spPr>
          <a:xfrm>
            <a:off x="611280" y="2274840"/>
            <a:ext cx="7705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TIP 1</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ractica algún ejercicio: (caminar, ir al gym, yoga, natación, etc.). Lo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expertos aseguran que hacer ejercicio es igual de bueno que tomar un</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ntidepresivo para mejorar el ánimo, 30 minutos de ejercicio es el mejor</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antídoto contra la tristeza y el estrés.</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23:41:23Z</dcterms:created>
  <dc:creator>Javier Guzman</dc:creator>
  <dc:description/>
  <dc:language>en-US</dc:language>
  <cp:lastModifiedBy>Javier Guzman</cp:lastModifiedBy>
  <dcterms:modified xsi:type="dcterms:W3CDTF">2012-02-29T01:15:33Z</dcterms:modified>
  <cp:revision>14</cp:revision>
  <dc:subject/>
  <dc:title>Diapositiva 1</dc:title>
</cp:coreProperties>
</file>