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6.gif" ContentType="image/gif"/>
  <Override PartName="/ppt/media/One%20man%C2%B4s%20dream%20-%20Yanni.wav" ContentType="audio/x-wav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FBA-6FA2-4457-BE74-0B44BC63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64E-3BC9-4F21-92EB-348E4BA7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FD8BF-B2AD-4046-B0A7-F4CA5DEC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19EB1-1E00-4475-AFC7-97504167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7C257-D74E-4795-B4E2-001A914B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E41DC-6751-4765-BCDA-2A7E3B7C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2AFFF-F8DF-4010-842D-3C57412B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0A527-E9FC-4BB1-B4FA-57A27694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7E6F8-7F2F-4764-BF21-62A534D3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D4FA1-D6D9-4E0F-BDE7-9BEA6577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3554E-A42B-4F4E-A09D-2222DFEE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55B50-BFF7-4FA9-BF0D-C1D51818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C3C-AACF-44ED-B725-50C8359D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4B8DB-2ACA-480E-B30C-5A1BCA20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9370C-9564-4F54-A1E3-467582D4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36E25-0EDB-4096-BC1C-E9E4D768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6F2E8-150D-4577-A780-F42DD835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59FBE-1FDB-4637-A4AF-F5D5C182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0A7D5-9F7C-4C9B-A579-762EA314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D9C95-4216-4614-8BB3-1BA8BB60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4A5AB-DBAC-4785-A9EB-7CC19BA5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E97BF-938C-438A-8FA4-C598C12B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1AEC8-C742-4549-8E92-1BAD83DB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02F-7F47-43A6-954C-815A2BC1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3099C-2916-40D8-94EC-F1B7D970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80906-205E-4A0D-B1EE-E52BDACC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6C439-C7F2-4B9F-BF3A-4405716E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233E1-CEFE-463E-BF5C-67E7BF71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75459-EB2E-40D4-A513-FA696D82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374F8-8076-40CB-921C-5193DAD3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67AD7-FAB4-402C-A304-87C469FA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479C3-2B9E-498C-973D-D8E57225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6ED66-CB08-4A59-94F6-7932092F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643E1-C9F0-4801-8555-49696D20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301C-2DFB-445F-A256-EAB08E9A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2FF9C-1A04-4EAA-A82F-8FCE950C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C7AD5-170A-465D-BAB1-3E88A591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70BE4-041E-40F7-BA82-0B2274BC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F12C9-A4E8-42DD-829B-2B305F8C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CE57B-23E1-49CB-8496-25AB5094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F24D0-9EF0-4D7D-BB67-ED74C263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617D4-F6EE-4B7F-B25D-1E21D892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68DAB-8050-49CC-A787-1D425DAC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16E46-4366-48A8-AB5A-6FDA7E37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ECADB-4EEF-4173-9E12-7BD9421A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BA73-05CF-4D5E-9958-7991F83D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462B6-A109-466E-A66D-6E07ADEE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1B6B2-1F30-475C-93E8-EC673B43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F0196-3C4D-4F83-B91E-BB3CFC98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DA5C2-D3D9-482C-BE9A-2C25065D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636F9-CDED-4798-87F7-32E5E320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C40C-B5B9-4E85-B14C-238D5FB7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C9BA-3C4B-403B-AB31-62FBAC27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CB46-AEC4-406C-9B45-4C498200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D134-1FDE-4B31-9050-4B4CE026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D338-E459-498B-8986-233169B8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803-B5F3-403E-BA22-B9E4E46B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3790-BB9F-4E81-98D4-E24B5171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27CE-AC16-4444-8D40-99CE0B76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D141-46A1-4F17-A8C0-295C461C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2B47-8C4B-4542-AD51-7F75AA8B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BB2D-7ADF-4685-926D-01666451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E20E3-7682-47B3-9C20-9BFF68AC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83D70-93B6-4996-B060-9694056A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7B0EB-AC10-4F95-8C03-328977C3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42411-14B7-4C5D-8FD3-51126E2A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6F6ED-34B8-4FD6-911D-BB808DD6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FA2-4D77-4F42-B57F-AD0A9B71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BCE40-31B5-4B8E-BB67-6D24CC57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7A3B2-ECF8-412A-B3C1-684C1B9F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67AF8-420F-47A3-A058-F8D498E8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49AF-F309-46EC-90B5-018284A4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8E4FB-2BC9-4EBE-A3AD-35B0A955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18827-A714-4F05-928E-971C0982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5E610-5D42-423A-AF3E-3EA8F630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DAEDE-79A9-4271-B1E8-31925739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521E4-1F09-4F3B-B2FA-7C135ACA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70E52-4C8E-4D2C-A5F0-83F8C353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E49-FACE-43F2-9B15-B2BBC64F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0E860-EB4D-4D9D-99FE-32E27DFA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88E8-EC40-493D-BF04-EB319A35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E6BC3-5DD7-4151-BA17-8BB3D992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4CA51-F6AE-43A8-BFCD-85DB8AE0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2476E-6110-432B-A3EE-E18BE290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86DA9-D3D9-4799-88B1-74BDC337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DFD70-0B6A-4FA4-A54F-ED0D9AF1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7E904-1456-4CB0-ABF5-303C5918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8A24E-8281-4A0E-9DAC-57089886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86277-B195-4A1C-81F1-3E063206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21C-787A-429E-A103-4FD1D252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96EF3-BF45-428B-B03C-9E065C3B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A0DD5-C57C-4D1E-9D57-CABD751F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FC76C-8D8C-4698-B4F4-AE69BEDE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A7408-8AB0-45FF-8900-8715E70C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B9571-10B5-4FDC-AA9F-F8BCAF70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37127-5F2D-4E2A-B478-8675FF4D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1EF5B-57F2-43DC-A4D6-1E2D4058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38C64-B034-4593-8AC6-52961126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0B822-6AAB-4338-9C31-BA2077B8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B3846-FA82-4F0E-AAEA-FD87F6C2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0FE-DA7B-4A39-A737-92DF3930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3EED5-5B1C-4357-A8E6-8EC4E41C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31C5B-E49C-4FB3-BE71-892A222B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79481-C25B-40FE-B0F5-E3A2DCEB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B0D1C-74BB-42E8-82E0-22D53F46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193BF-D65C-472F-94F7-3A25E4BA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B5458-5A72-4FA9-91AA-A86641ED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1C034-DF08-4721-8AEA-BA52219A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E0A1D-D814-4464-8CD1-4323C4F7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BA13E-DCED-4453-BCB7-F8B47228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187E1-DA3D-47BC-B899-8B431136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9FE-3A52-4167-B382-C91ABBF5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38839-6A46-4368-8D81-F0FA2CA2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1642A-6DBC-4FB8-A376-B62EA2AA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AABF5-6A03-4698-B88B-6234B4ED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E4434-FF6E-40FF-968D-B30172EF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CAE1B-9A24-47CC-A297-AFFD7F6D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7E048-7C1B-4004-BA4C-1CAA71C9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41DE3-2DA2-4AA1-AE52-05CE318C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60A83-EA61-4882-8CAE-D85BE818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EEC8C-421A-4AD1-8CFF-ACC3EAC1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36722-77F3-4CE5-9516-971E57E4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2E2-33B7-4812-86CB-F6CB35C5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9112E-91E5-4332-A3A5-8B20BD6B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D660D-A9FF-4239-AAFC-3A2F4A18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F338B-7928-449D-9DA4-2AFD47F4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0A53D-E37F-49C6-906E-FA62D1F2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6846F-DF7A-4626-BE95-F688ECCE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9A8F0-DCEC-4B32-9092-65B2EA93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A0E35-6AE7-4AF6-8340-83FD815F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50937-939D-45BA-9872-8BA785D7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3BC2B-8C88-4FD3-A30E-528A7201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D4B36-5BF8-4AA0-A5BC-D9FF0B12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0A1-8D9F-4449-A42A-8DA6A533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87317-6E02-4BA1-AA2E-69C13268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BB9B9-E7C9-4668-8FA8-7FFC1E38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2A21C-9427-4828-A6A8-A627D913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2A033-E5CD-4C7E-A514-F2F0F234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64823-BFC7-4D96-AB4D-5F3F7A48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99123-4D4E-454A-8CA2-7085696E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610BE-8B99-422D-BE30-E09C0EB8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D36E9-76FA-46D5-B368-DE3552FA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24FE6-2C45-4F31-8CE8-254A9D58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FC81D-F993-4098-B091-3187A3A5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CA41-D376-49F9-B0BB-CEA49432C9E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EF4D-2EFA-4B58-8E45-8E3148312B7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7852-762C-4483-BF70-592C788D48E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13CD-4211-4149-BC10-CA60CD9CF17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73F6-4A12-44C4-B666-AE9A6E8C716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90F5-A3F2-4589-82FC-51F8CAC6782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1A99-40DA-4207-BDE2-91390B71F64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BCA3-849C-4CEC-A679-CDC764B6097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3B83-CFD0-4807-AC16-FEC1F332340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11BD-C789-4E6B-B637-76CE2076C12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AD4B-61B9-4B2E-B18E-A06D03020AD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B26E-321C-463A-ADA6-1FEF55CA121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One%20man&#180;s%20dream%20-%20Yanni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C:\Users\Gustavo\Desktop\Nueva carpeta\0caracoes026.gif"/>
          <p:cNvPicPr/>
          <p:nvPr/>
        </p:nvPicPr>
        <p:blipFill>
          <a:blip r:embed="rId1"/>
          <a:stretch/>
        </p:blipFill>
        <p:spPr>
          <a:xfrm>
            <a:off x="1116000" y="0"/>
            <a:ext cx="6942240" cy="5211720"/>
          </a:xfrm>
          <a:prstGeom prst="rect">
            <a:avLst/>
          </a:prstGeom>
          <a:ln w="0">
            <a:noFill/>
          </a:ln>
        </p:spPr>
      </p:pic>
      <p:sp>
        <p:nvSpPr>
          <p:cNvPr id="493" name="4 CuadroTexto"/>
          <p:cNvSpPr/>
          <p:nvPr/>
        </p:nvSpPr>
        <p:spPr>
          <a:xfrm>
            <a:off x="1476360" y="5373720"/>
            <a:ext cx="61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0000"/>
                </a:solidFill>
                <a:latin typeface="Corbel"/>
              </a:rPr>
              <a:t>“</a:t>
            </a:r>
            <a:r>
              <a:rPr b="0" i="1" lang="es-ES" sz="3200" spc="-1" strike="noStrike">
                <a:solidFill>
                  <a:srgbClr val="ff0000"/>
                </a:solidFill>
                <a:latin typeface="Corbel"/>
              </a:rPr>
              <a:t>LO  QUE  EL  CORAZÓN  QUI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0000"/>
                </a:solidFill>
                <a:latin typeface="Corbel"/>
              </a:rPr>
              <a:t>LA  MENTE  SE  LO  MUESTR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One%20man%C2%B4s%20dream%20-%20Yann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3 CuadroTexto"/>
          <p:cNvSpPr/>
          <p:nvPr/>
        </p:nvSpPr>
        <p:spPr>
          <a:xfrm>
            <a:off x="5003640" y="836640"/>
            <a:ext cx="3745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2cba4"/>
                </a:solidFill>
                <a:latin typeface="Century"/>
              </a:rPr>
              <a:t>- ¿Cambiar la mente a través del cuerp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2cba4"/>
                </a:solidFill>
                <a:latin typeface="Century"/>
              </a:rPr>
              <a:t> </a:t>
            </a:r>
            <a:r>
              <a:rPr b="0" i="1" lang="es-ES" sz="2200" spc="-1" strike="noStrike">
                <a:solidFill>
                  <a:srgbClr val="f2cba4"/>
                </a:solidFill>
                <a:latin typeface="Corbel"/>
              </a:rPr>
              <a:t>- Sí. Hay que sacar el foco de atención de esos pensamientos que nos están alterando, provocando desánimo, ira o preocupación, y que hacen que nuestras decisiones partan desde un punto de vista inadecuado.  Es más inteligente, no más razonable, llevar el foco de atención a la respiración, que tiene la capacidad de serenar nuestro estado men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05080" cy="3194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4 CuadroTexto"/>
          <p:cNvSpPr/>
          <p:nvPr/>
        </p:nvSpPr>
        <p:spPr>
          <a:xfrm>
            <a:off x="4932360" y="777960"/>
            <a:ext cx="3672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d9d9d9"/>
                </a:solidFill>
                <a:latin typeface="Century"/>
              </a:rPr>
              <a:t>- ¿Dice que no hay que ser razonabl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d9d9d9"/>
                </a:solidFill>
                <a:latin typeface="Corbe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d9d9d9"/>
                </a:solidFill>
                <a:latin typeface="Corbel"/>
              </a:rPr>
              <a:t>- Siempre encontraremos razones para justificar nuestro mal humor, estrés o tristeza, y esa es una línea determinada de pensamiento.  Pero cuando nos basamos en cómo queremos vivir, por ejemplo sin tristeza, aparece otra línea.  Son más importantes el qué y el porqué que el cómo.  Lo que el corazón quiere sentir, la mente se lo acaba mostran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82560" y="981000"/>
            <a:ext cx="2230560" cy="17557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500200" y="2709720"/>
            <a:ext cx="2143080" cy="1851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3 CuadroTexto"/>
          <p:cNvSpPr/>
          <p:nvPr/>
        </p:nvSpPr>
        <p:spPr>
          <a:xfrm>
            <a:off x="539640" y="284040"/>
            <a:ext cx="78487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66"/>
                </a:solidFill>
                <a:latin typeface="Century"/>
              </a:rPr>
              <a:t>- Exag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cc66"/>
                </a:solidFill>
                <a:latin typeface="Corbe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cc66"/>
                </a:solidFill>
                <a:latin typeface="Corbel"/>
              </a:rPr>
              <a:t>- Cuando nuestro cerebro da un significado a algo, nosotros lo vivimos como la absoluta realidad, sin ser conscientes de que sólo es una interpretación de la reali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4 CuadroTexto"/>
          <p:cNvSpPr/>
          <p:nvPr/>
        </p:nvSpPr>
        <p:spPr>
          <a:xfrm>
            <a:off x="4572000" y="1916280"/>
            <a:ext cx="410364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66"/>
                </a:solidFill>
                <a:latin typeface="Century"/>
              </a:rPr>
              <a:t>- Más recursos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cc66"/>
                </a:solidFill>
                <a:latin typeface="Corbe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cc66"/>
                </a:solidFill>
                <a:latin typeface="Corbel"/>
              </a:rPr>
              <a:t>- La palabra es una forma de energía vital.  Se ha podido fotografiar con tomografía de emisión de positrones, cómo las personas que decidieron hablarse a sí mismas de una manera más positiva, específicamente personas con trastornos psiquiátricos, consiguieron remodelar físicamente su estructura cerebral, precisamente los circuitos que les generaban estas enfermeda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2" descr="C:\Users\Gustavo\Desktop\Nueva carpeta\Besos de mariposas.jpg"/>
          <p:cNvPicPr/>
          <p:nvPr/>
        </p:nvPicPr>
        <p:blipFill>
          <a:blip r:embed="rId1"/>
          <a:stretch/>
        </p:blipFill>
        <p:spPr>
          <a:xfrm>
            <a:off x="630360" y="2492280"/>
            <a:ext cx="379728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888000" cy="18763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4105080" cy="1941840"/>
          </a:xfrm>
          <a:prstGeom prst="rect">
            <a:avLst/>
          </a:prstGeom>
          <a:ln w="0">
            <a:noFill/>
          </a:ln>
        </p:spPr>
      </p:pic>
      <p:sp>
        <p:nvSpPr>
          <p:cNvPr id="520" name="1 Rectángulo"/>
          <p:cNvSpPr/>
          <p:nvPr/>
        </p:nvSpPr>
        <p:spPr>
          <a:xfrm>
            <a:off x="539640" y="2276640"/>
            <a:ext cx="799308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a5c6cd"/>
                </a:solidFill>
                <a:latin typeface="Century"/>
              </a:rPr>
              <a:t>- ¿Podemos cambiar nuestro cerebro con buenas palabr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a5c6cd"/>
                </a:solidFill>
                <a:latin typeface="Corbel"/>
              </a:rPr>
              <a:t>- Santiago Ramón y Cajal, premio Nobel de Medicina en 1906, dijo una frase tremendamente potente que en su momento pensamos que era metafórica. Ahora sabemos que es literal: "Todo ser humano, si se lo propone, puede ser escultor de su propio cerebro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a5c6cd"/>
                </a:solidFill>
                <a:latin typeface="Century"/>
              </a:rPr>
              <a:t>- ¿Seguro que no exager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a5c6cd"/>
                </a:solidFill>
                <a:latin typeface="Corbel"/>
              </a:rPr>
              <a:t>- No.  Según cómo nos hablamos a nosotros mismos, moldeamos nuestras emociones que cambian nuestras percepciones. La transformación del observador (nosotros) altera el proceso observado. No vemos el mundo que es, vemos el mundo que som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611280" y="9478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522" name="1 Rectángulo"/>
          <p:cNvSpPr/>
          <p:nvPr/>
        </p:nvSpPr>
        <p:spPr>
          <a:xfrm>
            <a:off x="4572000" y="692280"/>
            <a:ext cx="38876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558ed5"/>
                </a:solidFill>
                <a:latin typeface="Century"/>
              </a:rPr>
              <a:t>- ¿Hablamos de filosofía o de ciencia?</a:t>
            </a:r>
            <a:br>
              <a:rPr sz="2200"/>
            </a:br>
            <a:br>
              <a:rPr sz="2200"/>
            </a:br>
            <a:r>
              <a:rPr b="0" i="1" lang="es-MX" sz="2200" spc="-1" strike="noStrike">
                <a:solidFill>
                  <a:srgbClr val="558ed5"/>
                </a:solidFill>
                <a:latin typeface="Corbel"/>
              </a:rPr>
              <a:t>- Las palabras por sí solas activan los núcleos amigdalinos. Pueden activar, por ejemplo, los núcleos del miedo que transforman las hormonas y los procesos ment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558ed5"/>
                </a:solidFill>
                <a:latin typeface="Corbel"/>
              </a:rPr>
              <a:t>Científicos de Harvard han demostrado que cuando la persona consigue reducir esa cacofonía interior y entrar en el silencio, las migrañas y el dolor coronario pueden reducirse un 8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4 CuadroTexto"/>
          <p:cNvSpPr/>
          <p:nvPr/>
        </p:nvSpPr>
        <p:spPr>
          <a:xfrm>
            <a:off x="468360" y="549360"/>
            <a:ext cx="58183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"/>
              </a:rPr>
              <a:t>- ¿Cuál es el efecto de las palabras no dicha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Corbel"/>
              </a:rPr>
              <a:t>- Solemos confundir nuestros puntos de vista con la verdad, y eso se transmite: la percepción va más allá de la raz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Corbel"/>
              </a:rPr>
              <a:t>Según estudios de Albert Merhabian, de la Universidad de California (UCLA), el 93% del impacto de una comunicación va por debajo de la concien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5 CuadroTexto"/>
          <p:cNvSpPr/>
          <p:nvPr/>
        </p:nvSpPr>
        <p:spPr>
          <a:xfrm>
            <a:off x="468360" y="4924440"/>
            <a:ext cx="828036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"/>
              </a:rPr>
              <a:t>- ¿Por qué nos cuesta tanto cambia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Corbel"/>
              </a:rPr>
              <a:t>- El miedo nos impide salir de la zona de confort, tendemos a la seguridad de lo conocido, y esa actitud nos impide realizarnos. Para crecer hay que salir de esa zo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4 CuadroTexto"/>
          <p:cNvSpPr/>
          <p:nvPr/>
        </p:nvSpPr>
        <p:spPr>
          <a:xfrm>
            <a:off x="1100160" y="4041720"/>
            <a:ext cx="7272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558ed5"/>
                </a:solidFill>
                <a:latin typeface="Corbel"/>
              </a:rPr>
              <a:t>- La mayor parte de los actos de nuestra vida se rigen por el inconsciente.  Reaccionamos según unos automatismos que hemos ido incorporando. Pensamos que la espontaneidad es un valor; pero para que haya espontaneidad primero ha de haber preparación, si no, sólo hay automatismos.  Cada vez estoy más convencido del poder que tiene el entrenamiento de la 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2627280" y="609480"/>
            <a:ext cx="4286160" cy="2847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5 CuadroTexto"/>
          <p:cNvSpPr/>
          <p:nvPr/>
        </p:nvSpPr>
        <p:spPr>
          <a:xfrm>
            <a:off x="2857680" y="476280"/>
            <a:ext cx="57466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66"/>
                </a:solidFill>
                <a:latin typeface="Century"/>
              </a:rPr>
              <a:t>- Deme alguna pist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cc66"/>
                </a:solidFill>
                <a:latin typeface="Corbe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cc66"/>
                </a:solidFill>
                <a:latin typeface="Corbel"/>
              </a:rPr>
              <a:t>- Cambie hábitos de pensamiento y entrene su integridad honrando su propia palabr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 u="sng">
                <a:solidFill>
                  <a:srgbClr val="ffcc66"/>
                </a:solidFill>
                <a:uFillTx/>
                <a:latin typeface="Corbel"/>
              </a:rPr>
              <a:t>Cuando decimos "voy a hacer esto" y no lo hacemos, alteramos físicamente nuestro cerebro</a:t>
            </a:r>
            <a:r>
              <a:rPr b="0" i="1" lang="es-ES" sz="2200" spc="-1" strike="noStrike">
                <a:solidFill>
                  <a:srgbClr val="ffcc66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cc66"/>
                </a:solidFill>
                <a:latin typeface="Corbel"/>
              </a:rPr>
              <a:t>El mayor potencial es la concien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66"/>
                </a:solidFill>
                <a:latin typeface="Century"/>
              </a:rPr>
              <a:t>- Ver lo que hay y aceptar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cc66"/>
                </a:solidFill>
                <a:latin typeface="Corbel"/>
              </a:rPr>
              <a:t>- Si nos aceptamos por lo que somos y por lo que no somos, podemos cambiar.  Lo que se resiste persiste.  La aceptación es el núcleo de la transform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C:\Users\Gustavo\Desktop\Nueva carpeta\Café de amor.gif"/>
          <p:cNvPicPr/>
          <p:nvPr/>
        </p:nvPicPr>
        <p:blipFill>
          <a:blip r:embed="rId1"/>
          <a:stretch/>
        </p:blipFill>
        <p:spPr>
          <a:xfrm>
            <a:off x="1114560" y="692280"/>
            <a:ext cx="6842160" cy="3024000"/>
          </a:xfrm>
          <a:prstGeom prst="rect">
            <a:avLst/>
          </a:prstGeom>
          <a:ln w="0">
            <a:noFill/>
          </a:ln>
        </p:spPr>
      </p:pic>
      <p:sp>
        <p:nvSpPr>
          <p:cNvPr id="529" name="TextBox 3"/>
          <p:cNvSpPr/>
          <p:nvPr/>
        </p:nvSpPr>
        <p:spPr>
          <a:xfrm>
            <a:off x="446040" y="4294080"/>
            <a:ext cx="842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Bookman Old Style"/>
              </a:rPr>
              <a:t>Como dijo Salom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66"/>
                </a:solidFill>
                <a:latin typeface="Bookman Old Style"/>
              </a:rPr>
              <a:t>“</a:t>
            </a:r>
            <a:r>
              <a:rPr b="0" i="1" lang="es-ES" sz="2000" spc="-1" strike="noStrike">
                <a:solidFill>
                  <a:srgbClr val="ffcc66"/>
                </a:solidFill>
                <a:latin typeface="Bookman Old Style"/>
              </a:rPr>
              <a:t>El corazón alegre constituye buen reme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66"/>
                </a:solidFill>
                <a:latin typeface="Bookman Old Style"/>
              </a:rPr>
              <a:t>y hace que el rostro sea hermo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66"/>
                </a:solidFill>
                <a:latin typeface="Bookman Old Style"/>
              </a:rPr>
              <a:t>pero el espíritu triste seca los hues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66"/>
                </a:solidFill>
                <a:latin typeface="Bookman Old Style"/>
              </a:rPr>
              <a:t>Prov. 17: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1 CuadroTexto"/>
          <p:cNvSpPr/>
          <p:nvPr/>
        </p:nvSpPr>
        <p:spPr>
          <a:xfrm>
            <a:off x="1332000" y="3492360"/>
            <a:ext cx="62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MX" sz="1800" spc="-1" strike="noStrike">
                <a:solidFill>
                  <a:srgbClr val="ffffff"/>
                </a:solidFill>
                <a:latin typeface="Arial"/>
              </a:rPr>
              <a:t>Confianza          Bondad          Honestidad       Cu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85320" cy="6813720"/>
          </a:xfrm>
          <a:prstGeom prst="rect">
            <a:avLst/>
          </a:prstGeom>
          <a:ln w="0">
            <a:noFill/>
          </a:ln>
        </p:spPr>
      </p:pic>
      <p:sp>
        <p:nvSpPr>
          <p:cNvPr id="495" name="3 Rectángulo"/>
          <p:cNvSpPr/>
          <p:nvPr/>
        </p:nvSpPr>
        <p:spPr>
          <a:xfrm>
            <a:off x="1187280" y="29401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ac090"/>
                </a:solidFill>
                <a:latin typeface="Corbel"/>
              </a:rPr>
              <a:t>“</a:t>
            </a:r>
            <a:r>
              <a:rPr b="0" i="1" lang="es-ES" sz="2400" spc="-1" strike="noStrike">
                <a:solidFill>
                  <a:srgbClr val="fac090"/>
                </a:solidFill>
                <a:latin typeface="Corbel"/>
              </a:rPr>
              <a:t>Lo decían los iluminados, los meditadores y los sabios; ahora también lo dice la ci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ac090"/>
                </a:solidFill>
                <a:latin typeface="Corbel"/>
              </a:rPr>
              <a:t>son nuestros pensamientos los que en gran me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ac090"/>
                </a:solidFill>
                <a:latin typeface="Corbel"/>
              </a:rPr>
              <a:t>han creado y crean continuamente nuestro mundo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710240" cy="2943360"/>
          </a:xfrm>
          <a:prstGeom prst="rect">
            <a:avLst/>
          </a:prstGeom>
          <a:ln w="0">
            <a:noFill/>
          </a:ln>
        </p:spPr>
      </p:pic>
      <p:sp>
        <p:nvSpPr>
          <p:cNvPr id="497" name="2 CuadroTexto"/>
          <p:cNvSpPr/>
          <p:nvPr/>
        </p:nvSpPr>
        <p:spPr>
          <a:xfrm>
            <a:off x="5435640" y="620640"/>
            <a:ext cx="3240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2cba4"/>
                </a:solidFill>
                <a:latin typeface="Century"/>
              </a:rPr>
              <a:t>Entrevista que la periodista Ima Sanchis, del diario español La Vanguardia, realizó al Dr. Mario Alonso Puig, quien es Médico Especialista en Cirugía General y del Aparato Digestivo, miembro de la Harvard University Medical School, de la New York Academy of Sciences y de la Asociación Americana para el Avance de la Cien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3 Rectángulo"/>
          <p:cNvSpPr/>
          <p:nvPr/>
        </p:nvSpPr>
        <p:spPr>
          <a:xfrm>
            <a:off x="498600" y="3645000"/>
            <a:ext cx="4680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2cba4"/>
                </a:solidFill>
                <a:latin typeface="Corbel"/>
              </a:rPr>
              <a:t>- Nací (1955) y vivo en Madrid. Estoy casado y tengo tres hijos.  Soy católico. Soy cirujano general y del aparato digestivo en el Hospital de Madrid.</a:t>
            </a:r>
            <a:r>
              <a:rPr b="0" i="1" lang="es-MX" sz="2200" spc="-1" strike="noStrike">
                <a:solidFill>
                  <a:srgbClr val="f2cba4"/>
                </a:solidFill>
                <a:latin typeface="Corbel"/>
              </a:rPr>
              <a:t> Hay que ejercitar y desarrollar la flexibilidad y la tolerancia.  Se puede ser muy firme con las conductas y amable con las person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84320" y="928800"/>
            <a:ext cx="3740040" cy="3724200"/>
          </a:xfrm>
          <a:prstGeom prst="rect">
            <a:avLst/>
          </a:prstGeom>
          <a:ln w="0">
            <a:noFill/>
          </a:ln>
        </p:spPr>
      </p:pic>
      <p:sp>
        <p:nvSpPr>
          <p:cNvPr id="500" name="5 CuadroTexto"/>
          <p:cNvSpPr/>
          <p:nvPr/>
        </p:nvSpPr>
        <p:spPr>
          <a:xfrm>
            <a:off x="4211640" y="765000"/>
            <a:ext cx="4573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8eb4e3"/>
                </a:solidFill>
                <a:latin typeface="Corbel"/>
              </a:rPr>
              <a:t>- Hoy sabemos que la confianza en uno mismo, el entusiasmo y la ilusión tienen la capacidad de favorecer las funciones superiores del cere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8eb4e3"/>
                </a:solidFill>
                <a:latin typeface="Corbel"/>
              </a:rPr>
              <a:t>La zona prefrontal del cerebro, el lugar donde tiene lugar el  pensamiento más avanzado, donde se inventa nuestro futuro, donde valoramos alternativas y estrategias para solucionar los problemas y tomar decisiones, está tremendamente influida por el sistema límbico, que es nuestro cerebro emo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8eb4e3"/>
                </a:solidFill>
                <a:latin typeface="Corbel"/>
              </a:rPr>
              <a:t>Por eso, lo que el corazón quiere sentir, la mente se lo acaba mostrando.  Hay que entrenar esa 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34920" y="41400"/>
            <a:ext cx="9109080" cy="4251240"/>
          </a:xfrm>
          <a:prstGeom prst="rect">
            <a:avLst/>
          </a:prstGeom>
          <a:ln w="0">
            <a:noFill/>
          </a:ln>
        </p:spPr>
      </p:pic>
      <p:sp>
        <p:nvSpPr>
          <p:cNvPr id="502" name="3 CuadroTexto"/>
          <p:cNvSpPr/>
          <p:nvPr/>
        </p:nvSpPr>
        <p:spPr>
          <a:xfrm>
            <a:off x="539640" y="4514760"/>
            <a:ext cx="820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eb4e3"/>
                </a:solidFill>
                <a:latin typeface="Century"/>
              </a:rPr>
              <a:t>- Más de 25 años ejerciendo de cirujano.  ¿Conclus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eb4e3"/>
                </a:solidFill>
                <a:latin typeface="Corbe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8eb4e3"/>
                </a:solidFill>
                <a:latin typeface="Corbel"/>
              </a:rPr>
              <a:t>- Puedo atestiguar que una persona ilusionada, comprometida y que confía en sí misma, puede ir mucho más allá de lo que cabría esperar por su trayecto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358920" y="1031760"/>
            <a:ext cx="4068720" cy="4052880"/>
          </a:xfrm>
          <a:prstGeom prst="rect">
            <a:avLst/>
          </a:prstGeom>
          <a:ln w="0">
            <a:noFill/>
          </a:ln>
        </p:spPr>
      </p:pic>
      <p:sp>
        <p:nvSpPr>
          <p:cNvPr id="504" name="2 CuadroTexto"/>
          <p:cNvSpPr/>
          <p:nvPr/>
        </p:nvSpPr>
        <p:spPr>
          <a:xfrm>
            <a:off x="4680000" y="901800"/>
            <a:ext cx="4140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eb4e3"/>
                </a:solidFill>
                <a:latin typeface="Century"/>
              </a:rPr>
              <a:t>- ¿Psiconeuroinmunobiologí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eb4e3"/>
                </a:solidFill>
                <a:latin typeface="Corbe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8eb4e3"/>
                </a:solidFill>
                <a:latin typeface="Corbel"/>
              </a:rPr>
              <a:t>- Sí, es la ciencia que estudia la conexión que existe entre el pensamiento, la palabra, la mentalidad y la fisiología del ser humano.</a:t>
            </a:r>
            <a:r>
              <a:rPr b="0" i="1" lang="es-MX" sz="2200" spc="-1" strike="noStrike">
                <a:solidFill>
                  <a:srgbClr val="8eb4e3"/>
                </a:solidFill>
                <a:latin typeface="Corbel"/>
              </a:rPr>
              <a:t> Una conexión que desafía el paradigma tradic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8eb4e3"/>
                </a:solidFill>
                <a:latin typeface="Corbel"/>
              </a:rPr>
              <a:t>El pensamiento y la palabra son una forma de energía vital que tiene la capacidad (y ha sido demostrado de forma sostenible), de interactuar con el organismo y producir cambios físicos muy profun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617400" y="981000"/>
            <a:ext cx="3810240" cy="3791160"/>
          </a:xfrm>
          <a:prstGeom prst="rect">
            <a:avLst/>
          </a:prstGeom>
          <a:ln w="0">
            <a:noFill/>
          </a:ln>
        </p:spPr>
      </p:pic>
      <p:sp>
        <p:nvSpPr>
          <p:cNvPr id="506" name="2 CuadroTexto"/>
          <p:cNvSpPr/>
          <p:nvPr/>
        </p:nvSpPr>
        <p:spPr>
          <a:xfrm>
            <a:off x="5076720" y="836640"/>
            <a:ext cx="3456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bfbfbf"/>
                </a:solidFill>
                <a:latin typeface="Century"/>
              </a:rPr>
              <a:t>- ¿De qué se trat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bfbfbf"/>
                </a:solidFill>
                <a:latin typeface="Corbe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bfbfbf"/>
                </a:solidFill>
                <a:latin typeface="Corbel"/>
              </a:rPr>
              <a:t>- Se ha demostrado en diversos estudios que un minuto entreteniendo un pensamiento negativo, deja el sistema inmunitario en una situación delicada durante seis horas.</a:t>
            </a:r>
            <a:r>
              <a:rPr b="0" i="1" lang="es-MX" sz="2200" spc="-1" strike="noStrike">
                <a:solidFill>
                  <a:srgbClr val="bfbfbf"/>
                </a:solidFill>
                <a:latin typeface="Corbel"/>
              </a:rPr>
              <a:t>  El estrés, esa sensación de agobio permanente, produce cambios muy sorprendentes en el funcionamiento del cerebro y en la constelación horm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2 CuadroTexto"/>
          <p:cNvSpPr/>
          <p:nvPr/>
        </p:nvSpPr>
        <p:spPr>
          <a:xfrm>
            <a:off x="3214800" y="1052640"/>
            <a:ext cx="5317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"/>
              </a:rPr>
              <a:t>- ¿Qué tipo de camb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Corbel"/>
              </a:rPr>
              <a:t>- Tiene la capacidad de lesionar neuronas de la memoria y del aprendizaje localizadas en el hipocampo.  Y afecta a nuestra capacidad intelectual porque deja sin riego sanguíneo aquellas zonas del cerebro más necesarias para tomar decisiones adecu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5 CuadroTexto"/>
          <p:cNvSpPr/>
          <p:nvPr/>
        </p:nvSpPr>
        <p:spPr>
          <a:xfrm>
            <a:off x="4788000" y="692280"/>
            <a:ext cx="36716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58ed5"/>
                </a:solidFill>
                <a:latin typeface="Century"/>
              </a:rPr>
              <a:t>- ¿Tenemos recursos para combatir al enemigo interior, o eso es cosa de sab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58ed5"/>
                </a:solidFill>
                <a:latin typeface="Corbe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558ed5"/>
                </a:solidFill>
                <a:latin typeface="Corbel"/>
              </a:rPr>
              <a:t>- Un valioso recurso contra la preocupación es llevar la atención a la respiración abdominal, que tiene por sí sola la capacidad de producir cambios en el cerebro. Favorece la secreción de hormonas como la serotonina y la endorfina y mejora la sintonía de ritmos cerebrales entre los dos hemisfe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6" descr=""/>
          <p:cNvPicPr/>
          <p:nvPr/>
        </p:nvPicPr>
        <p:blipFill>
          <a:blip r:embed="rId1"/>
          <a:stretch/>
        </p:blipFill>
        <p:spPr>
          <a:xfrm>
            <a:off x="596880" y="870120"/>
            <a:ext cx="3759120" cy="5079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01:34:02Z</dcterms:created>
  <dc:creator>Gustavo</dc:creator>
  <dc:description/>
  <dc:language>en-US</dc:language>
  <cp:lastModifiedBy>Francisco Checchi</cp:lastModifiedBy>
  <dcterms:modified xsi:type="dcterms:W3CDTF">2012-08-04T21:16:02Z</dcterms:modified>
  <cp:revision>49</cp:revision>
  <dc:subject/>
  <dc:title>Diapositiva 1</dc:title>
</cp:coreProperties>
</file>