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4.gif" ContentType="image/gif"/>
  <Override PartName="/ppt/media/image13.gif" ContentType="image/gif"/>
  <Override PartName="/ppt/media/image4.jpeg" ContentType="image/jpeg"/>
  <Override PartName="/ppt/media/image1.jpeg" ContentType="image/jpeg"/>
  <Override PartName="/ppt/media/WINTER~1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26920" y="0"/>
            <a:ext cx="712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2d70e"/>
                </a:solidFill>
                <a:latin typeface="Cambria"/>
              </a:rPr>
              <a:t>EL INSTANTE MÁG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43640" y="260280"/>
            <a:ext cx="237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mbria"/>
              </a:rPr>
              <a:t>Y en el futuro podemos mirar hacia atrás con orgullo 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Cambria"/>
              </a:rPr>
              <a:t>y 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92360" y="3573360"/>
            <a:ext cx="701028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Cambria"/>
              </a:rPr>
              <a:t>Hoy </a:t>
            </a:r>
            <a:fld id="{1A0A9E6F-6DD0-45AC-8C84-BA69E9865D0B}" type="datetime2">
              <a:rPr b="0" i="1" lang="es-MX" sz="3200" spc="-1" strike="noStrike">
                <a:solidFill>
                  <a:srgbClr val="ffffff"/>
                </a:solidFill>
                <a:latin typeface="Cambria"/>
              </a:rPr>
              <a:t>jueves 30 de julio de 2026</a:t>
            </a:fld>
            <a:r>
              <a:rPr b="0" i="1" lang="es-MX" sz="3200" spc="-1" strike="noStrike">
                <a:solidFill>
                  <a:srgbClr val="ffffff"/>
                </a:solidFill>
                <a:latin typeface="Cambri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Cambria"/>
              </a:rPr>
              <a:t>A las </a:t>
            </a:r>
            <a:fld id="{D3D79FB7-99F5-4E3F-B909-C0FF8E75EA74}" type="datetime13">
              <a:rPr b="0" i="1" lang="es-MX" sz="3200" spc="-1" strike="noStrike">
                <a:solidFill>
                  <a:srgbClr val="ffffff"/>
                </a:solidFill>
                <a:latin typeface="Cambria"/>
              </a:rPr>
              <a:t>03:03:28 p. m.</a:t>
            </a:fld>
            <a:r>
              <a:rPr b="0" i="1" lang="es-MX" sz="3200" spc="-1" strike="noStrike">
                <a:solidFill>
                  <a:srgbClr val="ffffff"/>
                </a:solidFill>
                <a:latin typeface="Cambri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Cambria"/>
              </a:rPr>
              <a:t>¡ Deseo encuentres tu instante mágic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59280" cy="4286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68000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148572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76360" y="4937040"/>
            <a:ext cx="59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bbff"/>
                </a:solidFill>
                <a:latin typeface="Comic Sans MS"/>
              </a:rPr>
              <a:t>Por tu amistad y cariñ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2d70e"/>
                </a:solidFill>
                <a:latin typeface="Cambria"/>
              </a:rPr>
              <a:t>Sólo entendemos el "milagro de la vida" cuando dejamos que suceda lo inesperado.</a:t>
            </a:r>
            <a:r>
              <a:rPr b="0" lang="es-MX" sz="32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67040"/>
            <a:ext cx="349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2d70e"/>
                </a:solidFill>
                <a:latin typeface="Cambria"/>
              </a:rPr>
              <a:t>Todos los días Dios nos da, junto con el sol, un momento en el que es posible cambiar todo lo que nos hizo "infelices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35640" y="2133720"/>
            <a:ext cx="370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mbria"/>
              </a:rPr>
              <a:t>Todos los días tratamos de fingir que no percibimos ese momento, que ese momento no existe, que hoy es igual que ayer y será igual que mañ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92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mbria"/>
              </a:rPr>
              <a:t>Pero quien presta atención a su día, descubre el "instante mágico" que puede estar escondido en cualquier parte. Ese momento exis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24360" y="2421000"/>
            <a:ext cx="320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mbria"/>
              </a:rPr>
              <a:t>Un momento en el que toda la fuerza de las estrellas pasa a través de nosotros y nos permite hacer milag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92720" y="386064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mbria"/>
              </a:rPr>
              <a:t>La "felicidad" es a veces una bendición, pero por lo general es una "conquista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3716280"/>
            <a:ext cx="34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mbria"/>
              </a:rPr>
              <a:t>El instante mágico del día nos ayuda a cambiar, nos hace ir en busca de nuestros sueño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8360" y="260280"/>
            <a:ext cx="345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mbria"/>
              </a:rPr>
              <a:t>Vamos a sufrir, vamos a tener momentos difíciles, vamos a afrontar muchas desilusiones... pero todo es pasajero... y no deja mar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3:32:41Z</dcterms:created>
  <dc:creator>Mtro. Juan José Coronado</dc:creator>
  <dc:description/>
  <dc:language>en-US</dc:language>
  <cp:lastModifiedBy>Juan José Coronado chavira</cp:lastModifiedBy>
  <dcterms:modified xsi:type="dcterms:W3CDTF">2007-08-24T17:22:40Z</dcterms:modified>
  <cp:revision>1</cp:revision>
  <dc:subject>Presentación</dc:subject>
  <dc:title>El_Instante_Mágico</dc:title>
</cp:coreProperties>
</file>