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3.jpeg" ContentType="image/jpeg"/>
  <Override PartName="/ppt/media/06-One%20Man's%20dream.wav" ContentType="audio/x-wav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446-63D4-4928-9A12-05BF91BD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2E3-0B65-4EFA-A03B-8B81C42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AE0-B6EA-4E06-9037-3BADCC9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BAB-6004-47C3-A49D-D2E757FA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D2D-EF6D-4583-8944-0D0294DE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03D-A4EF-4536-A13F-3932EF9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D8E-AC4D-49C9-8F96-EC20050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080-4658-486D-9BDA-A10315F9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F65-B607-47DC-9577-6C28F39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13-89E2-4A15-B727-16CBB25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A74-FF30-4B7B-81E7-B9236F6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59A-3B61-46D8-8740-985D6A5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6596-EFEB-4369-9813-2B744A9B6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6-One%20Man&apos;s%20dream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4976735@N03/3031266247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5105520"/>
            <a:ext cx="269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29"/>
                </a:solidFill>
                <a:latin typeface="Arial"/>
              </a:rPr>
              <a:t>EDU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6000"/>
          </a:blip>
          <a:srcRect l="4230" t="0" r="0" b="6560"/>
          <a:stretch/>
        </p:blipFill>
        <p:spPr>
          <a:xfrm>
            <a:off x="1116000" y="1916280"/>
            <a:ext cx="4897440" cy="3246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  <p:sndAc>
      <p:stSnd>
        <p:snd r:embed="rId2" name="06-One%20Man's%20dre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contrast="6000"/>
          </a:blip>
          <a:srcRect l="14793" t="5468" r="9955" b="3299"/>
          <a:stretch/>
        </p:blipFill>
        <p:spPr>
          <a:xfrm>
            <a:off x="3924360" y="2374920"/>
            <a:ext cx="4535280" cy="37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1066680"/>
            <a:ext cx="3888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os conoci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nos dan med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ara vivi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666880"/>
            <a:ext cx="414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a sabiduría nos da razones para viv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4869000"/>
            <a:ext cx="2267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333396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6000" y="765000"/>
            <a:ext cx="63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Quiero enseñar a los ni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57480" y="1336680"/>
            <a:ext cx="424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Aún tienen los ojos encan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637000"/>
            <a:ext cx="4248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us ojos están dotados de aquella cualidad qu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ara los grieg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ra el principio del pensamiento: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371600"/>
            <a:ext cx="3529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...la capacidad de asomb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al contemplar lo más simp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19640" y="1536840"/>
            <a:ext cx="3086280" cy="462888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09480"/>
            <a:ext cx="7559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ara los niños, todo es maravillo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352908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un huevo, una lombriz, un caracol, o el vuelo de las maripos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o los movimientos de las langostas, un cometa en el cielo, una peonza en la tierra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495680"/>
            <a:ext cx="29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Cosas qu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eruditos no v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715000"/>
            <a:ext cx="226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1995480"/>
            <a:ext cx="4248360" cy="34495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79480"/>
            <a:ext cx="30384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n la escuela aprendí complicadas clasificaciones botánic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160" y="4149720"/>
            <a:ext cx="8209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taxonómicas, nombres latinos, ya olvid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4797360"/>
            <a:ext cx="874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ero ningún profesor jamás llamó mi atención sobre la belleza de una manz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 por ohluffst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620640"/>
            <a:ext cx="5111640" cy="345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03640" y="2349360"/>
            <a:ext cx="3168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...o lo curioso de las simetrías que muestran sus hoja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4770"/>
          <a:stretch/>
        </p:blipFill>
        <p:spPr>
          <a:xfrm>
            <a:off x="900000" y="1413000"/>
            <a:ext cx="3571920" cy="4535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19720" y="1066680"/>
            <a:ext cx="43560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arece que en aquel tiempo, las escuelas estaban más preocupadas por hacer que los alumnos memorizaran pala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4770"/>
          <a:stretch/>
        </p:blipFill>
        <p:spPr>
          <a:xfrm>
            <a:off x="762120" y="1447920"/>
            <a:ext cx="3571920" cy="453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3886200"/>
            <a:ext cx="41403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que en comprender las re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que ellas representa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562720" y="457200"/>
            <a:ext cx="302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3000" spc="-1" strike="noStrike">
                <a:solidFill>
                  <a:srgbClr val="ffff29"/>
                </a:solidFill>
                <a:latin typeface="Verdana"/>
              </a:rPr>
              <a:t>Las palabras sólo tienen sentido si nos ayudan a ver mejor el mun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733920"/>
            <a:ext cx="2880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29"/>
                </a:solidFill>
                <a:latin typeface="Verdana"/>
              </a:rPr>
              <a:t>Aprendemos palab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29"/>
                </a:solidFill>
                <a:latin typeface="Verdana"/>
              </a:rPr>
              <a:t>para mejorar los ojo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6019920"/>
            <a:ext cx="226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713120" cy="4591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447920"/>
            <a:ext cx="611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El acto de ver no es algo natu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57400"/>
            <a:ext cx="460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29"/>
                </a:solidFill>
                <a:latin typeface="Verdana"/>
              </a:rPr>
              <a:t>Precisa ser aprendido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33520"/>
            <a:ext cx="7921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Hay muchas personas con visión perfec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que nada ve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8098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295280" y="3429000"/>
            <a:ext cx="2901960" cy="2678040"/>
            <a:chOff x="1295280" y="3429000"/>
            <a:chExt cx="2901960" cy="2678040"/>
          </a:xfrm>
        </p:grpSpPr>
        <p:sp>
          <p:nvSpPr>
            <p:cNvPr id="103" name=""/>
            <p:cNvSpPr/>
            <p:nvPr/>
          </p:nvSpPr>
          <p:spPr>
            <a:xfrm>
              <a:off x="1295280" y="3429000"/>
              <a:ext cx="2901960" cy="267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866600" y="3678480"/>
              <a:ext cx="1359000" cy="136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4000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93880" y="1125360"/>
            <a:ext cx="3598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Cuando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abre los oj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751" t="0" r="0" b="1723"/>
          <a:stretch/>
        </p:blipFill>
        <p:spPr>
          <a:xfrm>
            <a:off x="4859280" y="1413000"/>
            <a:ext cx="3745080" cy="3284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74720" y="2133720"/>
            <a:ext cx="3889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e abren las ventanas de su cuerp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320" y="3587760"/>
            <a:ext cx="38163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y el mundo aparece reflejado dentro de la gen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5157720"/>
            <a:ext cx="2266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7640" y="476280"/>
            <a:ext cx="554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ducar es mostrar la vida a quien aún no la ha vivid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2920" y="1676520"/>
            <a:ext cx="3529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l educador dice: “¡Atento, apunta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129" t="10290" r="3129" b="12208"/>
          <a:stretch/>
        </p:blipFill>
        <p:spPr>
          <a:xfrm>
            <a:off x="468360" y="2997360"/>
            <a:ext cx="453528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33880" y="2790720"/>
            <a:ext cx="4075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l alumno lee la dirección apuntad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ve lo que nunca v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81520" y="4307040"/>
            <a:ext cx="2808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u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e expan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3720" y="5272200"/>
            <a:ext cx="4046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e ve 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rico interiormente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476280"/>
            <a:ext cx="35989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os niños, sin hablar, nos enseñan las razones para vi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2708280"/>
            <a:ext cx="3672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os niños no tienen saberes que transmi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437000"/>
            <a:ext cx="2952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u encanto es conocer lo esencial de la vid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:) por ohluffstar."/>
          <p:cNvPicPr/>
          <p:nvPr/>
        </p:nvPicPr>
        <p:blipFill>
          <a:blip r:embed="rId1"/>
          <a:stretch/>
        </p:blipFill>
        <p:spPr>
          <a:xfrm>
            <a:off x="4211640" y="1047600"/>
            <a:ext cx="3889440" cy="50454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24360" y="1341360"/>
            <a:ext cx="273528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Quien no cambia su manera adulta de ver y sentir y no se hace niñ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jamás será sabio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5661000"/>
            <a:ext cx="2266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ffff29"/>
                </a:solidFill>
                <a:latin typeface="Verdana"/>
                <a:ea typeface="Arial"/>
              </a:rPr>
              <a:t>RUBEM  AL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Usted puede ayudar. Cómo donar…"/>
          <p:cNvPicPr/>
          <p:nvPr/>
        </p:nvPicPr>
        <p:blipFill>
          <a:blip r:embed="rId1"/>
          <a:stretch/>
        </p:blipFill>
        <p:spPr>
          <a:xfrm>
            <a:off x="611280" y="1268280"/>
            <a:ext cx="4913280" cy="4537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914400"/>
            <a:ext cx="254448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33920" y="1676520"/>
            <a:ext cx="482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37"/>
                </a:solidFill>
                <a:latin typeface="Verdana"/>
              </a:rPr>
              <a:t>Rubem Alves – Nació el 15 de septiembre de 1933, en Boa Esperança, Minas Ge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971800"/>
            <a:ext cx="5041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37"/>
                </a:solidFill>
                <a:latin typeface="Verdana"/>
              </a:rPr>
              <a:t>Maestro en Teología, Doctor en Filosofía, psicoanalista y profesor emérito de Unicamp. Tiene 3 hijos y 5 nie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4343400"/>
            <a:ext cx="4753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37"/>
                </a:solidFill>
                <a:latin typeface="Verdana"/>
              </a:rPr>
              <a:t>Poeta, cronista de lo cotidiano, contador de historias, uno de los más admirados y respetados intelectuales de Bra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66680" y="1523880"/>
            <a:ext cx="2544840" cy="2737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9880" y="1752480"/>
            <a:ext cx="485928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a sencil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a ociosidad cre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a vida, la belleza y la poes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3276720"/>
            <a:ext cx="43070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todo lo que da aleg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a naturaleza y tiene mucha reverenacia por l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724280"/>
            <a:ext cx="430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os mis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66680" y="1905120"/>
            <a:ext cx="2544840" cy="273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38480" y="1828800"/>
            <a:ext cx="42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la eduación como fuente de esperanza y trans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89548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a todas las personas, pero tiene un cariño especial por los alumnos y por los 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4343400"/>
            <a:ext cx="500364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a Di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y respet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66680" y="1828800"/>
            <a:ext cx="2544840" cy="27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62520" y="1905120"/>
            <a:ext cx="42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Ama a los niños y a los filósofos – ambos tienen algo en comú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191120"/>
            <a:ext cx="449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37"/>
                </a:solidFill>
                <a:latin typeface="Verdana"/>
              </a:rPr>
              <a:t>Ama, ama, ama, am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3352680"/>
            <a:ext cx="42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37"/>
                </a:solidFill>
                <a:latin typeface="Verdana"/>
              </a:rPr>
              <a:t>hacer pregu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9040" cy="299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1000" y="996840"/>
            <a:ext cx="47527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Los niños no tienen ideas religiosas, pero sí tienen experiencias mís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2481120"/>
            <a:ext cx="38890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Experiencia mística de no ver seres de otro mun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949560"/>
            <a:ext cx="4176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29"/>
                </a:solidFill>
                <a:latin typeface="Verdana"/>
              </a:rPr>
              <a:t>Y ver este mundo iluminado por la belleza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527800"/>
            <a:ext cx="2266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29"/>
                </a:solidFill>
                <a:latin typeface="Verdana"/>
                <a:ea typeface="Arial"/>
              </a:rPr>
              <a:t>Rubem Al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631800"/>
            <a:ext cx="41036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Y, sintiéndose más rico interiormen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uede sentir mayor alegrí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compartir más alegrí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3727440"/>
            <a:ext cx="35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que esa es la razón por la que vivim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5888160"/>
            <a:ext cx="226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1280" y="542880"/>
            <a:ext cx="3943440" cy="59817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7240" y="1212840"/>
            <a:ext cx="7201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He leído muchos libros sob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sicología de la educación, sociología de la educación, filosofía de la educ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213000"/>
            <a:ext cx="6985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ero, sigo buscando en cualquier libro referencias  a la importancia de la educació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5300640"/>
            <a:ext cx="226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48360" y="2492280"/>
            <a:ext cx="33112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a primera tarea de la educación es enseñar  a v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816360" cy="40323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76360" y="4653000"/>
            <a:ext cx="65530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os niños a través de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tienen el primer contacto co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belleza y fascinación del mundo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634" t="12208" r="3129" b="12208"/>
          <a:stretch/>
        </p:blipFill>
        <p:spPr>
          <a:xfrm>
            <a:off x="2268360" y="1125360"/>
            <a:ext cx="4967640" cy="3256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447920"/>
            <a:ext cx="3672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os ojos tienen que ser edu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para que la alegría aumen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5959440"/>
            <a:ext cx="2266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103640" cy="4752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98480" y="4524480"/>
            <a:ext cx="784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La educación consta de dos par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19200" y="5100480"/>
            <a:ext cx="7229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2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ducación de las h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2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 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educación de las sensibilidad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0" t="5659" r="0" b="5659"/>
          <a:stretch/>
        </p:blipFill>
        <p:spPr>
          <a:xfrm>
            <a:off x="826920" y="1052640"/>
            <a:ext cx="4824720" cy="3354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88000" y="1749600"/>
            <a:ext cx="3960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“</a:t>
            </a: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Sin la educación de las sensibilid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26040" y="5516640"/>
            <a:ext cx="226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357720"/>
            <a:ext cx="3745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29"/>
                </a:solidFill>
                <a:latin typeface="Verdana"/>
              </a:rPr>
              <a:t>todas las habilidades se tornan sin sentid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833480"/>
            <a:ext cx="3743280" cy="3395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0:12:51Z</dcterms:created>
  <dc:creator>um_peregrino@hotmail.com</dc:creator>
  <dc:description/>
  <dc:language>en-US</dc:language>
  <cp:lastModifiedBy>User</cp:lastModifiedBy>
  <dcterms:modified xsi:type="dcterms:W3CDTF">2008-11-16T00:27:31Z</dcterms:modified>
  <cp:revision>88</cp:revision>
  <dc:subject/>
  <dc:title>Educar</dc:title>
</cp:coreProperties>
</file>