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01.B-Tribe%20-%20Angelic%20Voices%20(Rebirth%20Remix).wav" ContentType="audio/x-wav"/>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03881-893C-45B3-8FCF-9ACD96637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4C76-8B47-486F-860A-FBE0C387C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3070E-90D8-4FD6-8CA5-2DA65EE53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C609A-EC1C-4402-9FF3-26D95A94A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93151-46FD-49CF-BD40-16008753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514D7-751F-4EE7-9EE7-EEB0DA65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9DEE-5809-407E-BCE0-A25B352C6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9550-F5E7-458E-816A-6BBBC7A02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2B0C4-AA24-4CCA-AF44-1C332A419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61D8-5C3D-4291-AF33-A1E277BF9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D4B0-1158-441A-86CC-30B082E9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4A3B-DE26-4EB8-8914-76B48E8A4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756D-1187-4FE6-9FBD-CE195BFFF9C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1.B-Tribe%20-%20Angelic%20Voices%20(Rebirth%20Remix).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350360" y="3245760"/>
            <a:ext cx="6442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CAMPO MAGNETICO HUMANO AFECTA A LA TIERRA</a:t>
            </a:r>
            <a:endParaRPr b="0" lang="en-US" sz="1800" spc="-1" strike="noStrike">
              <a:solidFill>
                <a:srgbClr val="000000"/>
              </a:solidFill>
              <a:latin typeface="Arial"/>
            </a:endParaRPr>
          </a:p>
        </p:txBody>
      </p:sp>
    </p:spTree>
  </p:cSld>
  <p:transition spd="slow">
    <p:fade thruBlk="true"/>
    <p:sndAc>
      <p:stSnd>
        <p:snd r:embed="rId1" name="01.B-Tribe%20-%20Angelic%20Voices%20(Rebirth%20Remix).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3" descr="36979_137252436286988_100000066976267_359966_2847267_n"/>
          <p:cNvPicPr/>
          <p:nvPr/>
        </p:nvPicPr>
        <p:blipFill>
          <a:blip r:embed="rId1"/>
          <a:stretch/>
        </p:blipFill>
        <p:spPr>
          <a:xfrm>
            <a:off x="2521080" y="189000"/>
            <a:ext cx="4101840" cy="5040360"/>
          </a:xfrm>
          <a:prstGeom prst="rect">
            <a:avLst/>
          </a:prstGeom>
          <a:ln w="0">
            <a:noFill/>
          </a:ln>
        </p:spPr>
      </p:pic>
      <p:sp>
        <p:nvSpPr>
          <p:cNvPr id="43" name="Rectangle 4"/>
          <p:cNvSpPr/>
          <p:nvPr/>
        </p:nvSpPr>
        <p:spPr>
          <a:xfrm>
            <a:off x="468360" y="5406840"/>
            <a:ext cx="8424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é es una existencia basada en el coraz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los últimos años, nuestra propia ciencia ha hecho un descubrimiento radical y revolucionario que cambia todo en relación a la manera en que pensamos en nosotros mismos y en el mundo.</a:t>
            </a:r>
            <a:endParaRPr b="0" lang="en-US" sz="1800" spc="-1" strike="noStrike">
              <a:solidFill>
                <a:srgbClr val="000000"/>
              </a:solidFill>
              <a:latin typeface="Arial"/>
            </a:endParaRPr>
          </a:p>
        </p:txBody>
      </p:sp>
    </p:spTree>
  </p:cSld>
  <p:transition spd="slow">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360360" y="4437000"/>
            <a:ext cx="84232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cubrieron que cuando creamos emociones basadas en el corazón, tales como gratitud, aprecio, cuidado - literalmente, usando el músculo del corazón para crear estas emociones - lo que en realidad estamos haciendo es generar un </a:t>
            </a:r>
            <a:r>
              <a:rPr b="0" lang="es-ES" sz="1800" spc="-1" strike="noStrike" u="sng">
                <a:solidFill>
                  <a:srgbClr val="ffffff"/>
                </a:solidFill>
                <a:uFillTx/>
                <a:latin typeface="Arial"/>
              </a:rPr>
              <a:t>campo magnético</a:t>
            </a:r>
            <a:r>
              <a:rPr b="0" lang="es-ES" sz="1800" spc="-1" strike="noStrike">
                <a:solidFill>
                  <a:srgbClr val="ffffff"/>
                </a:solidFill>
                <a:latin typeface="Arial"/>
              </a:rPr>
              <a:t> dentro de nuestro cuerpo, que es parte del campo magnético </a:t>
            </a:r>
            <a:r>
              <a:rPr b="0" lang="es-ES" sz="1800" spc="-1" strike="noStrike" u="sng">
                <a:solidFill>
                  <a:srgbClr val="ffffff"/>
                </a:solidFill>
                <a:uFillTx/>
                <a:latin typeface="Arial"/>
              </a:rPr>
              <a:t>de la Tierra</a:t>
            </a:r>
            <a:r>
              <a:rPr b="0" lang="es-ES" sz="1800" spc="-1" strike="noStrike">
                <a:solidFill>
                  <a:srgbClr val="ffffff"/>
                </a:solidFill>
                <a:latin typeface="Arial"/>
              </a:rPr>
              <a:t> que experimenta el camb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ampo magnético de la Tierra se eleva, cae y regula todo, desde el clima, hasta las capas de hielo y los niveles del mar.</a:t>
            </a:r>
            <a:endParaRPr b="0" lang="en-US" sz="1800" spc="-1" strike="noStrike">
              <a:solidFill>
                <a:srgbClr val="000000"/>
              </a:solidFill>
              <a:latin typeface="Arial"/>
            </a:endParaRPr>
          </a:p>
        </p:txBody>
      </p:sp>
      <p:pic>
        <p:nvPicPr>
          <p:cNvPr id="45" name="Picture 4" descr="polar"/>
          <p:cNvPicPr/>
          <p:nvPr/>
        </p:nvPicPr>
        <p:blipFill>
          <a:blip r:embed="rId1"/>
          <a:stretch/>
        </p:blipFill>
        <p:spPr>
          <a:xfrm>
            <a:off x="2136600" y="692280"/>
            <a:ext cx="4870800" cy="3240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299880" y="4078440"/>
            <a:ext cx="8544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campo magnético une toda vida sobre la Tierra, desde una brizna de pasto hasta una hormiga, desde un pececillo de color, a un hámster, a nosotros mism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ando muchos de nosotros nos reunimos y creamos un sentimiento común, a esa experiencia se la llama ‘coherencia’. La coherencia en efecto puede medirse. Tiene una frecuencia de 0,10 </a:t>
            </a:r>
            <a:r>
              <a:rPr b="0" lang="es-ES" sz="1800" spc="-1" strike="noStrike" u="sng">
                <a:solidFill>
                  <a:srgbClr val="ffffff"/>
                </a:solidFill>
                <a:uFillTx/>
                <a:latin typeface="Arial"/>
              </a:rPr>
              <a:t>hertz</a:t>
            </a:r>
            <a:r>
              <a:rPr b="0" lang="es-ES" sz="1800" spc="-1" strike="noStrike">
                <a:solidFill>
                  <a:srgbClr val="ffffff"/>
                </a:solidFill>
                <a:latin typeface="Arial"/>
              </a:rPr>
              <a:t>. Ésa es la medida de la coherencia creada entre el corazón y el cerebro.</a:t>
            </a:r>
            <a:endParaRPr b="0" lang="en-US" sz="1800" spc="-1" strike="noStrike">
              <a:solidFill>
                <a:srgbClr val="000000"/>
              </a:solidFill>
              <a:latin typeface="Arial"/>
            </a:endParaRPr>
          </a:p>
        </p:txBody>
      </p:sp>
      <p:pic>
        <p:nvPicPr>
          <p:cNvPr id="47" name="Picture 4" descr="foto_nota_88"/>
          <p:cNvPicPr/>
          <p:nvPr/>
        </p:nvPicPr>
        <p:blipFill>
          <a:blip r:embed="rId1"/>
          <a:stretch/>
        </p:blipFill>
        <p:spPr>
          <a:xfrm>
            <a:off x="500040" y="620640"/>
            <a:ext cx="8143920" cy="237672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196920" y="3500280"/>
            <a:ext cx="8748720" cy="3173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Campos Magnéticos</a:t>
            </a:r>
            <a:endParaRPr b="0" lang="en-US" sz="20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científicos descubrieron esto por primera vez durante el 11 de septiembre, cuando nuestros satélites, a 35.000 kilómetros en el espacio, comenzaron a registrar cambios en el campo magnético de la Tierra, cuando los seres humanos estaban teniendo emociones por lo del 11 de septiembre y del World Trade Center. Esto fue una sorpresa para la ciencia.</a:t>
            </a:r>
            <a:endParaRPr b="0" lang="en-US" sz="18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ron: « ¿Por qué la gente que experimentaba el 11 de septiembre podía afectar a los </a:t>
            </a:r>
            <a:r>
              <a:rPr b="0" lang="es-ES" sz="1800" spc="-1" strike="noStrike" u="sng">
                <a:solidFill>
                  <a:srgbClr val="ffffff"/>
                </a:solidFill>
                <a:uFillTx/>
                <a:latin typeface="Arial"/>
              </a:rPr>
              <a:t>campos magnéticos</a:t>
            </a:r>
            <a:r>
              <a:rPr b="0" lang="es-ES" sz="1800" spc="-1" strike="noStrike">
                <a:solidFill>
                  <a:srgbClr val="ffffff"/>
                </a:solidFill>
                <a:latin typeface="Arial"/>
              </a:rPr>
              <a:t> de la Tierra? No existe ninguna conexión, ¿no es cierto?» Bien, es incorrecto. Ellos descubrieron que existe una conexión y esto ha llevado a lo que se llama el Proyecto de Iniciativa de Coherencia Global.</a:t>
            </a:r>
            <a:endParaRPr b="0" lang="en-US" sz="1800" spc="-1" strike="noStrike">
              <a:solidFill>
                <a:srgbClr val="000000"/>
              </a:solidFill>
              <a:latin typeface="Arial"/>
            </a:endParaRPr>
          </a:p>
        </p:txBody>
      </p:sp>
      <p:pic>
        <p:nvPicPr>
          <p:cNvPr id="49" name="Picture 4" descr="solidaridadesamor"/>
          <p:cNvPicPr/>
          <p:nvPr/>
        </p:nvPicPr>
        <p:blipFill>
          <a:blip r:embed="rId1"/>
          <a:stretch/>
        </p:blipFill>
        <p:spPr>
          <a:xfrm>
            <a:off x="2654280" y="404640"/>
            <a:ext cx="3835440" cy="288000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216000" y="3940200"/>
            <a:ext cx="87120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científicos están ahora construyendo los sensores que puedan medir estos campos magnéticos y proponen subirlos al sitio web donde ustedes puedan observar los cambios del campo incluso en tiempo re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emás de medir este campo, el objetivo del Proyecto de Coherencia Global es enseñar a la gente a producir coherencia en su vida cotidiana. No es algo difícil de hacer y ustedes no tienen que cambiar sus vidas para realizarlo. No tienen que cambiar sus meditaciones, sus oraciones ni cualquier otra práctica. Es una manera de estar en nuestros corazones durante todo el día, lo que es muy fácil de aprender</a:t>
            </a:r>
            <a:endParaRPr b="0" lang="en-US" sz="1800" spc="-1" strike="noStrike">
              <a:solidFill>
                <a:srgbClr val="000000"/>
              </a:solidFill>
              <a:latin typeface="Arial"/>
            </a:endParaRPr>
          </a:p>
        </p:txBody>
      </p:sp>
      <p:pic>
        <p:nvPicPr>
          <p:cNvPr id="51" name="Picture 4" descr="Cielo Espácio"/>
          <p:cNvPicPr/>
          <p:nvPr/>
        </p:nvPicPr>
        <p:blipFill>
          <a:blip r:embed="rId1"/>
          <a:stretch/>
        </p:blipFill>
        <p:spPr>
          <a:xfrm>
            <a:off x="1301760" y="627120"/>
            <a:ext cx="6540480" cy="273060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395280" y="3645000"/>
            <a:ext cx="8353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algo así como una toma de conciencia o una especie de bioretroaliment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parte de eso. Cuando creamos esta coherencia dentro de nuestros cuerpos, esto desencadena cerca de 1.400 cambios bioquímicos. Comienzan los procesos de rejuvenec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nivel de </a:t>
            </a:r>
            <a:r>
              <a:rPr b="0" lang="es-ES" sz="1800" spc="-1" strike="noStrike" u="sng">
                <a:solidFill>
                  <a:srgbClr val="ffffff"/>
                </a:solidFill>
                <a:uFillTx/>
                <a:latin typeface="Arial"/>
              </a:rPr>
              <a:t>la hormona</a:t>
            </a:r>
            <a:r>
              <a:rPr b="0" lang="es-ES" sz="1800" spc="-1" strike="noStrike">
                <a:solidFill>
                  <a:srgbClr val="ffffff"/>
                </a:solidFill>
                <a:latin typeface="Arial"/>
              </a:rPr>
              <a:t> DHEA (dehidroepiandrosterona) -hormona dadora de vida - sube en nuestros cuerpos. Nuestro sistema inmunológico se fortalece realmente. Pensamos con más claridad. Nos volvemos menos agresivos. </a:t>
            </a:r>
            <a:endParaRPr b="0" lang="en-US" sz="1800" spc="-1" strike="noStrike">
              <a:solidFill>
                <a:srgbClr val="000000"/>
              </a:solidFill>
              <a:latin typeface="Arial"/>
            </a:endParaRPr>
          </a:p>
        </p:txBody>
      </p:sp>
      <p:pic>
        <p:nvPicPr>
          <p:cNvPr id="53" name="Picture 4" descr="sol y mar"/>
          <p:cNvPicPr/>
          <p:nvPr/>
        </p:nvPicPr>
        <p:blipFill>
          <a:blip r:embed="rId1"/>
          <a:srcRect l="787" t="1152" r="0" b="0"/>
          <a:stretch/>
        </p:blipFill>
        <p:spPr>
          <a:xfrm>
            <a:off x="2720880" y="765000"/>
            <a:ext cx="3702240" cy="251964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187280" y="3716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
          <p:cNvSpPr/>
          <p:nvPr/>
        </p:nvSpPr>
        <p:spPr>
          <a:xfrm>
            <a:off x="324000" y="4227480"/>
            <a:ext cx="84960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campos magnéticos del corazón ahora se están documentando. Estamos enfrentados a los mayores desafíos de los últimos 5.000 años de la historia humana registra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entras enfrentamos los grandes desafíos de nuestros tiempos, nos preguntamos: «¿Qué podemos hacer?» Aquí está lo que podemos hacer. Podemos aprender el idioma del campo magnético que está creando los cambios y contribuir a que ese campo sea llevado desde el caos hacia el ord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000000"/>
              </a:solidFill>
              <a:latin typeface="Arial"/>
            </a:endParaRPr>
          </a:p>
        </p:txBody>
      </p:sp>
      <p:pic>
        <p:nvPicPr>
          <p:cNvPr id="56" name="Picture 6" descr="luzinterior"/>
          <p:cNvPicPr/>
          <p:nvPr/>
        </p:nvPicPr>
        <p:blipFill>
          <a:blip r:embed="rId1"/>
          <a:stretch/>
        </p:blipFill>
        <p:spPr>
          <a:xfrm>
            <a:off x="2529000" y="620640"/>
            <a:ext cx="4086000" cy="3240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971640" y="3500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3"/>
          <p:cNvSpPr/>
          <p:nvPr/>
        </p:nvSpPr>
        <p:spPr>
          <a:xfrm>
            <a:off x="755640" y="3860640"/>
            <a:ext cx="7632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demos influir en los campos mismos que están creando el cambio. Los mayas no nos pueden decir cómo termina este ciclo, porque nosotros estamos escribiendo su desenlace mientras lo estamos viviendo en este mismo mo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ha sembrado temor respecto del 2012 que provoca tensión en algunas personas, pero tenemos la capacidad para regular el campo magnético mediante ajustar la forma en que trabajamos juntos, a través de nuestros coraz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La clave es: tenemos que trabajar unidos para hacerlo.</a:t>
            </a:r>
            <a:endParaRPr b="0" lang="en-US" sz="1800" spc="-1" strike="noStrike">
              <a:solidFill>
                <a:srgbClr val="000000"/>
              </a:solidFill>
              <a:latin typeface="Arial"/>
            </a:endParaRPr>
          </a:p>
        </p:txBody>
      </p:sp>
      <p:pic>
        <p:nvPicPr>
          <p:cNvPr id="59" name="Picture 4" descr="manostierra"/>
          <p:cNvPicPr/>
          <p:nvPr/>
        </p:nvPicPr>
        <p:blipFill>
          <a:blip r:embed="rId1"/>
          <a:stretch/>
        </p:blipFill>
        <p:spPr>
          <a:xfrm>
            <a:off x="2311560" y="549360"/>
            <a:ext cx="4520880" cy="3240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7:34:52Z</dcterms:created>
  <dc:creator>Juan</dc:creator>
  <dc:description/>
  <dc:language>en-US</dc:language>
  <cp:lastModifiedBy>Carlos Rangel</cp:lastModifiedBy>
  <dcterms:modified xsi:type="dcterms:W3CDTF">2010-10-25T18:56:32Z</dcterms:modified>
  <cp:revision>1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