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3.jpeg" ContentType="image/jpeg"/>
  <Override PartName="/ppt/media/enfant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A62-13F1-4CC8-9D44-9D9A0241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9BC-A191-4D02-9DC3-A17F21C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133-3C29-42CF-A358-DA72519E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18F-DE16-4793-A6CB-5410D01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FB7-C29E-4B6B-B32F-F668479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89E-04FE-43AC-92CB-FF6E5C7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3CB-0DDA-4C70-A0BE-D17EEC4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366-E2D6-4257-83F0-FA87E95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C71-B154-42B5-BB9F-4F41DF13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6C8-219F-4309-8C44-FC924F4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9E0-3A16-4ECF-B450-DA0D64C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D28-5CF8-4297-A71B-452A853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a2"/>
            </a:gs>
            <a:gs pos="100000">
              <a:srgbClr val="001f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CEB-13EB-4EAE-B987-0895B321C40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fan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274840" y="1968480"/>
            <a:ext cx="4594320" cy="29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noFill/>
                <a:latin typeface="Arial"/>
              </a:rPr>
              <a:t>El  Cuerpo  Humano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noFill/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noFill/>
                <a:latin typeface="Arial"/>
              </a:rPr>
              <a:t>Al  Microscopio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noFill/>
              <a:latin typeface="Arial"/>
              <a:ea typeface="Arial"/>
            </a:endParaRPr>
          </a:p>
        </p:txBody>
      </p:sp>
    </p:spTree>
  </p:cSld>
  <p:transition spd="slow">
    <p:fade/>
    <p:sndAc>
      <p:stSnd>
        <p:snd r:embed="rId1" name="enfan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8"/>
          <p:cNvPicPr/>
          <p:nvPr/>
        </p:nvPicPr>
        <p:blipFill>
          <a:blip r:embed="rId1"/>
          <a:stretch/>
        </p:blipFill>
        <p:spPr>
          <a:xfrm>
            <a:off x="214200" y="1436760"/>
            <a:ext cx="6640560" cy="5011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4463640" y="78696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alibri"/>
              </a:rPr>
              <a:t>Coágulo de sangre</a:t>
            </a:r>
            <a:r>
              <a:rPr b="0" lang="he-IL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996240" y="2490840"/>
            <a:ext cx="200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¿Recuerdan la bella imagen   uniforme de  los glóbulos rojos que te mostré al inici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Bien, aquí vemos como lucen esas células cuando están atrapadas en la red pegaj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de un Coágulo de sang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 célula blanca al medio es un leucocito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9"/>
          <p:cNvPicPr/>
          <p:nvPr/>
        </p:nvPicPr>
        <p:blipFill>
          <a:blip r:embed="rId1"/>
          <a:stretch/>
        </p:blipFill>
        <p:spPr>
          <a:xfrm>
            <a:off x="214200" y="1338120"/>
            <a:ext cx="6939000" cy="5110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290120" y="6440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Alveolos en el pul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275600" y="2980080"/>
            <a:ext cx="1725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 imagen es la de la superficie interior de tu pulm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s cavidades huecas son los Alveol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qui es donde se produce el intercambio de gases con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10"/>
          <p:cNvPicPr/>
          <p:nvPr/>
        </p:nvPicPr>
        <p:blipFill>
          <a:blip r:embed="rId1"/>
          <a:srcRect l="0" t="328" r="0" b="0"/>
          <a:stretch/>
        </p:blipFill>
        <p:spPr>
          <a:xfrm>
            <a:off x="214200" y="1131840"/>
            <a:ext cx="6670800" cy="5316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455200" y="50112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alibri"/>
              </a:rPr>
              <a:t>Células cancerígenas en el pul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020000" y="4449240"/>
            <a:ext cx="1838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quí vemos las células del pulmón, encorvadas, y descolori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n contraste con los alveolos sanos de la foto an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1"/>
          <p:cNvPicPr/>
          <p:nvPr/>
        </p:nvPicPr>
        <p:blipFill>
          <a:blip r:embed="rId1"/>
          <a:srcRect l="0" t="0" r="0" b="314"/>
          <a:stretch/>
        </p:blipFill>
        <p:spPr>
          <a:xfrm>
            <a:off x="2165400" y="1023840"/>
            <a:ext cx="6745320" cy="5424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2085480" y="358200"/>
            <a:ext cx="24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Intestino delgado</a:t>
            </a:r>
            <a:r>
              <a:rPr b="0" lang="he-IL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14200" y="3470400"/>
            <a:ext cx="1798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e es el intestino delg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quí se produce la absorción del al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l mirar con atención se ve algo de comida atrapada en alguna de estas ca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3"/>
          <p:cNvPicPr/>
          <p:nvPr/>
        </p:nvPicPr>
        <p:blipFill>
          <a:blip r:embed="rId1"/>
          <a:srcRect l="0" t="331" r="0" b="795"/>
          <a:stretch/>
        </p:blipFill>
        <p:spPr>
          <a:xfrm>
            <a:off x="214200" y="1074600"/>
            <a:ext cx="7607520" cy="5373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53080" y="42984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Ovulo humano con células “coron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832440" y="2451240"/>
            <a:ext cx="2311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 imagen de color púrpura muestra un  óvulo humano sostenido en un alfil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l huevo está cubierto con una zona llamada pellicuda , una glucoproteína que protege el huevo, pero también ayuda a atrapar al espermatozo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Se aprecian dos células de la corona adheridas a la zona “pellicuda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14"/>
          <p:cNvPicPr/>
          <p:nvPr/>
        </p:nvPicPr>
        <p:blipFill>
          <a:blip r:embed="rId1"/>
          <a:stretch/>
        </p:blipFill>
        <p:spPr>
          <a:xfrm>
            <a:off x="214200" y="1171440"/>
            <a:ext cx="6305760" cy="5276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21040" y="50112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alibri"/>
              </a:rPr>
              <a:t>Esperma sobre la superficie de un óvul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734160" y="5150160"/>
            <a:ext cx="183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 foto es un </a:t>
            </a:r>
            <a:r>
              <a:rPr b="0" i="1" lang="es-MX" sz="1600" spc="-1" strike="noStrike">
                <a:solidFill>
                  <a:srgbClr val="ffff99"/>
                </a:solidFill>
                <a:latin typeface="Calibri"/>
              </a:rPr>
              <a:t>close up </a:t>
            </a: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de varios espermatozoides tratando de fertilizar un Ov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15"/>
          <p:cNvPicPr/>
          <p:nvPr/>
        </p:nvPicPr>
        <p:blipFill>
          <a:blip r:embed="rId1"/>
          <a:srcRect l="3935" t="361" r="7562" b="0"/>
          <a:stretch/>
        </p:blipFill>
        <p:spPr>
          <a:xfrm>
            <a:off x="214200" y="1474920"/>
            <a:ext cx="6429600" cy="4973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68120" y="786960"/>
            <a:ext cx="37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Embrión humano y esperma</a:t>
            </a:r>
            <a:r>
              <a:rPr b="0" lang="he-IL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773760" y="1030320"/>
            <a:ext cx="2156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s imágenes se parecen al mundo en guerra,  pero en realidad se trata de cinco días después de la fertilización de un huevo, con algunas células de esperma todavía alrede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l embrión y los núcleos de las células de espermatozoides se tiñen de morado, mientras que las colas de los espermatozoides son de color ver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s áreas azules son uniones, que forman las conexiones entre las célu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2"/>
          <p:cNvPicPr/>
          <p:nvPr/>
        </p:nvPicPr>
        <p:blipFill>
          <a:blip r:embed="rId1"/>
          <a:stretch/>
        </p:blipFill>
        <p:spPr>
          <a:xfrm>
            <a:off x="960480" y="976320"/>
            <a:ext cx="7224840" cy="4905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407040" y="2869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Embrión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73120" y="6061320"/>
            <a:ext cx="799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 imagen muestra un embrión de 6 días de e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sí comienza la vida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Picture1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619280" y="198900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tars2"/>
          <p:cNvPicPr/>
          <p:nvPr/>
        </p:nvPicPr>
        <p:blipFill>
          <a:blip r:embed="rId2"/>
          <a:stretch/>
        </p:blipFill>
        <p:spPr>
          <a:xfrm>
            <a:off x="1785960" y="4800600"/>
            <a:ext cx="5572080" cy="485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0"/>
          <p:cNvSpPr txBox="1"/>
          <p:nvPr/>
        </p:nvSpPr>
        <p:spPr>
          <a:xfrm>
            <a:off x="3384720" y="2754360"/>
            <a:ext cx="2374560" cy="13492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9d6c3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 i n</a:t>
            </a:r>
            <a:endParaRPr b="0" lang="en-US" sz="3200" spc="1" strike="noStrike">
              <a:ln w="1908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9d6c3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766800" y="2254320"/>
            <a:ext cx="7805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99"/>
                </a:solidFill>
                <a:latin typeface="Calibri"/>
              </a:rPr>
              <a:t>Bajo El Microscop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Utilizando un microscopio pudieron obtenerse 15 sorprendentes fotografías del cuerpo h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El equipo utilizado fue un microscopio electrónico de barrido, con el cual fue posible fotografiar elementos cuyo tamaño oscila entre 1 y 5 nanómetros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"/>
          <p:cNvPicPr/>
          <p:nvPr/>
        </p:nvPicPr>
        <p:blipFill>
          <a:blip r:embed="rId1"/>
          <a:stretch/>
        </p:blipFill>
        <p:spPr>
          <a:xfrm>
            <a:off x="2395440" y="1015920"/>
            <a:ext cx="6442200" cy="4341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2296440" y="42876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Células Rojas De La 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42920" y="1663920"/>
            <a:ext cx="21495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o que vemos aquí parecen caramelos  de  can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n  realidad son las  células rojas de la sangre human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células  o glóbulos roj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Son células cóncavas por ambos lados, las cuales  tienen la tarea de llevar el oxígeno a nuestro cuerp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902640" y="4287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lóbulos Ro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57120" y="545976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s mujeres tienen unos 4-5 millones de glóbulos rojos en cada milímetro cúbico de sangre y los hombres cerca de 5-6 mill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s personas que viven en altitudes elevadas tienen más glóbulos rojos debido al bajo nivel de oxígeno en su  ento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"/>
          <p:cNvPicPr/>
          <p:nvPr/>
        </p:nvPicPr>
        <p:blipFill>
          <a:blip r:embed="rId1"/>
          <a:srcRect l="236" t="0" r="0" b="0"/>
          <a:stretch/>
        </p:blipFill>
        <p:spPr>
          <a:xfrm>
            <a:off x="214200" y="1033560"/>
            <a:ext cx="8096400" cy="4790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563400" y="5989680"/>
            <a:ext cx="786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l cabello requiere la aplicación frecuente de Shampoo y Acondicionador que lo estabilice, evitando así la resequedad y fractura del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33680" y="358200"/>
            <a:ext cx="58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alibri"/>
              </a:rPr>
              <a:t>Extremo o punta de un cabell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3"/>
          <p:cNvPicPr/>
          <p:nvPr/>
        </p:nvPicPr>
        <p:blipFill>
          <a:blip r:embed="rId1"/>
          <a:stretch/>
        </p:blipFill>
        <p:spPr>
          <a:xfrm>
            <a:off x="2459160" y="1214280"/>
            <a:ext cx="6451560" cy="5234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42920" y="297720"/>
            <a:ext cx="22446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s son las Neuronas (células nerviosas) de Purkin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De los 100 millones de células nerviosas o neuronas en nuestro cerebro, las más grandes son las Neuronas Purki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llas son responsables de la coordinación motriz, desde la corteza  cereb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 exposición a toxinas tales como el alcohol y el litio o enfermedades auto inmunes, mutaciones genéticas incluyendo el autismo y otros males, afectan negativamente a estas células y su funcion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67440" y="5716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Neuronas de Purki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4"/>
          <p:cNvPicPr/>
          <p:nvPr/>
        </p:nvPicPr>
        <p:blipFill>
          <a:blip r:embed="rId1"/>
          <a:stretch/>
        </p:blipFill>
        <p:spPr>
          <a:xfrm>
            <a:off x="214200" y="1538280"/>
            <a:ext cx="6142320" cy="4910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500880" y="2980080"/>
            <a:ext cx="2286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o que vemos aquí y que luce como un grupo de hisopos de algodón, es una fotografía muy ampliada de cabello humano en el interior del oí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s células detectan los movimientos mecánicos que se producen como respuesta a las vibraciones del son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794320" y="85716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Células de cabello en el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5"/>
          <p:cNvPicPr/>
          <p:nvPr/>
        </p:nvPicPr>
        <p:blipFill>
          <a:blip r:embed="rId1"/>
          <a:srcRect l="0" t="222" r="178" b="888"/>
          <a:stretch/>
        </p:blipFill>
        <p:spPr>
          <a:xfrm>
            <a:off x="214200" y="1638360"/>
            <a:ext cx="6046920" cy="4809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6394320" y="2735640"/>
            <a:ext cx="2535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n esta imagen se muestran los vasos sanguíneos retinales que salen del disco negro óp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l disco óptico es un punto ciego porque no se encuentran presentes células  receptoras en 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área de la ret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Aquí el nervio óptico y los vasos sanguíneos retinales salen de la parte trasera  del o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20400" y="1000080"/>
            <a:ext cx="60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alibri"/>
              </a:rPr>
              <a:t>Vasos sanguíneos que surgen del nervio óp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304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214200" y="1001880"/>
            <a:ext cx="6397560" cy="5446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6721560" y="2980080"/>
            <a:ext cx="2351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ta foto muestra una zona coloreada que constituye una papila gustativa presente en la len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La lengua humana posee unas 10.000 papilas gustativas, que son las que detectan sabores salados, dulce, amargo, temperatura y ciertas peculiaridades de los sabores.</a:t>
            </a:r>
            <a:r>
              <a:rPr b="0" lang="he-IL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357200" y="357120"/>
            <a:ext cx="52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Papila gustativa en la 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54516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7"/>
          <p:cNvPicPr/>
          <p:nvPr/>
        </p:nvPicPr>
        <p:blipFill>
          <a:blip r:embed="rId1"/>
          <a:srcRect l="509" t="0" r="0" b="208"/>
          <a:stretch/>
        </p:blipFill>
        <p:spPr>
          <a:xfrm>
            <a:off x="2225520" y="1166760"/>
            <a:ext cx="6685200" cy="5281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42920" y="2948400"/>
            <a:ext cx="19558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n necesario cepillarse los dientes con frecuencia, para combatir la formación de e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Pla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alibri"/>
              </a:rPr>
              <a:t>Es una “sopa" de bacterias., que llega a parecer una estructura sumamente compleja y resistent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146680" y="50004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Placa 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0:36:00Z</dcterms:created>
  <dc:creator>Carlos Rangel</dc:creator>
  <dc:description/>
  <dc:language>en-US</dc:language>
  <cp:lastModifiedBy>Carlos Rangel</cp:lastModifiedBy>
  <dcterms:modified xsi:type="dcterms:W3CDTF">2010-05-07T04:45:51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