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drumroll.wav" ContentType="audio/x-wav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C86-449F-4566-B30A-95D9FFAD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D7F-8DBD-43CA-BE77-73F9A5C4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E6A-119B-4CC3-88ED-FF910E40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200-8C98-4433-A5C9-338D51B6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8C4-2051-42DC-987F-B6F16029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B64-A507-476F-9AAC-656B2961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3FE-A329-4C94-92EF-AEA3B89C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7BB-7D74-4309-A5A2-74531464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9DB-47DB-491E-84D7-4C684457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567-23A0-465D-AEAF-22017506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ABF-50D4-4C12-88F7-4F47599D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88E-056B-4811-9ED6-F66DDCD5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D79D-9C16-4D20-8531-199D1A2ED83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cintuyy@redpositiva.com.ar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cint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br>
              <a:rPr sz="4000"/>
            </a:br>
            <a:r>
              <a:rPr b="1" lang="es-ES" sz="4000" spc="-1" strike="noStrike" u="sng">
                <a:solidFill>
                  <a:srgbClr val="ffffff"/>
                </a:solidFill>
                <a:uFillTx/>
                <a:latin typeface="Calibri"/>
              </a:rPr>
              <a:t>Modo 1  </a:t>
            </a: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: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POR INTERVAL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FUNCIONAMIENTO ALTERNADO DE MAGNETOS E I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ZONAS DE ESTIMULO CONCENTRICA. FORTALECIMIENTO MUSCULAR Y FIBRI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CORRIENTE CIRCUNDANTE SIMILAR A LA RUSA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ONDA DE FRECUENCIA PUNZANTE, SIMILAR A ELECTROACUPUNTU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ONDAS RELAJANTES, BENEFICIA ZONAS  MUSCULARES CONGESTIONADAS O CON D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Modo 2: </a:t>
            </a: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DIGITOPUNTURA</a:t>
            </a: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ONDAS DE CACHETEO Y RODADURA. SIMILAR AL MASAJE CIENTÍFICO TAILANDÉ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Modo 3: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 MASAJE TAILAND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SE TRATA DE UNA ONDA ESCALAR  ( TIPO BOOMERANG = PENETRA REMUEVE Y REBOTA 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AMASAMIENTO CIRCUNDANT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  <a:ea typeface="宋体"/>
              </a:rPr>
              <a:t>MOVILIZA LAS GRASAS Y ADIPOSIDAD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Modo 4 :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 MARTILLAJE  O GOLPET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FRICCIÓN DE ONDAS ESCALARE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ONDAS DE DOS TIPOS: CONCAVA Y CONVEX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FRICCIONA Y DESGASTA LA ADIPOSIDA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REAFIRMA</a:t>
            </a: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ff"/>
                </a:solidFill>
                <a:uFillTx/>
                <a:latin typeface="Calibri"/>
              </a:rPr>
              <a:t>MODO 5</a:t>
            </a: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 :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TONIFICAD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VIBRACIÓN ESTIMULANTE SECUEN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APUNTALA, VIBRA Y CAMBIA LA POLARIZ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Normaliza el funcionamiento de los órganos inter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MODO 6</a:t>
            </a: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 :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 POR SECTORES O POR PUNTAD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70828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MBINA TODAS LAS ONDAS ANTERI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ACTIVA LA CIRCULACIÓN SANGUÍN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MAXIMO DE FRECUENCIA DE OND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lang="es-ES" sz="4000" spc="-1" strike="noStrike" u="sng">
                <a:solidFill>
                  <a:srgbClr val="ffffff"/>
                </a:solidFill>
                <a:uFillTx/>
                <a:latin typeface="Calibri"/>
              </a:rPr>
              <a:t>MODO 7: 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MODO GLOBAL O MASAJE TOT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alud Na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17bbfd"/>
                </a:solidFill>
                <a:uFillTx/>
                <a:latin typeface="Calibri"/>
                <a:hlinkClick r:id="rId1"/>
              </a:rPr>
              <a:t>cintuyy@redpositiva.com.ar</a:t>
            </a:r>
            <a:br>
              <a:rPr sz="3200"/>
            </a:br>
            <a:r>
              <a:rPr b="0" lang="es-ES" sz="3200" spc="-1" strike="noStrike" u="sng">
                <a:solidFill>
                  <a:srgbClr val="17bbfd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eatonal Suipacha 370 – 1º B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uenos Aires – Argentin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media cuadra del Obelis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5-3494-14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052280"/>
            <a:ext cx="822960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Tres principales causas de muerte: exceso de peso,  stress y cigarrillo ( cerebrales y cardíaco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Tecnología de avanzada aplicada a la enfermedad del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siglo XXI (40 % población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50 años de experiencia mundial aplicados en 1 solo producto, el nuest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Beneficios estéticos y terapéuticos para toda la famil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3 diferentes tipos de energía naturales que benefician el cuerpo y la salu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La intensidad de energía adecuada para cada zona del cuerp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Computadora ajustable a la medida de su cuerpo y sus necesida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  <a:ea typeface="宋体"/>
              </a:rPr>
              <a:t>¿</a:t>
            </a:r>
            <a:r>
              <a:rPr b="1" lang="es-ES" sz="4000" spc="-1" strike="noStrike">
                <a:solidFill>
                  <a:srgbClr val="ffffff"/>
                </a:solidFill>
                <a:latin typeface="Calibri"/>
                <a:ea typeface="宋体"/>
              </a:rPr>
              <a:t> Por qu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  <a:ea typeface="宋体"/>
              </a:rPr>
              <a:t>é</a:t>
            </a:r>
            <a:r>
              <a:rPr b="1" lang="es-ES" sz="4000" spc="-1" strike="noStrike">
                <a:solidFill>
                  <a:srgbClr val="ffffff"/>
                </a:solidFill>
                <a:latin typeface="Calibri"/>
                <a:ea typeface="宋体"/>
              </a:rPr>
              <a:t> es el mejor producto del mercad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3 Rectángulo"/>
          <p:cNvSpPr/>
          <p:nvPr/>
        </p:nvSpPr>
        <p:spPr>
          <a:xfrm>
            <a:off x="500040" y="203976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Las mujeres y los hombres de todo el mundo invierten m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s dinero en est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é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tica por eso son m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s hermosos hoy en d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í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Este producto lo ayuda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 a embellecer su cuerpo y hacerlo m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s salu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La ciencia m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é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dica ha comprobado que el sobrepeso es perjudicial para la salud, las expectativas de una larga vida, para trabajar o para estudi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Tambi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é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n puede derivar en enfermedades tales como hipertensi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ó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n, alto contenido de grasa en la sangre, alteraci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ó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n de ritmo card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í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ac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Este producto disuelve y transforma el excedente de grasa en peque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宋体"/>
              </a:rPr>
              <a:t>ñ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as part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宋体"/>
              </a:rPr>
              <a:t>í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culas y las elimina por sus canales natu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El 80% del excedente de grasa se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 quemado con su uso contin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Ataca zonas adiposas en dos frentes y con 4 tipos de energ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í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as diferentes, todas natu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Es el dispositivo ideal para las personas con sobrep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Muchos m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é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todos ofrecen una mala alternativa que solo llevan a c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í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rculos de adelgazar-volver a engordar-adelgazar-volver a engordar y a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í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Nuestro producto es ideal en la disminuci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ó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n de grasa localizada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Remueve adiposidad localizada excedente de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cualquier lugar del cuerp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Beneficia zonas con estrías, recuperando la firmeza de la piel. Tonifica el bust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Elimina el cansancio y stress. Mejora la depresión.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Elimina celulitis y tonific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Descontractura cualquier zona del cuerp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Beneficia funcionamiento orgánico y su metabolismo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tot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Armoniza y equilibra todos los canales meridianos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Beneficia circulación sanguínea y linfátic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5 Rectángulo"/>
          <p:cNvSpPr/>
          <p:nvPr/>
        </p:nvSpPr>
        <p:spPr>
          <a:xfrm>
            <a:off x="1357200" y="5000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Beneficios Princip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59984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nergía por imanes ( imano terapia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nergía por magnetos ( magnetoterapia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nergía por calor ( térmica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3 fuentes de energía natural que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benefician la salu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Calibri"/>
              </a:rPr>
              <a:t>FUNCIONA SIN ENCHUFAR EL APARAT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PRODUCE POLARIZACION EN LAS CELULAS ( MINERALES EN SANGRE 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ESTIMULA Y ALINEA CELULAS DESORDENADAS,  ATROFIADAS Y ENGORDADA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REPARACION Y RESTAURACI</a:t>
            </a:r>
            <a:r>
              <a:rPr b="1" lang="es-ES" sz="1500" spc="-1" strike="noStrike">
                <a:solidFill>
                  <a:srgbClr val="ffffff"/>
                </a:solidFill>
                <a:latin typeface="Calibri"/>
              </a:rPr>
              <a:t>Ó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N DE TEJIDOS. EJEMPLO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EN LA  PIEL: ESTR</a:t>
            </a:r>
            <a:r>
              <a:rPr b="1" lang="es-ES" sz="1500" spc="-1" strike="noStrike">
                <a:solidFill>
                  <a:srgbClr val="ffffff"/>
                </a:solidFill>
                <a:latin typeface="Calibri"/>
              </a:rPr>
              <a:t>Í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AS, FLACCIDEZ, TONIFICACI</a:t>
            </a:r>
            <a:r>
              <a:rPr b="1" lang="es-ES" sz="1500" spc="-1" strike="noStrike">
                <a:solidFill>
                  <a:srgbClr val="ffffff"/>
                </a:solidFill>
                <a:latin typeface="Calibri"/>
              </a:rPr>
              <a:t>Ó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N, ET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EN LOS HUESOS: QUEBRADURAS O FISURA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EN LOS </a:t>
            </a:r>
            <a:r>
              <a:rPr b="1" lang="es-ES" sz="1500" spc="-1" strike="noStrike">
                <a:solidFill>
                  <a:srgbClr val="ffffff"/>
                </a:solidFill>
                <a:latin typeface="Calibri"/>
              </a:rPr>
              <a:t>Ó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RGANOS: DISFUNCIONES HEPATICAS, RENALES, ET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EQUILIBRA ( PRINCIPIO DEL YING Y YANG 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SI EL EQUIPO ESTA CONECTADO SE TRANSFORMA EN UN CAMPO MAGNETIC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Energía por Ima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Energía por Magne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ESTIMULO VIBRATORIO ( HASTA 5.000 R.P.M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Moviliza los líquidos del cuerpo (7 CMT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GUA,  SANGRE Y LINFA ( LIQ DE DRENAJE )  ocupa el 90% de nuestro cuerp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Favorece el sistema energético y metabólico  que conforman la maquina hum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BENEFICIA LA CADENA: CELULA – TEJIDO – VISCERA 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- ORGAN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Moviliza la energía disponible  de nuestro sistema.  La relaja y la pote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Inducción celular de rotación  y frotación por estimulo  de ondas de frecuencia (50 HZ)  de ahí  el calor que se produce  = CALOR  Y ENERGIA (  la sed tiene su principio en esta combustión </a:t>
            </a:r>
            <a:r>
              <a:rPr b="1" lang="es-ES" sz="2000" spc="-1" strike="noStrike">
                <a:solidFill>
                  <a:srgbClr val="9c0042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57120" y="1571400"/>
            <a:ext cx="83296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c00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USA EL PRINCIPIO FISICO DE RADIACIÓN TERMIC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IMULA LAS ZONAS MAS SUPERFICIALES            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(HASTA 3 CMS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TACA Y REDUCE ADIPOSIDAD LOCALIZADA EN  TEJIDOS ( PANZA DE BEBEDOR, CELULITIS 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L CALOR PRODUCE DILATACION = APERTURA DE LOS POROS PERMEABILIZACIÓN CUTÁN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IMULA LAS GLANDULAS EXOCRINAS ( HACIA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ERA ), ESA MOVILIZACION  EXPULSA  LO  ESTANCAD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LA GRASA PROVOCA UNA SOBRECARGA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ARDIACA. LOS MIEMBROS INFERIORES SON  LOS MAS PERJUDIC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Energía por ca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STIMULACIÓN SANGUINEA Y LINFA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EMOSTRACIÓN DE LOS 7 CICLOS POSTERI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SE USA COMO PRE CALENTAMIENTO MUSCULAR O PRE LINFA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8 Modos de Uso</a:t>
            </a:r>
            <a:br>
              <a:rPr sz="4400"/>
            </a:b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Modo 0 </a:t>
            </a: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: POR  CICL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01:34:08Z</dcterms:created>
  <dc:creator>PC</dc:creator>
  <dc:description/>
  <dc:language>en-US</dc:language>
  <cp:lastModifiedBy>Francisco Checchi</cp:lastModifiedBy>
  <dcterms:modified xsi:type="dcterms:W3CDTF">2011-12-20T00:13:38Z</dcterms:modified>
  <cp:revision>56</cp:revision>
  <dc:subject/>
  <dc:title>Diapositiva 1</dc:title>
</cp:coreProperties>
</file>