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aganini%20-%20violin%20sonata%20no6%202.29.wav" ContentType="audio/x-wav"/>
  <Override PartName="/ppt/media/image6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901-3D84-422B-A30D-B07ED36D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36A-8903-4BA8-87E4-69C13643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4E9-B1D1-4A60-9A2D-228CF18A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261-2E60-4BB3-BA48-C7663F8E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12E-4123-4327-8379-A27FA3B4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A39-EFA2-4F16-9596-87BF4A3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942-D5DF-4790-A066-9E872395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9BE-57B8-47FC-A2C0-B4A992D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CA6-35EA-4D19-B9DD-DF5D73D2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BD8-BC11-44F0-8C77-FEC484F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EE8-1685-4E4F-99A2-7294A0D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A6D-1392-4E9C-B332-38E8AA6A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6BCE-8A8A-4078-8936-C0B3FA1BA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ganini%20-%20violin%20sonata%20no6%202.2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533520"/>
            <a:ext cx="6248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RA UNA VEZ un gran violinista llamado PAGAN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962520"/>
            <a:ext cx="312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lgunos decían que él era muy extr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590920"/>
            <a:ext cx="259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s, que era sobre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Paganini%20-%20violin%20sonata%20no6%202.2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30492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úblico parte del silencio para la euforia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la inercia para el deli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304920"/>
            <a:ext cx="3962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anini alcanza la gl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 nombre corre a través d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es apenas un violinista gen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648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el símbolo del profesional que continúa adelante frente a lo im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4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457200"/>
            <a:ext cx="746784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oral de la Histor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o no se el tipo de problemas que estás tenie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uede ser un problema personal, conyugal, famili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se lo que está afectando tu estima o tu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empeño profe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una cosa si 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odo está per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davía existe una cuerda y es 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que ejercerás tu ta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ndo con ella es que vibrar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4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6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1066680"/>
            <a:ext cx="677844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prende a aceptar que la vida siempre te dejará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última cuer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estés desanimado, nunca des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ún existirá la cuerda de la persistencia inteligente, del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“intentar una vez más"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l dar un paso más con un enfoque nue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spierta el Paganini que existe dentro de ti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 avanza para ven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ictoria es el arte de continuar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onde los otros resuelven pa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1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115920"/>
            <a:ext cx="7239240" cy="64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uando todo parece desmoronarse, bríndate una oportunidad y continúa hacia ade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ca la cuerda de la motivación y arráncale sonidos de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esultados positiv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antes pregúnt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al motivad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to es: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¿</a:t>
            </a: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ién motiva tu cerebro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ue motiva tu mano, que toca tu violí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 te frustres, no te desesperes, recuerda: aún existe la última cuer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cuerda del aprender de nuevo para deslumbrar y generar solu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00"/>
                            </p:stCondLst>
                            <p:childTnLst>
                              <p:par>
                                <p:cTn id="286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95280" y="685800"/>
            <a:ext cx="6858000" cy="62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unca la vida te romperá todas las cuer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 los resultados están mal, es tu oportunidad de tocar la última cuerda, la de la imaginación que reinventa el futuro con innovación contin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s siempre la cuerda olvidada que te dará el mayor resul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, si por acaso, estuvieras en el fondo del pozo, esta es tu oportunidad de tocar con la mejor cuerda del univer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eer en 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1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1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1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1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lang="pt-BR" sz="1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arcos García Gambo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"/>
                            </p:stCondLst>
                            <p:childTnLst>
                              <p:par>
                                <p:cTn id="297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562720" y="0"/>
            <a:ext cx="3581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notas mágicas que salían de su violín tenían un sonido diferente, por eso nadie quería perder la oportunidad de ver su espectá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33240" y="212760"/>
            <a:ext cx="71629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cierta noche, el palco de un auditorio repleto de admiradores estaba preparado para recibirlo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entró y fue aplaudida.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fue ovaci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as cuando la figura de Paganini surgió, triunfante, el público deli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37680" y="5018040"/>
            <a:ext cx="776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reves y semibreves, fusas y semifusas, corcheas y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emicorcheas parecen tener alas y volar con el toqu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sus dedos encan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609480"/>
            <a:ext cx="5029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coloca su violín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n el hombro y lo que se escucha es indescript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0"/>
            <a:ext cx="73915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e repente, un sonido extraño interrum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solaz de la pla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de las cuerdas del violín de Paganini se romp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0"/>
            <a:ext cx="2133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86200"/>
            <a:ext cx="2210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ra pa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562720"/>
            <a:ext cx="2743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público pa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133720"/>
            <a:ext cx="2819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no pa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4653000"/>
            <a:ext cx="4800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irando su partitura, continúa arrancando sonidos deliciosos de un violín con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9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900"/>
                            </p:stCondLst>
                            <p:childTnLst>
                              <p:par>
                                <p:cTn id="71" nodeType="afterEffect" fill="hold" presetClass="entr" presetID="23" presetSubtype="27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90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0" y="304920"/>
            <a:ext cx="43434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tes de que el público se serenara, 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o sonido perturbador derrumba la atención de los a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388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y la orquesta, exaltados, vuelven a to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819520"/>
            <a:ext cx="2667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tra cuerda del violín de Paganini se rom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590920"/>
            <a:ext cx="2209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paró nue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4114800"/>
            <a:ext cx="2514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 nuevamen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791320"/>
            <a:ext cx="3047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ganini no pa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30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4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si nada hubiese sucedido, él olvidó las dificuldades y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zó sacando sonidos de lo im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1337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aestro y la orquesta, impresionados volvieron a to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1911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o el público no podría imagina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que estaba por suce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880" y="6165720"/>
            <a:ext cx="716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as las personas, atónitas, exclamaron OHH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6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100"/>
                            </p:stCondLst>
                            <p:childTnLst>
                              <p:par>
                                <p:cTn id="130" nodeType="afterEffect" fill="hold" presetClass="entr" presetID="23" presetSubtype="28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52480" y="2286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Una tercera cuerda del violín de Paganini se rom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009880"/>
            <a:ext cx="3404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paraliz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pa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respiración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úblico se detu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4197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ero Paganini continu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51814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omo si fuese un contorsionista musical, arranca todos los sonidos de la única cuerda que sobrara de su violín destr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4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7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8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3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4648320"/>
            <a:ext cx="4648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inguna nota musical fue olvi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l maestro se a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orquesta se motiva.</a:t>
            </a:r>
            <a:r>
              <a:rPr b="0" lang="pt-BR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47:02Z</dcterms:created>
  <dc:creator>Mari Caruso Cunha</dc:creator>
  <dc:description/>
  <dc:language>en-US</dc:language>
  <cp:lastModifiedBy>Francisco Checchi</cp:lastModifiedBy>
  <dcterms:modified xsi:type="dcterms:W3CDTF">2011-10-14T17:29:42Z</dcterms:modified>
  <cp:revision>21</cp:revision>
  <dc:subject/>
  <dc:title>Apresentação do PowerPoint</dc:title>
</cp:coreProperties>
</file>