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691-2AFC-4DE2-9D4A-E910DC2A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3F9-8003-40B0-B4EA-A93EE21A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E31-BB81-4A3D-AEBA-B89D6AE8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F71-A5FD-4488-8CE3-E49BF3CA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CC1-3F99-4C22-8722-21F05BFD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079-42CF-4D2A-BFC6-78414E6D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C10-7662-4BD7-A093-D3577861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5F6-72E7-4E1C-A424-6C447043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44F-BEA0-4A75-B769-52BF59E6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662-804C-4827-87D7-099494AD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986-4210-45FF-A2A4-2688E10F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905-85D4-4148-9EB2-BB6F0390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D26B-E118-41D4-A573-C04C095D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5440" y="476280"/>
            <a:ext cx="43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vantGarde Md BT"/>
              </a:rPr>
              <a:t>COMPARTIENDO LA LUZ</a:t>
            </a:r>
            <a:r>
              <a:rPr b="0" lang="es-ES_tradnl" sz="28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125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vantGarde Md BT"/>
              </a:rPr>
              <a:t>Hu-Song, filosofo de Oriente, contó a sus discípulos la siguiente histo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vantGarde Md BT"/>
              </a:rPr>
              <a:t>Varios hombres habían quedado encerrados por error en una oscura caverna donde no podían ver casi nada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4290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vantGarde Md BT"/>
              </a:rPr>
              <a:t>Pasó algún tiempo, y uno de ellos logró encender una pequeña tea. Pero la luz que daba era tan escasa que aun así no se podía ver nada.</a:t>
            </a:r>
            <a:r>
              <a:rPr b="0" lang="es-ES" sz="2400" spc="-1" strike="noStrike">
                <a:solidFill>
                  <a:srgbClr val="ffffff"/>
                </a:solidFill>
                <a:latin typeface="AvantGarde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911160" cy="2665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8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34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812000" y="1413000"/>
            <a:ext cx="78444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93160" y="3573360"/>
            <a:ext cx="79992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340000" y="4797360"/>
            <a:ext cx="799920" cy="158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2360" y="1125360"/>
            <a:ext cx="53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vantGarde Md BT"/>
              </a:rPr>
              <a:t>Al hombre, se le ocurrió que con su luz podía ayudar a que cada uno de los demás prendieran su propia tea y así compartiendo la llama con todos la caverna se iluminó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085160" y="4292640"/>
            <a:ext cx="799920" cy="158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258920" y="4437000"/>
            <a:ext cx="799920" cy="1581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799920" cy="158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4788000" y="5276880"/>
            <a:ext cx="799920" cy="158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940360" y="4869000"/>
            <a:ext cx="800280" cy="158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492360" y="5160960"/>
            <a:ext cx="8002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404640"/>
            <a:ext cx="68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vantGarde Md BT"/>
              </a:rPr>
              <a:t>Uno de los discípulos preguntó a Hu-So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vantGarde Md BT"/>
              </a:rPr>
              <a:t>Qué nos enseña, maestro, este rela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vantGarde Md BT"/>
              </a:rPr>
              <a:t>Y Hu-Song contestó : Nos enseña que nuestra luz sigue siendo oscuridad si no la compartimos con el prójimo. Y también nos dice que el compartir nuestra luz no la desvanece, sino que por el contrario la hace crec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vantGarde Md BT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vantGarde Md BT"/>
              </a:rPr>
              <a:t>Compartir nos enriquece en lugar de hacernos mas pobr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3890880"/>
            <a:ext cx="1152360" cy="306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8360" y="3933720"/>
            <a:ext cx="7556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409080" cy="56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2205000"/>
            <a:ext cx="5761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AvantGarde Md BT"/>
              </a:rPr>
              <a:t>Que Dios nos dé siempre la luz para iluminar a todos los que pasen por nuestro la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AvantGarde Md BT"/>
              </a:rPr>
              <a:t>Si una vela enciende a otra,  y así pueden llegan a brillar miles de ell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AvantGarde Md BT"/>
              </a:rPr>
              <a:t>De igual modo si iluminas tu corazón con amor,  puede que ilumines a otro corazón,  así se pueden llegar iluminar a miles de corazones con am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00"/>
                </a:solidFill>
                <a:latin typeface="AvantGarde Md BT"/>
              </a:rPr>
              <a:t>Procura que tu corzazón palpite junto a otros coraz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06920" y="633888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AvantGarde Md BT"/>
              </a:rPr>
              <a:t>C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4:55:29Z</dcterms:created>
  <dc:creator>Carina</dc:creator>
  <dc:description/>
  <dc:language>en-US</dc:language>
  <cp:lastModifiedBy>Carina</cp:lastModifiedBy>
  <dcterms:modified xsi:type="dcterms:W3CDTF">2004-09-27T16:03:32Z</dcterms:modified>
  <cp:revision>3</cp:revision>
  <dc:subject/>
  <dc:title>COMPARTIENDO LUZ</dc:title>
</cp:coreProperties>
</file>