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Moonlight%20Sonata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4383-D649-42CD-B1E8-01D029DC3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C834-BC1E-4B2A-8068-60C2C8FC6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005-7C46-4524-9366-028612D9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C1E-383B-4603-BDB3-FFD8BB05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DA163-C62B-429F-9DFA-2C0E1A3E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BBD2A-4289-4FD6-8D1D-A4571E93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1025D-A043-4FE3-92B4-257DD9FE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9CCD5-F71A-402A-B9DE-9E0FE92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3FA2-AE99-454D-9573-DD836EE7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E5EBE-ECAC-4831-B192-24DCAFD1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A11A8-C0EA-4CCE-95BB-AB7129D2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8058F-B459-488C-B26D-7E07D931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C0BA5-8C5C-41AA-BE08-02CC4A22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11A16-7483-4C79-B608-85A7E0EF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2C5-93C7-431A-BE2C-0BCFEAB9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B0D9B-4AA7-47D0-B3E2-65E6017E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E712C-73B9-4077-9353-57A83280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5F5E6-4AF0-4F43-A046-049BAD9D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45D17-4AAA-4716-AC90-A51BCDA9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0C30F-A810-4DBB-B94B-39920A76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A8CE8-4941-4E66-91A1-360410B9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9622C-2CAF-4FED-A030-B7E2941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AEB96-6CA1-4ABB-8EAC-532CDA9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E31DF-BE69-4E40-894A-53713534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4C8DA-2C8D-434D-B169-C3EA15E2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C24-153A-443D-A23F-A9925142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CFF82-B473-4394-845D-E589899D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BB4EF-79E1-4C06-8E94-24466610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F96F7-E891-4C61-A0CB-967BD92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45458-0CB5-429F-B940-9B86C9C1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C09E1-A224-4B81-88AA-AA0AD3E3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BAE52-BE6F-40CA-A2EE-67F34028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05089-76D8-4D32-8407-04F6A5AC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B2E39-A524-45F8-8F5F-996D4BC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0E0DF-FC0B-4CCC-846B-620AFBC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14634-2948-4E22-AA6D-80DBB92B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1D8-5DAA-4FF9-AFEE-895A69D4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61D8B-CBB5-4F5D-B273-B555B419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57965-58AF-4EFC-83D6-705FEDFC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2362-E6B4-469B-A5D0-88254BFD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A24D7-BFDC-4105-B72F-BF706817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CC46E-7AC8-4AC3-BAF2-093BA66B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74076-B04D-4B4C-A755-C4BC801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949B1-E469-4363-A2F9-92B8D71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2091E-17E7-48A6-8E1F-35792741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227F0-6513-4470-B263-BBEA7B38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2D3C5-BD7F-46D9-B4F8-FA4D4128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6529-24C4-4005-9908-42F31F9B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D573B-79BC-4573-B6BF-5929DF4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CD3BB-9B9D-4B62-BA90-2131646D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10851-F3B8-466D-A878-8A28378F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89189-DA64-4704-9078-46417A62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A27F3-D8AA-4B14-AAD6-A2CCE716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D83F-EB6D-4EEA-9C3D-23E1AE1C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DD16-4945-4B5A-9EA9-C18787A3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AE54-6C89-4377-BA5B-D774DC0E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AD18-7EFE-476C-9E34-A22DF92D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BC42-E4CF-4549-80F4-104E64D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66A-9B05-490E-8225-FE1CD750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E32D-E28B-4D6F-9642-3043D46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90AE-B257-4ED8-A7C3-B6C16C1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17CB-0F90-497D-8D28-416F72A0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BC62-8962-4565-A9F0-CB02FB92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F141-31F5-459C-9243-91757C5D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ED35-8A88-4230-B178-4B7622BC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AF3E-D47B-4363-87BF-31432DD3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8C43-09B8-4F2E-AC04-94F6B2D1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99B6-1241-4A32-A080-5316F00B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CE10-56E4-405F-96C3-B0008C7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2F0-A6F1-483A-8259-72FF269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DD0B-3178-4B68-8FC9-03AD79BA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C78DC-864F-40F0-B76F-85C1615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F93D-ECD7-48BA-828B-FDF9AD46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D05B-9E73-4E38-997D-5CE6722D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A0AD-AE23-467A-8E42-ADAEAB15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E6D9-DDD2-41CA-B165-E41F763A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AB67-853F-4164-A80E-D17ADBF2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C5D4-D00C-415C-AD85-DCE11488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935A-2708-46E5-A075-C8C8089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0B27-7B58-4C53-9901-8A07426F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C9F-CD77-424F-B30B-2C262A2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67AA-8A83-43B4-801D-75DC0197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589A-E777-47E5-8436-86E6FFE8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C3FD-9FB2-4EF6-BFA7-8C4C001A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4582-0CCD-4F5B-BE08-B3A61E8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05E8-648C-4554-93F5-90E6ECE3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525E-2EF9-4FDE-8332-E89B2241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9414-840B-4F39-BB92-4B5C258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0E4FD-0F53-4220-9A92-BB347144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EB8C4-67F9-46C3-9F21-FCDD8A5F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2F9D7-7E33-4120-ADF7-7053E430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E0F-9FAE-48BB-A0C9-A82B55C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A4409-DB06-4A6E-B00A-47EA1019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32E9-77F9-48CA-B41F-B1C420B3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BE5E-CDFD-48DE-82DC-174C6327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AADF4-DD99-45EC-82CC-4ECDC1C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52520-1B11-4737-812D-FD74723B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B3C7-6791-4F92-A472-8AFE723C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BD39-EAEF-4608-B68D-14EE1E3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258E-7DD7-4FE0-B438-6EC7603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1AD3-69ED-4335-8D71-979D3D9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605F-E5B0-47BA-A00A-1B93E936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466-30DB-4EAA-B756-69ADD1A8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F95DB-594D-40BA-AE05-3BAFC52D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32DC-7408-4D37-BFA9-6E61D5C0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8FB2-0A0E-4EC9-8094-5E73CEE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CCC54-4122-4499-B90B-F9EB4C65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97124-B3AD-4760-AAE1-D3C9E4A8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21090-B048-4F54-81EA-7921CCD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51238-32F2-4A69-9062-97549C6B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57FA-504E-417C-A56F-236A44A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BC5A-1193-4CE1-BED2-61BAA8B7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2801-3BDD-4883-B5B8-FDAE9456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651-D831-43FC-B02C-98E6BE80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54E9-BF7D-4CED-8A80-C62E8FC3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9CEB-67D0-4C9A-A5E2-3A8C20BE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6057-98A6-4668-8A98-86F28956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CF906-CD19-451D-B4BF-62D4AFE2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79176-FAC8-4A6A-BA46-1FA06EB7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3EAD-8100-4B6C-8269-A836A9F5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70FF4-911D-4087-82EF-B537C065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632D5-90EC-42C3-BF1F-4D362EDF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00B7-599F-4F0E-B062-2AF8E181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BC763-DE67-4ADD-9E90-DFDD012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506-606F-4371-9259-48921FC5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20BDB-3163-4D94-B1A3-6962BBC1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DBE8-72AF-42D8-8195-40F30B51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FCFA5-D581-4362-8126-123DACBC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F3B3-1D48-49C8-AFA8-BB83CA6B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5F8BB-64F1-4500-A7CA-5A0624D1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12930-1CC4-457F-98F2-9AB606D5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6800D-D896-4B8D-94CE-60BC3FD1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AE8FA-9DAB-40E5-AED5-324D3B16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6DFE2-1A25-46C8-B9B3-E7D1ED0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0EDF-AB7F-49D1-BA62-A35ABD4E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07C-CF07-496E-9307-291B9C6E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0BBC5-1594-445C-8EC5-B8BA0960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6887F-91D0-4473-9CEA-3120C68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3709-E654-4372-BAD2-38F2F3A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1CBF5-B8E7-48A6-B1BC-9AC4EEB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EBCCD-59BE-40C8-BC5E-437CC10A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1E0F9-9924-4E5C-B36A-48D1F3D5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47660-4126-452B-8241-56304907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1724D-BE2B-402D-A079-9A218D03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EEC28-4DE5-4144-8DCF-606EA638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A372B-1A95-4D2E-BDD9-868D577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D096-9642-4FB8-910C-957DEECEE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783F-219A-4B1B-B781-F54A025DD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DE0C-9D37-451D-9E8C-4181DEBD4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CBEF-53AD-4239-9C54-0B8FC0AC3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5528-7882-40D4-ADC8-4144B6E95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2097-0EDF-4F6D-BDA9-6911AB412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2430-D22F-4EE9-AF7F-79E241970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BAAB-7F3D-45B3-8C1E-5A145A829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4DE-EFBE-44D1-812B-11DD2EEDE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3F8C-C7F1-42BF-AD51-CC8CABC2F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8ACF-2CEC-4ACE-B828-1D7D19AAA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FA80-5D83-473B-B244-7907CA8D9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nlight%20Sonata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5"/>
          <p:cNvSpPr/>
          <p:nvPr/>
        </p:nvSpPr>
        <p:spPr>
          <a:xfrm>
            <a:off x="0" y="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Papyrus"/>
              </a:rPr>
              <a:t>EL   VALIOSO   TIEMPO</a:t>
            </a:r>
            <a:r>
              <a:rPr b="1" lang="hu-HU" sz="3200" spc="-1" strike="noStrike">
                <a:solidFill>
                  <a:srgbClr val="ffffff"/>
                </a:solidFill>
                <a:latin typeface="Papyru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pyrus"/>
              </a:rPr>
              <a:t>DE  LOS   MAD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884520" y="6237360"/>
            <a:ext cx="74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Papyrus"/>
              </a:rPr>
              <a:t>Beethoven:  Mondscheinsonat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hu-HU" sz="20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pyrus"/>
              </a:rPr>
              <a:t>Sonata de la Luz de la L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95280" y="2673360"/>
            <a:ext cx="30592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pyrus"/>
              </a:rPr>
              <a:t>Mensaj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Papyrus"/>
              </a:rPr>
              <a:t>Mario And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pyrus"/>
              </a:rPr>
              <a:t>(Poeta, novelista, ensayista  brasileñ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Moonlight%20Sona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Moon on Costa Brava by Oscar Vall Gallen"/>
          <p:cNvPicPr/>
          <p:nvPr/>
        </p:nvPicPr>
        <p:blipFill>
          <a:blip r:embed="rId1"/>
          <a:stretch/>
        </p:blipFill>
        <p:spPr>
          <a:xfrm>
            <a:off x="684360" y="907920"/>
            <a:ext cx="7810200" cy="52038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6"/>
          <p:cNvSpPr/>
          <p:nvPr/>
        </p:nvSpPr>
        <p:spPr>
          <a:xfrm>
            <a:off x="1187280" y="4869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Quiero la esencia,  porque mi alma ahora tiene prisa…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feel so tiny when the Moon look at me"/>
          <p:cNvPicPr/>
          <p:nvPr/>
        </p:nvPicPr>
        <p:blipFill>
          <a:blip r:embed="rId1"/>
          <a:stretch/>
        </p:blipFill>
        <p:spPr>
          <a:xfrm>
            <a:off x="539640" y="404640"/>
            <a:ext cx="8048880" cy="60390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6"/>
          <p:cNvSpPr/>
          <p:nvPr/>
        </p:nvSpPr>
        <p:spPr>
          <a:xfrm>
            <a:off x="1692360" y="515772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Y con tan  pocos caramelos en la bolsa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Athonite moonlight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8656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611280" y="429264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Papyrus"/>
              </a:rPr>
              <a:t>Ahora  tan  solo quiero vivir al  lado de gente  humana, muy humana.</a:t>
            </a: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5" descr="Moon-Bright 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65246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6"/>
          <p:cNvSpPr/>
          <p:nvPr/>
        </p:nvSpPr>
        <p:spPr>
          <a:xfrm>
            <a:off x="1440000" y="981000"/>
            <a:ext cx="62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Gente que sepa  amar y reirse de lo simple y hasta  de sus errores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581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1438200" y="48690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Gente  muy segura de si mismo , que no se vanaglorie  de sus  lujos y de sus riquezas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Moonrise by veteran"/>
          <p:cNvPicPr/>
          <p:nvPr/>
        </p:nvPicPr>
        <p:blipFill>
          <a:blip r:embed="rId1"/>
          <a:stretch/>
        </p:blipFill>
        <p:spPr>
          <a:xfrm>
            <a:off x="1476360" y="0"/>
            <a:ext cx="6694560" cy="6885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6"/>
          <p:cNvSpPr/>
          <p:nvPr/>
        </p:nvSpPr>
        <p:spPr>
          <a:xfrm>
            <a:off x="1692360" y="328464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Gente  que no eluda sus responsabilidades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Red full moon"/>
          <p:cNvPicPr/>
          <p:nvPr/>
        </p:nvPicPr>
        <p:blipFill>
          <a:blip r:embed="rId1"/>
          <a:stretch/>
        </p:blipFill>
        <p:spPr>
          <a:xfrm>
            <a:off x="539640" y="654120"/>
            <a:ext cx="8280360" cy="62038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6"/>
          <p:cNvSpPr/>
          <p:nvPr/>
        </p:nvSpPr>
        <p:spPr>
          <a:xfrm>
            <a:off x="900000" y="50133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Gente  muy  sincera  y  que defienda la dignidad humana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" descr="Landscape with Moon III"/>
          <p:cNvPicPr/>
          <p:nvPr/>
        </p:nvPicPr>
        <p:blipFill>
          <a:blip r:embed="rId1"/>
          <a:stretch/>
        </p:blipFill>
        <p:spPr>
          <a:xfrm>
            <a:off x="250920" y="549360"/>
            <a:ext cx="8893080" cy="5715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6"/>
          <p:cNvSpPr/>
          <p:nvPr/>
        </p:nvSpPr>
        <p:spPr>
          <a:xfrm>
            <a:off x="412920" y="5084640"/>
            <a:ext cx="83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          </a:t>
            </a:r>
            <a:r>
              <a:rPr b="1" lang="ca-ES" sz="2800" spc="-1" strike="noStrike">
                <a:solidFill>
                  <a:srgbClr val="ffffff"/>
                </a:solidFill>
                <a:latin typeface="Papyrus"/>
              </a:rPr>
              <a:t>Porque tan solo lo esencial es lo que h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Papyrus"/>
              </a:rPr>
              <a:t>                </a:t>
            </a:r>
            <a:r>
              <a:rPr b="1" lang="ca-ES" sz="2800" spc="-1" strike="noStrike">
                <a:solidFill>
                  <a:srgbClr val="ffffff"/>
                </a:solidFill>
                <a:latin typeface="Papyrus"/>
              </a:rPr>
              <a:t>que la  vida  valga la pena vivirla.</a:t>
            </a: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Full moon risin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8276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6"/>
          <p:cNvSpPr/>
          <p:nvPr/>
        </p:nvSpPr>
        <p:spPr>
          <a:xfrm>
            <a:off x="539640" y="458136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Quiero rodearme de gente que sepa tocar el  coraz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                              </a:t>
            </a: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de  las   otras persona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moon"/>
          <p:cNvPicPr/>
          <p:nvPr/>
        </p:nvPicPr>
        <p:blipFill>
          <a:blip r:embed="rId1"/>
          <a:stretch/>
        </p:blipFill>
        <p:spPr>
          <a:xfrm>
            <a:off x="539640" y="981000"/>
            <a:ext cx="8064720" cy="48769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"/>
          <p:cNvSpPr/>
          <p:nvPr/>
        </p:nvSpPr>
        <p:spPr>
          <a:xfrm>
            <a:off x="900000" y="465300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Papyrus"/>
              </a:rPr>
              <a:t>Gente a quien los duros golpes de la vida, le han enseñado a crecer con suaves carícias en su alma.</a:t>
            </a: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Copernicus Crater, Moon"/>
          <p:cNvPicPr/>
          <p:nvPr/>
        </p:nvPicPr>
        <p:blipFill>
          <a:blip r:embed="rId1"/>
          <a:stretch/>
        </p:blipFill>
        <p:spPr>
          <a:xfrm>
            <a:off x="1054080" y="0"/>
            <a:ext cx="808992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7"/>
          <p:cNvSpPr/>
          <p:nvPr/>
        </p:nvSpPr>
        <p:spPr>
          <a:xfrm>
            <a:off x="539640" y="692280"/>
            <a:ext cx="46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0" lang="ca-ES" sz="2400" spc="-1" strike="noStrike">
                <a:solidFill>
                  <a:srgbClr val="ffffff"/>
                </a:solidFill>
                <a:latin typeface="Papyrus"/>
              </a:rPr>
              <a:t>He contado mis años y he descubierto que tengo menos tiempo para vivir de aquí en adelante, que el que he vivido hasta ahora..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1332000" y="692280"/>
            <a:ext cx="69120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2050920" y="508464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Sí… tengo prisa… para vivir con la intensidad que nada más que la madurez  nos puede d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Wulff: Moonlight Blue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1996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6"/>
          <p:cNvSpPr/>
          <p:nvPr/>
        </p:nvSpPr>
        <p:spPr>
          <a:xfrm>
            <a:off x="1405080" y="5445000"/>
            <a:ext cx="63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No pretendo  mal emplear ni tan solo uno de los caramelos que ahora me quedan en la bolsa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539640" y="692280"/>
            <a:ext cx="806472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39640" y="5229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Estoy  tan seguro que estos  caramelos  seran  más exquisitos que los que hasta ahora me he comido 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0" y="43164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7"/>
          <p:cNvSpPr/>
          <p:nvPr/>
        </p:nvSpPr>
        <p:spPr>
          <a:xfrm>
            <a:off x="212400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Deseo que la tuya sea la misma, porque, de cualquier manera, también  tú llegarás..."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The moon and stars light up Mount Everest, also known as Qomolangma, as seen from near Everest Base "/>
          <p:cNvPicPr/>
          <p:nvPr/>
        </p:nvPicPr>
        <p:blipFill>
          <a:blip r:embed="rId1"/>
          <a:stretch/>
        </p:blipFill>
        <p:spPr>
          <a:xfrm>
            <a:off x="0" y="-31680"/>
            <a:ext cx="9325080" cy="68896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4284720" y="2349360"/>
            <a:ext cx="460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Me siento como aquel niño al que le regalan una bolsa de caramelos: los primeros se los come feliz y rápido , pero, cuando se percata de que   ya le quedan pocos, comienza a saborearlos profundamente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By the Light of the Full Moon - by Oscar"/>
          <p:cNvPicPr/>
          <p:nvPr/>
        </p:nvPicPr>
        <p:blipFill>
          <a:blip r:embed="rId1"/>
          <a:stretch/>
        </p:blipFill>
        <p:spPr>
          <a:xfrm>
            <a:off x="1979640" y="-458640"/>
            <a:ext cx="5076720" cy="76197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2700360" y="2421000"/>
            <a:ext cx="48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Ya no tengo tiempo para  reuniones interminables, en las que  se  discuten  estatutos, normas, procedimientos y reglamentos internos, sabiendo que al final no se conseguirá nada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MOONLIGHT MAGIC!!!!"/>
          <p:cNvPicPr/>
          <p:nvPr/>
        </p:nvPicPr>
        <p:blipFill>
          <a:blip r:embed="rId1"/>
          <a:srcRect l="0" t="-2145" r="0" b="19749"/>
          <a:stretch/>
        </p:blipFill>
        <p:spPr>
          <a:xfrm>
            <a:off x="0" y="-387360"/>
            <a:ext cx="9325080" cy="72453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539640" y="414972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Ya no tengo tiempo para soportar a  personas absurdas que, a pesar de su edad cronológica, no han crecido  en ningun otro aspecto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8" descr="Moon ri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9"/>
          <p:cNvSpPr/>
          <p:nvPr/>
        </p:nvSpPr>
        <p:spPr>
          <a:xfrm>
            <a:off x="900000" y="37893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Ya no tengo tiempo, para perderlo con mediocridades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5" descr="Sunset wiyh moon"/>
          <p:cNvPicPr/>
          <p:nvPr/>
        </p:nvPicPr>
        <p:blipFill>
          <a:blip r:embed="rId1"/>
          <a:stretch/>
        </p:blipFill>
        <p:spPr>
          <a:xfrm>
            <a:off x="250920" y="404640"/>
            <a:ext cx="8893080" cy="61516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2843280" y="1989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Ahora  ya no tolero a los manipuladores , a los  arribistas, ni a los aprovech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Marin Marinov: On the Moonlight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57610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7"/>
          <p:cNvSpPr/>
          <p:nvPr/>
        </p:nvSpPr>
        <p:spPr>
          <a:xfrm>
            <a:off x="539640" y="4365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Me molestan los envidiosos, que tratan de desacreditar a los más capaces, para apropiarse  de sus talentos y  de sus  logros.</a:t>
            </a: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84360" y="836640"/>
            <a:ext cx="7772400" cy="51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Papyrus"/>
              </a:rPr>
              <a:t>Mi tiempo es  muy escaso como para discutir   posesiones materiales o posiciones soci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8:39:13Z</dcterms:created>
  <dc:creator>Regina || Traducción al español: Tasmania.</dc:creator>
  <dc:description/>
  <dc:language>en-US</dc:language>
  <cp:lastModifiedBy>Francisco Checchi</cp:lastModifiedBy>
  <dcterms:modified xsi:type="dcterms:W3CDTF">2012-04-24T23:34:13Z</dcterms:modified>
  <cp:revision>163</cp:revision>
  <dc:subject/>
  <dc:title>A HOLD || El valuós temps dels madurs || El valioso tiempo de los maduros.</dc:title>
</cp:coreProperties>
</file>