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AmazingGrace_Mantovani.wav" ContentType="audio/x-wav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3F6-B57C-4975-B057-F31E1E3A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374-8522-4B30-A57F-9A852D56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B0F-131E-4389-AC50-E0DFD622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F48-A0C2-401B-A65E-BF41DD9E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511-5838-46D5-A4C6-54ADB238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3A5-480B-495F-BC2F-6CFC50F0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371-1A10-4F7A-86AF-D3CF0F30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023-9626-4F3E-84AD-8506E41B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929-470E-49EA-B7E6-3E79C55C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890-8342-4ED4-9C4B-E595A75B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55B-6B34-4DC1-8A36-55DD59B3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A45-5A25-4321-A84D-6FF925EC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C144-2F32-4D49-BF74-B87F8D594B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zingGrace_Mantovani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80880" y="304920"/>
            <a:ext cx="8534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Les meilleures photos 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L'année 20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D'aprè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NB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1 Imagen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380880" y="620640"/>
            <a:ext cx="8367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2f2f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DAD   NEUROLINGÜÍSTICA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2f2f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ru"/>
    <p:sndAc>
      <p:stSnd>
        <p:snd r:embed="rId2" name="AmazingGrace_Mantovan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magen_plan_trabaj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395280" y="522936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 sigues diciendo que no soportas tu trabajo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edes perderlo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avril-lavigne-140-n24350"/>
          <p:cNvPicPr/>
          <p:nvPr/>
        </p:nvPicPr>
        <p:blipFill>
          <a:blip r:embed="rId1"/>
          <a:stretch/>
        </p:blipFill>
        <p:spPr>
          <a:xfrm>
            <a:off x="-2844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324000" y="5229360"/>
            <a:ext cx="835164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 sigues diciendo que no soportas tu cuerpo,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u cuerpo puede enfermarse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autos"/>
          <p:cNvPicPr/>
          <p:nvPr/>
        </p:nvPicPr>
        <p:blipFill>
          <a:blip r:embed="rId1"/>
          <a:stretch/>
        </p:blipFill>
        <p:spPr>
          <a:xfrm>
            <a:off x="0" y="-387360"/>
            <a:ext cx="9683640" cy="7561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573120" y="192240"/>
            <a:ext cx="839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Si sigues diciendo que no aguantas tu carr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tu carro puede ser robado o descompon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vaso-quebrado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1337760" y="333000"/>
            <a:ext cx="709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 sigues diciendo que estás quebra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abes qué? Siempre estarás quebrado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cel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0" y="530676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i sigues diciendo que no puedes confi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n hombres o mujeres, siempre encontrarás alguien en tu vida que te lastimará o te traicionará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ombre-desempleado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250920" y="5384880"/>
            <a:ext cx="864216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 sigues diciendo que no encuentras trabajo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guirás desempleado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novio+loco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198360" y="128160"/>
            <a:ext cx="495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Si sigues diciendo que no puedes encontrar alguien a quien amar o crea en ti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tus pensamientos atraerán mas experiencias confirmando tus creencias.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pensamiento+positiv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828720" y="831600"/>
            <a:ext cx="74883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Haz tus pensamientos y tus conversaciones más positivos y guárdalas con fe, esperanza, amor y acción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esarrollo-person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686040" y="2055600"/>
            <a:ext cx="509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*No tengas miedo de creer que puedes tener lo que tú quieres y mereces.*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Pensamientos+Positiv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4639320" y="589680"/>
            <a:ext cx="377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7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serva tus 'Pensamientos,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convertirán en palab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praying%20in%20the%20spirit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3"/>
          <p:cNvSpPr txBox="1"/>
          <p:nvPr/>
        </p:nvSpPr>
        <p:spPr>
          <a:xfrm>
            <a:off x="611280" y="5840280"/>
            <a:ext cx="7921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tes de Orar…PERDONA  </a:t>
            </a:r>
            <a:endParaRPr b="0" lang="en-US" sz="1800" spc="1" strike="noStrike">
              <a:ln w="1908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buenas_relacion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233280" y="5300640"/>
            <a:ext cx="441000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bserva tus 'Palabras'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 convertirán en acciones. 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mundo-mejor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2268360" y="26028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bserva tus 'Acciones', 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 convertirán en hábitos.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2562053805_49f09ba9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7"/>
          <p:cNvSpPr txBox="1"/>
          <p:nvPr/>
        </p:nvSpPr>
        <p:spPr>
          <a:xfrm>
            <a:off x="324000" y="5516640"/>
            <a:ext cx="85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serva tus 'Hábitos', Se convertirán en carácter. 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ivorcio-ninos"/>
          <p:cNvPicPr/>
          <p:nvPr/>
        </p:nvPicPr>
        <p:blipFill>
          <a:blip r:embed="rId1"/>
          <a:stretch/>
        </p:blipFill>
        <p:spPr>
          <a:xfrm>
            <a:off x="-22320" y="162252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385920" y="476280"/>
            <a:ext cx="8528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bserva tu 'Carácter',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 convertirá en tu 'Destino'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aminatas Made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260280" y="333360"/>
            <a:ext cx="8358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2d05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sí…. Para prevenir cualquier obstáculo…</a:t>
            </a:r>
            <a:endParaRPr b="0" lang="en-US" sz="1800" spc="1" strike="noStrike">
              <a:ln w="12600">
                <a:solidFill>
                  <a:srgbClr val="92d05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2d05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92d05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¡ Consigue tu propio camino ! </a:t>
            </a:r>
            <a:endParaRPr b="0" lang="en-US" sz="1800" spc="1" strike="noStrike">
              <a:ln w="12600">
                <a:solidFill>
                  <a:srgbClr val="92d05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jovenes_felices_su_vida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92" name="WordArt 7"/>
          <p:cNvSpPr txBox="1"/>
          <p:nvPr/>
        </p:nvSpPr>
        <p:spPr>
          <a:xfrm>
            <a:off x="250920" y="907920"/>
            <a:ext cx="8424720" cy="32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¡¡ Disfruta cada minuto de tu vida !! 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      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e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539640" y="1125360"/>
            <a:ext cx="60483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uando el filosofo señala la luna, 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l tonto se fija en el dedo.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regalo_vacio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358920" y="5398560"/>
            <a:ext cx="8426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'Si no te gusta lo que recib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visa muy bien lo que estás dando'.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ola de m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2" descr=""/>
          <p:cNvPicPr/>
          <p:nvPr/>
        </p:nvPicPr>
        <p:blipFill>
          <a:blip r:embed="rId2"/>
          <a:stretch/>
        </p:blipFill>
        <p:spPr>
          <a:xfrm>
            <a:off x="396720" y="189000"/>
            <a:ext cx="83091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Felicid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2" descr=""/>
          <p:cNvPicPr/>
          <p:nvPr/>
        </p:nvPicPr>
        <p:blipFill>
          <a:blip r:embed="rId2"/>
          <a:stretch/>
        </p:blipFill>
        <p:spPr>
          <a:xfrm>
            <a:off x="341280" y="5505480"/>
            <a:ext cx="82058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>
            <a:alpha val="2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ablar-al-oido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4"/>
          <p:cNvSpPr/>
          <p:nvPr/>
        </p:nvSpPr>
        <p:spPr>
          <a:xfrm>
            <a:off x="3557520" y="2666880"/>
            <a:ext cx="20289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792000" y="6021360"/>
            <a:ext cx="756000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tes de Hablar…ESCUCHA 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320angels20earth20light4oq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468360" y="2473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o estés ocupado todo el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parte éste mensaje de inspiraci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¡¡ yo lo acabo de hacer !!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dansalax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7"/>
          <p:cNvSpPr txBox="1"/>
          <p:nvPr/>
        </p:nvSpPr>
        <p:spPr>
          <a:xfrm>
            <a:off x="900000" y="2781360"/>
            <a:ext cx="5362560" cy="1617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¨QUE COSA EXTRAÑA ES EL HOMBRE, </a:t>
            </a:r>
            <a:endParaRPr b="0" lang="en-US" sz="1800" spc="1" strike="noStrike">
              <a:ln w="1584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ACER NO PIDE, </a:t>
            </a:r>
            <a:endParaRPr b="0" lang="en-US" sz="1800" spc="1" strike="noStrike">
              <a:ln w="1584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VIVIR NO SABE,</a:t>
            </a:r>
            <a:endParaRPr b="0" lang="en-US" sz="1800" spc="1" strike="noStrike">
              <a:ln w="1584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Y MORIR NO QUIERE¨.</a:t>
            </a:r>
            <a:endParaRPr b="0" lang="en-US" sz="1800" spc="1" strike="noStrike">
              <a:ln w="1584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5724360" y="5159520"/>
            <a:ext cx="2376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63639" dir="2700000" blurRad="0" rotWithShape="0">
                    <a:srgbClr val="000000"/>
                  </a:outerShdw>
                </a:effectLst>
                <a:latin typeface="Impact"/>
              </a:rPr>
              <a:t>Un  Abraz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6363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escribir-ca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395280" y="5586480"/>
            <a:ext cx="842472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ntes de Escribir…PIENSA  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Gastar-plata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2781360"/>
            <a:ext cx="62200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tes de Gastar…GANA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riticas%255B3%25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WordArt 5" descr=""/>
          <p:cNvPicPr/>
          <p:nvPr/>
        </p:nvPicPr>
        <p:blipFill>
          <a:blip r:embed="rId2"/>
          <a:stretch/>
        </p:blipFill>
        <p:spPr>
          <a:xfrm>
            <a:off x="1395360" y="5430960"/>
            <a:ext cx="702936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no-puedes-rendir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1258920" y="5445000"/>
            <a:ext cx="69850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2f2f2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ntes de Rendirte…PRUEBA</a:t>
            </a:r>
            <a:endParaRPr b="0" lang="en-US" sz="1800" spc="1" strike="noStrike">
              <a:ln w="0">
                <a:noFill/>
              </a:ln>
              <a:solidFill>
                <a:srgbClr val="f2f2f2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nuestros%20pensamientos%20(WinCE)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250920" y="5300640"/>
            <a:ext cx="8642160" cy="13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us PALABRAS, tus SUEÑOS, y tus PENSAMIENTOS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ienen el poder de crear condiciones en tu vida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yR-Consultores-Cristian-Bejarano-Hablar-En-Publico-Formacion-Talleres-Seminarios-Conferencias-02"/>
          <p:cNvPicPr/>
          <p:nvPr/>
        </p:nvPicPr>
        <p:blipFill>
          <a:blip r:embed="rId1"/>
          <a:srcRect l="0" t="938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250920" y="392040"/>
            <a:ext cx="345744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05867"/>
                    </a:gs>
                    <a:gs pos="50000">
                      <a:srgbClr val="ffffff"/>
                    </a:gs>
                    <a:gs pos="100000">
                      <a:srgbClr val="205867"/>
                    </a:gs>
                  </a:gsLst>
                  <a:lin ang="0"/>
                </a:gradFill>
                <a:effectLst>
                  <a:outerShdw dist="50621" dir="2021404" blurRad="0" rotWithShape="0">
                    <a:srgbClr val="000000"/>
                  </a:outerShdw>
                </a:effectLst>
                <a:latin typeface="Times New Roman"/>
              </a:rPr>
              <a:t>De lo que hables,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05867"/>
                  </a:gs>
                  <a:gs pos="50000">
                    <a:srgbClr val="ffffff"/>
                  </a:gs>
                  <a:gs pos="100000">
                    <a:srgbClr val="205867"/>
                  </a:gs>
                </a:gsLst>
                <a:lin ang="0"/>
              </a:gradFill>
              <a:effectLst>
                <a:outerShdw dist="50621" dir="2021404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05867"/>
                    </a:gs>
                    <a:gs pos="50000">
                      <a:srgbClr val="ffffff"/>
                    </a:gs>
                    <a:gs pos="100000">
                      <a:srgbClr val="205867"/>
                    </a:gs>
                  </a:gsLst>
                  <a:lin ang="0"/>
                </a:gradFill>
                <a:effectLst>
                  <a:outerShdw dist="50621" dir="2021404" blurRad="0" rotWithShape="0">
                    <a:srgbClr val="000000"/>
                  </a:outerShdw>
                </a:effectLst>
                <a:latin typeface="Times New Roman"/>
              </a:rPr>
              <a:t>lo obtendrás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05867"/>
                  </a:gs>
                  <a:gs pos="50000">
                    <a:srgbClr val="ffffff"/>
                  </a:gs>
                  <a:gs pos="100000">
                    <a:srgbClr val="205867"/>
                  </a:gs>
                </a:gsLst>
                <a:lin ang="0"/>
              </a:gradFill>
              <a:effectLst>
                <a:outerShdw dist="50621" dir="2021404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1:37:54Z</dcterms:created>
  <dc:creator>Personal</dc:creator>
  <dc:description/>
  <dc:language>en-US</dc:language>
  <cp:lastModifiedBy>FASAD</cp:lastModifiedBy>
  <dcterms:modified xsi:type="dcterms:W3CDTF">2011-05-25T19:43:29Z</dcterms:modified>
  <cp:revision>6</cp:revision>
  <dc:subject/>
  <dc:title>Diapositiva 1</dc:title>
</cp:coreProperties>
</file>