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Giovanni-1920.wav" ContentType="audio/x-wav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2F6-F9A3-4B65-86CE-B435CFEC84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B13-EFAC-4BA4-8829-45E1D49D4D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12F1-6182-44DF-8F1B-8BB01A681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FA8-6A7C-4835-BC23-D148012F2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C7F-2CCB-4C71-90F9-A72450EBF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DF9-58DC-4BF8-9DF0-7549E3117B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327-2A98-4844-9C33-C402AB597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172-F479-43E8-83A5-D31AD8697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254-8353-42FC-8906-B95F4CF290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E948-F13B-4397-961B-88C69A6F2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3A93-0CB5-48A2-AFD5-F785DC168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E12-DDC9-4305-9241-AD22F35DE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2735-26DE-486E-9769-375C914C2A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40B8-FAEE-4475-B8D2-AE2F1FBA00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D8A-0F4B-48A4-B638-3BF0D587D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059-0215-40E5-9F0C-034B65BB8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6B93-6BBB-4478-B0ED-5F55C5A4B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B44-1F40-48C8-BD22-1CDC0D7B93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57E-176D-4782-8C48-F9F36E353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71D2-15FC-4237-AE2A-A61725F9BC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357-3346-4462-9A26-9A8B272393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42B-5EA8-46AD-BAD6-387468F46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FECD-E517-4C80-949D-E342014D58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433-80E0-4A3D-8EC0-AE7B3192C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3AD-482E-4B64-9A45-A332D5FE3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AFA-DF64-4557-9C49-679353AD79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26A5-3FDE-4C3B-8091-0587BFB3A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9D0F-10CF-4936-A14C-9571A6AF4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1CD-2193-4AEC-8AFF-0A91252A1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140-5F55-437A-BE5C-CE3ADBADB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AC0-1809-46C4-A46B-2905CBDFD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89F-6A47-446F-BA0F-9598F1FB47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FC1-5B74-4628-9F99-B812C424B9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958-1D4F-4385-813F-E842675B3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CB9D-179D-4B04-81D9-8A9A2F0C5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3D7C-0510-4525-AADF-B8674B1F9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785-1F27-4689-9D80-4B82F404B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6BE-3F89-45B1-9C77-8F260362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2F-CF4F-4D5A-A24B-905642A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463-909F-4474-80F0-D2ABAE94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264-DA44-40D0-8282-E14D1A89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47-53CB-438A-AD97-71E3818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B31-7F73-405C-9A45-3C53C1C2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120-540D-4151-9295-B4F9510F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13B-EFE6-44C8-AC6D-4B6878C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966-BE61-4CCE-A0E0-854B7C75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648-0EDF-4DB9-9EA6-24C4D77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8D2-CC7A-44AE-8FFA-C98B63A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471-6645-498C-9F8A-E52CEC1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235-91D0-4683-9B66-5144C6378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iovanni-192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3c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549360"/>
            <a:ext cx="8153280" cy="5715000"/>
          </a:xfrm>
          <a:prstGeom prst="rect">
            <a:avLst/>
          </a:prstGeom>
          <a:solidFill>
            <a:srgbClr val="93632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Documents and Settings\HP_Administrator\Desktop\28697005.c196_9685_1.jpg"/>
          <p:cNvPicPr/>
          <p:nvPr/>
        </p:nvPicPr>
        <p:blipFill>
          <a:blip r:embed="rId1"/>
          <a:stretch/>
        </p:blipFill>
        <p:spPr>
          <a:xfrm>
            <a:off x="5435640" y="1628640"/>
            <a:ext cx="3097080" cy="4011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50920" y="1916280"/>
            <a:ext cx="4968720" cy="28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0"/>
                </a:gradFill>
                <a:latin typeface="Lucida Handwriting"/>
              </a:rPr>
              <a:t>Pájaro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0"/>
              </a:gradFill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0"/>
                </a:gradFill>
                <a:latin typeface="Lucida Handwriting"/>
              </a:rPr>
              <a:t>portador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0"/>
              </a:gradFill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0"/>
                </a:gradFill>
                <a:latin typeface="Lucida Handwriting"/>
              </a:rPr>
              <a:t>      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0"/>
                </a:gradFill>
                <a:latin typeface="Lucida Handwriting"/>
              </a:rPr>
              <a:t>de mensajes ... 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0"/>
              </a:gradFill>
              <a:latin typeface="Lucida Handwriting"/>
              <a:ea typeface="Lucida Handwriting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9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P_Administrator\Desktop\Birds\30203124.sigpileated5864sm.jpg"/>
          <p:cNvPicPr/>
          <p:nvPr/>
        </p:nvPicPr>
        <p:blipFill>
          <a:blip r:embed="rId1"/>
          <a:stretch/>
        </p:blipFill>
        <p:spPr>
          <a:xfrm>
            <a:off x="4919760" y="563400"/>
            <a:ext cx="3973320" cy="5961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8" name="Text Box 3"/>
          <p:cNvSpPr/>
          <p:nvPr/>
        </p:nvSpPr>
        <p:spPr>
          <a:xfrm>
            <a:off x="611280" y="2276640"/>
            <a:ext cx="34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felicidad no depende de lo que nos pueda pasar, sino de la forma en que percibimos lo que nos ocu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73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HP_Administrator\Desktop\Birds\30437033.P6204605_std.jpg"/>
          <p:cNvPicPr/>
          <p:nvPr/>
        </p:nvPicPr>
        <p:blipFill>
          <a:blip r:embed="rId1"/>
          <a:stretch/>
        </p:blipFill>
        <p:spPr>
          <a:xfrm>
            <a:off x="1295280" y="333360"/>
            <a:ext cx="6583320" cy="4925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0" name="Text Box 3"/>
          <p:cNvSpPr/>
          <p:nvPr/>
        </p:nvSpPr>
        <p:spPr>
          <a:xfrm>
            <a:off x="609480" y="5702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ura hacer esto: encuentra el lado positivo a todo aquello que parezca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8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HP_Administrator\Desktop\Birds\30478694.jpg"/>
          <p:cNvPicPr/>
          <p:nvPr/>
        </p:nvPicPr>
        <p:blipFill>
          <a:blip r:embed="rId1"/>
          <a:stretch/>
        </p:blipFill>
        <p:spPr>
          <a:xfrm>
            <a:off x="971640" y="260280"/>
            <a:ext cx="7416720" cy="5227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2" name="Text Box 3"/>
          <p:cNvSpPr/>
          <p:nvPr/>
        </p:nvSpPr>
        <p:spPr>
          <a:xfrm>
            <a:off x="3298680" y="60879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87280" y="57340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mitad de la belleza depende del paisaje y la otra mitad del hombre que lo m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77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HP_Administrator\Desktop\Birds\30877347.jpg"/>
          <p:cNvPicPr/>
          <p:nvPr/>
        </p:nvPicPr>
        <p:blipFill>
          <a:blip r:embed="rId1"/>
          <a:stretch/>
        </p:blipFill>
        <p:spPr>
          <a:xfrm>
            <a:off x="826920" y="333360"/>
            <a:ext cx="7339320" cy="5224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304920" y="5775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vida se compone de una sucesión de lecciones que deben vivirse para ser compr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b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HP_Administrator\Desktop\Birds\31760108.Schneeeule.jpg"/>
          <p:cNvPicPr/>
          <p:nvPr/>
        </p:nvPicPr>
        <p:blipFill>
          <a:blip r:embed="rId1"/>
          <a:stretch/>
        </p:blipFill>
        <p:spPr>
          <a:xfrm>
            <a:off x="1049400" y="333360"/>
            <a:ext cx="7122960" cy="5342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7" name="Text Box 3"/>
          <p:cNvSpPr/>
          <p:nvPr/>
        </p:nvSpPr>
        <p:spPr>
          <a:xfrm>
            <a:off x="179280" y="58514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amor es como el fuego; si no se comunica, se ap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b5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HP_Administrator\Desktop\Birds\32020068.jpg"/>
          <p:cNvPicPr/>
          <p:nvPr/>
        </p:nvPicPr>
        <p:blipFill>
          <a:blip r:embed="rId1"/>
          <a:stretch/>
        </p:blipFill>
        <p:spPr>
          <a:xfrm>
            <a:off x="395280" y="347760"/>
            <a:ext cx="4505400" cy="6105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0000" y="26370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Recompense los comportamientos que desee que se rep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2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HP_Administrator\Desktop\Birds\32052085.jpg"/>
          <p:cNvPicPr/>
          <p:nvPr/>
        </p:nvPicPr>
        <p:blipFill>
          <a:blip r:embed="rId1"/>
          <a:stretch/>
        </p:blipFill>
        <p:spPr>
          <a:xfrm>
            <a:off x="1295280" y="260280"/>
            <a:ext cx="6583320" cy="4835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762120" y="563076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chas personas se pierden las pequeñas alegrías mientras aguardan la gran fe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50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HP_Administrator\Desktop\Birds\33044139.jpg"/>
          <p:cNvPicPr/>
          <p:nvPr/>
        </p:nvPicPr>
        <p:blipFill>
          <a:blip r:embed="rId1"/>
          <a:stretch/>
        </p:blipFill>
        <p:spPr>
          <a:xfrm>
            <a:off x="684360" y="312840"/>
            <a:ext cx="7775280" cy="51829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3" name="Text Box 3"/>
          <p:cNvSpPr/>
          <p:nvPr/>
        </p:nvSpPr>
        <p:spPr>
          <a:xfrm>
            <a:off x="360360" y="570240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secreto de la vida consiste simplemente en aceptarla tal cual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85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HP_Administrator\Desktop\Birds\35241137.IMG_1053.jpg"/>
          <p:cNvPicPr/>
          <p:nvPr/>
        </p:nvPicPr>
        <p:blipFill>
          <a:blip r:embed="rId1"/>
          <a:stretch/>
        </p:blipFill>
        <p:spPr>
          <a:xfrm>
            <a:off x="836640" y="333360"/>
            <a:ext cx="7551720" cy="5035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536400" y="5924520"/>
            <a:ext cx="81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El amor cura tanto al que da como al que rec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f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HP_Administrator\Desktop\Birds\35401548.singinintherain.jpg"/>
          <p:cNvPicPr/>
          <p:nvPr/>
        </p:nvPicPr>
        <p:blipFill>
          <a:blip r:embed="rId1"/>
          <a:stretch/>
        </p:blipFill>
        <p:spPr>
          <a:xfrm>
            <a:off x="826920" y="281160"/>
            <a:ext cx="7628040" cy="50194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7" name="Text Box 3"/>
          <p:cNvSpPr/>
          <p:nvPr/>
        </p:nvSpPr>
        <p:spPr>
          <a:xfrm>
            <a:off x="755640" y="56610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bemos lo que somos, pero ignoramos lo que podríamos haber 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a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HP_Administrator\Desktop\Birds\02042005hERON.jpg"/>
          <p:cNvPicPr/>
          <p:nvPr/>
        </p:nvPicPr>
        <p:blipFill>
          <a:blip r:embed="rId1"/>
          <a:stretch/>
        </p:blipFill>
        <p:spPr>
          <a:xfrm>
            <a:off x="1042920" y="476280"/>
            <a:ext cx="7274160" cy="48499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108000" y="544500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De todo lo que llevas, tu sonr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es lo que mejor te sient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5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HP_Administrator\Desktop\Birds\35404896.IMG_1302.jpg"/>
          <p:cNvPicPr/>
          <p:nvPr/>
        </p:nvPicPr>
        <p:blipFill>
          <a:blip r:embed="rId1"/>
          <a:stretch/>
        </p:blipFill>
        <p:spPr>
          <a:xfrm>
            <a:off x="538200" y="531720"/>
            <a:ext cx="8066160" cy="4842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9" name="Text Box 3"/>
          <p:cNvSpPr/>
          <p:nvPr/>
        </p:nvSpPr>
        <p:spPr>
          <a:xfrm>
            <a:off x="900000" y="5702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estras vidas siempre estarán colmadas si nuestros corazones dan a manos ll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5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HP_Administrator\Desktop\Birds\35405734.IMG_1305.jpg"/>
          <p:cNvPicPr/>
          <p:nvPr/>
        </p:nvPicPr>
        <p:blipFill>
          <a:blip r:embed="rId1"/>
          <a:stretch/>
        </p:blipFill>
        <p:spPr>
          <a:xfrm>
            <a:off x="4522680" y="533520"/>
            <a:ext cx="4297320" cy="576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1" name="Text Box 3"/>
          <p:cNvSpPr/>
          <p:nvPr/>
        </p:nvSpPr>
        <p:spPr>
          <a:xfrm>
            <a:off x="395280" y="171144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e caes en tu primer intento, levántate e inténtalo nuevamente. No le eches la culpa a otro. Enfréntate a tus fracasos y decide esforzarte mucho más la próxim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9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HP_Administrator\Desktop\Birds\35442579.IMG_1460copy.jpg"/>
          <p:cNvPicPr/>
          <p:nvPr/>
        </p:nvPicPr>
        <p:blipFill>
          <a:blip r:embed="rId1"/>
          <a:stretch/>
        </p:blipFill>
        <p:spPr>
          <a:xfrm>
            <a:off x="304920" y="533520"/>
            <a:ext cx="5851440" cy="576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3" name="Text Box 3"/>
          <p:cNvSpPr/>
          <p:nvPr/>
        </p:nvSpPr>
        <p:spPr>
          <a:xfrm>
            <a:off x="6516720" y="1557360"/>
            <a:ext cx="2257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 tolerante con los demás, incluyéndote a ti mismo. Somos seres humanos aprendiendo a 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522"/>
            </a:gs>
            <a:gs pos="100000">
              <a:srgbClr val="4034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HP_Administrator\Desktop\Birds\37032606.IMG_4384copy.jpg"/>
          <p:cNvPicPr/>
          <p:nvPr/>
        </p:nvPicPr>
        <p:blipFill>
          <a:blip r:embed="rId1"/>
          <a:stretch/>
        </p:blipFill>
        <p:spPr>
          <a:xfrm>
            <a:off x="468360" y="533520"/>
            <a:ext cx="4800600" cy="576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5940360" y="256536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que cuenta no es lo que se da, sino el amor con el que se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5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HP_Administrator\Desktop\Birds\37990508.growl.jpg"/>
          <p:cNvPicPr/>
          <p:nvPr/>
        </p:nvPicPr>
        <p:blipFill>
          <a:blip r:embed="rId1"/>
          <a:stretch/>
        </p:blipFill>
        <p:spPr>
          <a:xfrm>
            <a:off x="3733920" y="609480"/>
            <a:ext cx="4537080" cy="5635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7" name="Text Box 3"/>
          <p:cNvSpPr/>
          <p:nvPr/>
        </p:nvSpPr>
        <p:spPr>
          <a:xfrm>
            <a:off x="468360" y="2565360"/>
            <a:ext cx="254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 ser original es difícil de encontrar, pero fácil de recono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85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HP_Administrator\Desktop\Birds\39733975.IMG_9613s.jpg"/>
          <p:cNvPicPr/>
          <p:nvPr/>
        </p:nvPicPr>
        <p:blipFill>
          <a:blip r:embed="rId1"/>
          <a:stretch/>
        </p:blipFill>
        <p:spPr>
          <a:xfrm>
            <a:off x="838080" y="333360"/>
            <a:ext cx="7407360" cy="4446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9" name="Text Box 3"/>
          <p:cNvSpPr/>
          <p:nvPr/>
        </p:nvSpPr>
        <p:spPr>
          <a:xfrm>
            <a:off x="468360" y="5300640"/>
            <a:ext cx="81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existe ningún problema humano al que no se le pueda dar solución, ya que esa solución está en cada uno de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4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HP_Administrator\Desktop\Birds\40010131.dsuck800IMG_4913.jpg"/>
          <p:cNvPicPr/>
          <p:nvPr/>
        </p:nvPicPr>
        <p:blipFill>
          <a:blip r:embed="rId1"/>
          <a:stretch/>
        </p:blipFill>
        <p:spPr>
          <a:xfrm>
            <a:off x="1295280" y="404640"/>
            <a:ext cx="6583320" cy="4937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1" name="Text Box 3"/>
          <p:cNvSpPr/>
          <p:nvPr/>
        </p:nvSpPr>
        <p:spPr>
          <a:xfrm>
            <a:off x="609480" y="5877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tristeza es un muro elevado entre dos jard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8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HP_Administrator\Desktop\Birds\41149428.DSC_0778.jpg"/>
          <p:cNvPicPr/>
          <p:nvPr/>
        </p:nvPicPr>
        <p:blipFill>
          <a:blip r:embed="rId1"/>
          <a:stretch/>
        </p:blipFill>
        <p:spPr>
          <a:xfrm>
            <a:off x="684360" y="379440"/>
            <a:ext cx="7551720" cy="4994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3" name="Text Box 3"/>
          <p:cNvSpPr/>
          <p:nvPr/>
        </p:nvSpPr>
        <p:spPr>
          <a:xfrm>
            <a:off x="395280" y="5734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uando uno no halla la tranquilidad en si mismo, es inútil que la busques en otra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69c"/>
            </a:gs>
            <a:gs pos="100000">
              <a:srgbClr val="443a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HP_Administrator\Desktop\Birds\41250554.DSC_7725sm.jpg"/>
          <p:cNvPicPr/>
          <p:nvPr/>
        </p:nvPicPr>
        <p:blipFill>
          <a:blip r:embed="rId1"/>
          <a:stretch/>
        </p:blipFill>
        <p:spPr>
          <a:xfrm>
            <a:off x="1219320" y="390600"/>
            <a:ext cx="6583320" cy="4983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5" name="Text Box 3"/>
          <p:cNvSpPr/>
          <p:nvPr/>
        </p:nvSpPr>
        <p:spPr>
          <a:xfrm>
            <a:off x="228600" y="5702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uando un hombre tiene voluntad y entusiasmo, los dioses son sus al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2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HP_Administrator\Desktop\Birds\48147701.IMG_7084.jpg"/>
          <p:cNvPicPr/>
          <p:nvPr/>
        </p:nvPicPr>
        <p:blipFill>
          <a:blip r:embed="rId1"/>
          <a:stretch/>
        </p:blipFill>
        <p:spPr>
          <a:xfrm>
            <a:off x="1295280" y="333360"/>
            <a:ext cx="6583320" cy="493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457200" y="5702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osas visibles tienen su tiempo, las invisibles son e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HP_Administrator\Desktop\Birds\25875000.jpg"/>
          <p:cNvPicPr/>
          <p:nvPr/>
        </p:nvPicPr>
        <p:blipFill>
          <a:blip r:embed="rId1"/>
          <a:stretch/>
        </p:blipFill>
        <p:spPr>
          <a:xfrm>
            <a:off x="971640" y="404640"/>
            <a:ext cx="7122960" cy="4997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4" name="Text Box 3"/>
          <p:cNvSpPr/>
          <p:nvPr/>
        </p:nvSpPr>
        <p:spPr>
          <a:xfrm>
            <a:off x="539640" y="5516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es la recompensa lo que eleva el alma, sino el esfuerzo que ha costado esa recompens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8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HP_Administrator\Desktop\Birds\43758092.IMG_9468.jpg"/>
          <p:cNvPicPr/>
          <p:nvPr/>
        </p:nvPicPr>
        <p:blipFill>
          <a:blip r:embed="rId1"/>
          <a:stretch/>
        </p:blipFill>
        <p:spPr>
          <a:xfrm>
            <a:off x="762120" y="533520"/>
            <a:ext cx="4378320" cy="576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5796000" y="206064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amor comienza cuando una persona siente que las necesidades de otra son tan importantes como las suy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48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HP_Administrator\Desktop\Birds\48735073.IMG_7075.jpg"/>
          <p:cNvPicPr/>
          <p:nvPr/>
        </p:nvPicPr>
        <p:blipFill>
          <a:blip r:embed="rId1"/>
          <a:stretch/>
        </p:blipFill>
        <p:spPr>
          <a:xfrm>
            <a:off x="1295280" y="333360"/>
            <a:ext cx="6583320" cy="493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1" name="Text Box 3"/>
          <p:cNvSpPr/>
          <p:nvPr/>
        </p:nvSpPr>
        <p:spPr>
          <a:xfrm>
            <a:off x="1255680" y="5702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quieres oir cantar a tu alma, haz el silencio a tu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45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HP_Administrator\Desktop\Birds\Animals - Genera6.jpg"/>
          <p:cNvPicPr/>
          <p:nvPr/>
        </p:nvPicPr>
        <p:blipFill>
          <a:blip r:embed="rId1"/>
          <a:stretch/>
        </p:blipFill>
        <p:spPr>
          <a:xfrm>
            <a:off x="3886200" y="533520"/>
            <a:ext cx="4594320" cy="576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324000" y="270828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do el mundo quiere un amigo, pero nadie se ocupa de se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46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HP_Administrator\Desktop\Birds\Animals - General.jpg"/>
          <p:cNvPicPr/>
          <p:nvPr/>
        </p:nvPicPr>
        <p:blipFill>
          <a:blip r:embed="rId1"/>
          <a:stretch/>
        </p:blipFill>
        <p:spPr>
          <a:xfrm>
            <a:off x="1295280" y="333360"/>
            <a:ext cx="6583320" cy="493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5" name="Text Box 3"/>
          <p:cNvSpPr/>
          <p:nvPr/>
        </p:nvSpPr>
        <p:spPr>
          <a:xfrm>
            <a:off x="366840" y="5775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permitas jamás que alguien llegue a ti sin dejarle ir mejor y más fel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HP_Administrator\Desktop\Birds\Animals - General2.jpg"/>
          <p:cNvPicPr/>
          <p:nvPr/>
        </p:nvPicPr>
        <p:blipFill>
          <a:blip r:embed="rId1"/>
          <a:stretch/>
        </p:blipFill>
        <p:spPr>
          <a:xfrm>
            <a:off x="1295280" y="333360"/>
            <a:ext cx="6583320" cy="493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539640" y="5702400"/>
            <a:ext cx="80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hablar distrae. El callar y obrar recoge y da fuerza al espír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HP_Administrator\Desktop\Birds\Animals - General5.jpg"/>
          <p:cNvPicPr/>
          <p:nvPr/>
        </p:nvPicPr>
        <p:blipFill>
          <a:blip r:embed="rId1"/>
          <a:stretch/>
        </p:blipFill>
        <p:spPr>
          <a:xfrm>
            <a:off x="1219320" y="333360"/>
            <a:ext cx="6583320" cy="493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9" name="Text Box 3"/>
          <p:cNvSpPr/>
          <p:nvPr/>
        </p:nvSpPr>
        <p:spPr>
          <a:xfrm>
            <a:off x="539640" y="5661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yudar en los asuntos de los demás, no quiere decir que debamos meter la nariz en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7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HP_Administrator\Desktop\Birds\Animals - General8.jpg"/>
          <p:cNvPicPr/>
          <p:nvPr/>
        </p:nvPicPr>
        <p:blipFill>
          <a:blip r:embed="rId1"/>
          <a:stretch/>
        </p:blipFill>
        <p:spPr>
          <a:xfrm>
            <a:off x="0" y="404640"/>
            <a:ext cx="5219640" cy="3672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1" name="Text Box 3"/>
          <p:cNvSpPr/>
          <p:nvPr/>
        </p:nvSpPr>
        <p:spPr>
          <a:xfrm>
            <a:off x="3348000" y="134136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é bello puede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día cuando la bon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ha ilu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53000"/>
            <a:ext cx="9144000" cy="187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Hoy </a:t>
            </a:r>
            <a:fld id="{2D593D32-D178-49F9-9990-A07A37DFE1AA}" type="datetime2"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jueves 30 de julio de 2026</a:t>
            </a:fld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A las </a:t>
            </a:r>
            <a:fld id="{170E8E3E-9043-4879-A01E-646D2D069380}" type="datetime13"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03:06:50 p. m.</a:t>
            </a:fld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¡ Te deseo que ten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s-MX" sz="2000" spc="-1" strike="noStrike">
                <a:solidFill>
                  <a:srgbClr val="ffffff"/>
                </a:solidFill>
                <a:latin typeface="Comic Sans MS"/>
              </a:rPr>
              <a:t>UN HERMOSO DÍA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41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HP_Administrator\Desktop\Birds\27837693.jpg"/>
          <p:cNvPicPr/>
          <p:nvPr/>
        </p:nvPicPr>
        <p:blipFill>
          <a:blip r:embed="rId1"/>
          <a:stretch/>
        </p:blipFill>
        <p:spPr>
          <a:xfrm>
            <a:off x="826920" y="333360"/>
            <a:ext cx="7417080" cy="4991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6" name="Text Box 3"/>
          <p:cNvSpPr/>
          <p:nvPr/>
        </p:nvSpPr>
        <p:spPr>
          <a:xfrm>
            <a:off x="304920" y="5559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talla de tu cuerpo cuenta poco, la de tu cerebro cuenta mucho pero, sobre todo cuenta la de tu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51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HP_Administrator\Desktop\Birds\27837695.jpg"/>
          <p:cNvPicPr/>
          <p:nvPr/>
        </p:nvPicPr>
        <p:blipFill>
          <a:blip r:embed="rId1"/>
          <a:stretch/>
        </p:blipFill>
        <p:spPr>
          <a:xfrm>
            <a:off x="4500720" y="333360"/>
            <a:ext cx="4182840" cy="6294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8" name="Text Box 3"/>
          <p:cNvSpPr/>
          <p:nvPr/>
        </p:nvSpPr>
        <p:spPr>
          <a:xfrm>
            <a:off x="406440" y="1700280"/>
            <a:ext cx="3733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vida debe enriquecerse con muchas amistades, ya que la mayor felicidad es amar y ser amado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41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HP_Administrator\Desktop\Birds\28055778.jpg"/>
          <p:cNvPicPr/>
          <p:nvPr/>
        </p:nvPicPr>
        <p:blipFill>
          <a:blip r:embed="rId1"/>
          <a:stretch/>
        </p:blipFill>
        <p:spPr>
          <a:xfrm>
            <a:off x="4149720" y="419040"/>
            <a:ext cx="4525920" cy="6034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324000" y="1989000"/>
            <a:ext cx="30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s palabras amables pueden ser cortas y fáciles de decir, pues ellas resuenan hasta e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HP_Administrator\Desktop\Birds\28875419.IMG_1342.jpg"/>
          <p:cNvPicPr/>
          <p:nvPr/>
        </p:nvPicPr>
        <p:blipFill>
          <a:blip r:embed="rId1"/>
          <a:stretch/>
        </p:blipFill>
        <p:spPr>
          <a:xfrm>
            <a:off x="3505320" y="620640"/>
            <a:ext cx="5344920" cy="5523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2" name="Text Box 3"/>
          <p:cNvSpPr/>
          <p:nvPr/>
        </p:nvSpPr>
        <p:spPr>
          <a:xfrm>
            <a:off x="468360" y="270828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temas a los amigos que te atacan, teme a los amigos que te ad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37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HP_Administrator\Desktop\Birds\29679089.swans.jpg"/>
          <p:cNvPicPr/>
          <p:nvPr/>
        </p:nvPicPr>
        <p:blipFill>
          <a:blip r:embed="rId1"/>
          <a:stretch/>
        </p:blipFill>
        <p:spPr>
          <a:xfrm>
            <a:off x="652320" y="692280"/>
            <a:ext cx="7952040" cy="4773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4" name="Text Box 3"/>
          <p:cNvSpPr/>
          <p:nvPr/>
        </p:nvSpPr>
        <p:spPr>
          <a:xfrm>
            <a:off x="826920" y="5734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 grandes éxitos se logran siempre convirtiendo en ventajas las 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7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HP_Administrator\Desktop\Birds\30077288.jpg"/>
          <p:cNvPicPr/>
          <p:nvPr/>
        </p:nvPicPr>
        <p:blipFill>
          <a:blip r:embed="rId1"/>
          <a:stretch/>
        </p:blipFill>
        <p:spPr>
          <a:xfrm>
            <a:off x="4510080" y="419040"/>
            <a:ext cx="4525920" cy="6034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468360" y="2924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momento de ser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eliz, es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20:43:22Z</dcterms:created>
  <dc:creator>User</dc:creator>
  <dc:description/>
  <dc:language>en-US</dc:language>
  <cp:lastModifiedBy>Sylvia</cp:lastModifiedBy>
  <dcterms:modified xsi:type="dcterms:W3CDTF">2008-09-30T21:42:42Z</dcterms:modified>
  <cp:revision>16</cp:revision>
  <dc:subject/>
  <dc:title>Diapositiva 1</dc:title>
</cp:coreProperties>
</file>