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Enya%20&amp;%20Yanni%20Dance%20with%20the%20wolves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C8A-9875-49EC-994F-1EDDEB90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CF1-68F9-46F7-980A-54E81C73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813-1DA7-42F0-821C-24FA6675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AF5-AF02-4383-85F8-896BF4FE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E2F-F7D4-48E6-B1A1-C087E6E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E79-D978-4278-80AC-A20CD771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AAF-C2B5-460B-97B0-0F7E3778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B22-F9FF-46D7-8780-1754D3A4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85B-8FF7-45E6-ABED-43C552C5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FFE-2844-4D34-86EA-529F8A8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92D-6169-4F5A-9BA9-8722BB9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8EC-1CA6-4BC3-96D8-8A2A5D60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ace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8280" y="619128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nya%20&amp;%20Yanni%20Dance%20with%20the%20wolv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981000"/>
            <a:ext cx="71992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Yo tem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762600" cy="4079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Enya%20&amp;%20Yanni%20Dance%20with%20the%20wolv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53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aprendí a reírme de mi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al ridículo,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8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64240" cy="424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1280" y="5300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comprendí que ganab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sabiduría día a d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hacerme viejo,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92600" cy="4194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9960" y="1177920"/>
            <a:ext cx="771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5960" y="5334120"/>
            <a:ext cx="87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comprendí que no podía herirme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al pasado, hasta que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75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33520" y="5408640"/>
            <a:ext cx="65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vi la belleza de la luz de una estr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62064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a la oscuridad,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900"/>
                            </p:stCondLst>
                            <p:childTnLst>
                              <p:par>
                                <p:cTn id="2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375520" cy="403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838080"/>
            <a:ext cx="84582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al cambio, hasta que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50846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vi que aún la mariposa más hermosa, necesitaba pasar por una metamorfosis antes de v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8280" y="619128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75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3280" y="4941720"/>
            <a:ext cx="66261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Hagamos que nuestras vidas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en cada día tengan más vida,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y si nos sentimos desfallecer...</a:t>
            </a: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8280" y="619128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307280" y="333360"/>
            <a:ext cx="1836720" cy="6103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62200" y="328464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siempre hay algo más..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.. no olvidemos que al final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900"/>
                            </p:stCondLst>
                            <p:childTnLst>
                              <p:par>
                                <p:cTn id="2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350"/>
                            </p:stCondLst>
                            <p:childTnLst>
                              <p:par>
                                <p:cTn id="2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ve tu vida sin tem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772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mazone BT"/>
              </a:rPr>
              <a:t>No temas que al final siempre está Dios, que te am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mazone BT"/>
              </a:rPr>
              <a:t>Que Dios te bendig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0000" y="1233360"/>
            <a:ext cx="5446800" cy="408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39800" y="5300640"/>
            <a:ext cx="60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aprendí a quererme a mi mismo.</a:t>
            </a: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estar solo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0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5230800" cy="3922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fracasar hasta qu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501336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me di cuenta que, únicamente fracaso si no lo int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8280" y="619128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50"/>
                            </p:stCondLst>
                            <p:childTnLst>
                              <p:par>
                                <p:cTn id="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4943520" cy="3708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3341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me di cuenta que, de to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modos opinarían de mi.</a:t>
            </a: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lo que la gente opinara de mí,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45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5486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entendí que debía tener fe en mi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836640"/>
            <a:ext cx="807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que me rechazaran,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19880" cy="414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5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448240" cy="408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765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al dolor,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51814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aprendí que éste es neces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para cre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8280" y="6191280"/>
            <a:ext cx="66384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85720" y="544500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descubrí la fealdad de las menti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a la verdad,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727880" cy="354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5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5334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aprendí que no es el fi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sino más bien el comien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a la muerte,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159520" cy="387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5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6240600" cy="468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5516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...me di cuenta que no es otra cosa más que “IGNORA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  <a:ea typeface="Tahoma"/>
              </a:rPr>
              <a:t>Temía  al odio, hasta qu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00"/>
                            </p:stCondLst>
                            <p:childTnLst>
                              <p:par>
                                <p:cTn id="1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nrique Salazar Ruiz</dc:creator>
  <dc:description/>
  <dc:language>en-US</dc:language>
  <cp:lastModifiedBy>Mauricio</cp:lastModifiedBy>
  <dcterms:modified xsi:type="dcterms:W3CDTF">2007-11-08T18:22:07Z</dcterms:modified>
  <cp:revision>1</cp:revision>
  <dc:subject/>
  <dc:title>Presentación de PowerPoint</dc:title>
</cp:coreProperties>
</file>