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EC7-62CA-4B78-B5F5-2D16F98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3B2-E688-4835-B273-E8794BD5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F7A-D994-4F87-907A-0862810A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65A-1229-495B-885A-6AE525C5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E9F-9CA1-4E7E-A420-25E58AB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3FB-FA13-4A52-8B95-7304690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E6C-4C4F-4D42-AB4E-AAF2B1C5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2DB-07FB-47BE-934B-F7D971D3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8B3-D2CA-415C-851D-5D6FE04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DB0-C587-480E-A5A0-7CDEA23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77C-B82D-4029-8F7D-6B9693A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FC3-B0B3-47A5-96BD-6EAB2BD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E5D-E81C-409D-B94D-2837FB79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14400"/>
            <a:ext cx="73915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¡¡¡ sacúdete 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8200" y="457200"/>
            <a:ext cx="853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Un día el burro de un campesino 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ayó en un poz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l animal lloró fuertemente por hora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mientras el campesino trata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de sacarlo sin éxi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burro%20mexicano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20" y="-50760"/>
            <a:ext cx="9525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Finalmente el campesino decidió que el 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ya estaba viejo, el pozo estaba seco, y necesita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ser tapado de todas formas y que realmente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valía la pena sacar al bur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vitó a todos sus vecinos para que vinie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 ayudar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odos tomaron una pa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y empezaron a tir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erra al poz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l burro se dio cuent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lo que estaba pas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y lloró desconsoladam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burro%20saliendo" descr=""/>
          <p:cNvPicPr/>
          <p:nvPr/>
        </p:nvPicPr>
        <p:blipFill>
          <a:blip r:embed="rId1"/>
          <a:stretch/>
        </p:blipFill>
        <p:spPr>
          <a:xfrm>
            <a:off x="4495680" y="3179880"/>
            <a:ext cx="46483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0" y="0"/>
            <a:ext cx="952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Luego, para la sorpresa de todos, se tranquiliz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spués de unas cuantas paladas de tierra, 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ampesino Finalmente miró al fondo del poz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y se sorprendió de lo que vio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 cada palada de tierra, el burro esta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haciendo una cosa increí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Se sacudía la tierra y daba un pa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hacia arriba .... Mien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los vecinos seguí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chando tierra enc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l animal, él se sacud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y daba un paso más arri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burro%20recibido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320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0" y="-50760"/>
            <a:ext cx="879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nto todo el mundo vio sorprendido co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l burro llegó Hasta la boca del pozo, pas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or encima del borde y salió trotando .,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00" y="2057400"/>
            <a:ext cx="54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La vida va a tirarte tierr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odo tipo de tierr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l truco para salirse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ozo es sacudírsela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ar un paso hacia arrib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ada uno de nuest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blemas es un escal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hacia arri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burro%20paseando" descr=""/>
          <p:cNvPicPr/>
          <p:nvPr/>
        </p:nvPicPr>
        <p:blipFill>
          <a:blip r:embed="rId1"/>
          <a:stretch/>
        </p:blipFill>
        <p:spPr>
          <a:xfrm>
            <a:off x="5181480" y="202716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9760" y="304920"/>
            <a:ext cx="78404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Times New Roman"/>
              </a:rPr>
              <a:t>Recordar las seis regl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5400" spc="-1" strike="noStrike">
                <a:solidFill>
                  <a:srgbClr val="3333cc"/>
                </a:solidFill>
                <a:latin typeface="Times New Roman"/>
              </a:rPr>
              <a:t>para ser feliz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1 – Liberar el corazón del od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2 – Liberar la men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de preocup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3 – Vivir sencillam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4 – Dar má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5 – Esperar men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Lucida Sans"/>
              </a:rPr>
              <a:t>6 – tener esperan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0080" y="154080"/>
            <a:ext cx="8140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Lucida Sans"/>
              </a:rPr>
              <a:t>Disfruta la vida 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ff"/>
                </a:solidFill>
                <a:latin typeface="Arriba Arriba LET"/>
              </a:rPr>
              <a:t>¡¡¡  SACÚDETE  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burro%20beso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962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2:19:23Z</dcterms:created>
  <dc:creator>USUARIO</dc:creator>
  <dc:description/>
  <dc:language>en-US</dc:language>
  <cp:lastModifiedBy>USUARIO</cp:lastModifiedBy>
  <dcterms:modified xsi:type="dcterms:W3CDTF">2004-10-11T22:20:01Z</dcterms:modified>
  <cp:revision>1</cp:revision>
  <dc:subject/>
  <dc:title>Presentación de PowerPoint</dc:title>
</cp:coreProperties>
</file>