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deRosyEnioMoriconeGabrielsOboe.wav" ContentType="audio/x-wav"/>
  <Override PartName="/ppt/media/image4.jpeg" ContentType="image/jpeg"/>
  <Override PartName="/ppt/media/image22.gif" ContentType="image/gif"/>
  <Override PartName="/ppt/media/image25.jpeg" ContentType="image/jpeg"/>
  <Override PartName="/ppt/media/image3.gif" ContentType="image/gif"/>
  <Override PartName="/ppt/media/image12.jpeg" ContentType="image/jpeg"/>
  <Override PartName="/ppt/media/image13.png" ContentType="image/png"/>
  <Override PartName="/ppt/media/image24.jpeg" ContentType="image/jpeg"/>
  <Override PartName="/ppt/media/image1.jpeg" ContentType="image/jpeg"/>
  <Override PartName="/ppt/media/image11.png" ContentType="image/png"/>
  <Override PartName="/ppt/media/image19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8442-666A-4436-A773-781F7BD06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D56D-D5CF-45F6-9F01-635FDED3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37D1-7717-4DAD-B76D-E457C00D8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E096-867B-48F3-A82A-0E07DCDE0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356D-3073-424A-B58B-65B47974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6DBE-3240-44B2-BFF2-BD5156B2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D47B-95A5-485D-B39C-617631E6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42D2-9DB6-4BB9-A319-8C75994F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B5C5-ACBD-4AA2-931E-D3CB0C13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F2E2-37A1-4BD2-805F-BAD412E5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DE23-3C39-414E-883F-9F8FCEE9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AFE6-9091-49CF-A528-03165EC6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64CB-C493-4CB5-ADEF-E1B52C92320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audio" Target="../media/deRosyEnioMoriconeGabrielsOboe.wav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humanismonuevaconciencia.com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Nebula_RCW49_04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estrella animada 4"/>
          <p:cNvPicPr/>
          <p:nvPr/>
        </p:nvPicPr>
        <p:blipFill>
          <a:blip r:embed="rId2"/>
          <a:stretch/>
        </p:blipFill>
        <p:spPr>
          <a:xfrm>
            <a:off x="304920" y="29908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estrella animada 5"/>
          <p:cNvPicPr/>
          <p:nvPr/>
        </p:nvPicPr>
        <p:blipFill>
          <a:blip r:embed="rId3"/>
          <a:stretch/>
        </p:blipFill>
        <p:spPr>
          <a:xfrm>
            <a:off x="2124000" y="5734080"/>
            <a:ext cx="228600" cy="206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estrella animada 5"/>
          <p:cNvPicPr/>
          <p:nvPr/>
        </p:nvPicPr>
        <p:blipFill>
          <a:blip r:embed="rId4"/>
          <a:stretch/>
        </p:blipFill>
        <p:spPr>
          <a:xfrm>
            <a:off x="8675640" y="3936960"/>
            <a:ext cx="211320" cy="212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estrella animada 5"/>
          <p:cNvPicPr/>
          <p:nvPr/>
        </p:nvPicPr>
        <p:blipFill>
          <a:blip r:embed="rId5"/>
          <a:stretch/>
        </p:blipFill>
        <p:spPr>
          <a:xfrm>
            <a:off x="5940360" y="4581360"/>
            <a:ext cx="228600" cy="206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estrella animada 5"/>
          <p:cNvPicPr/>
          <p:nvPr/>
        </p:nvPicPr>
        <p:blipFill>
          <a:blip r:embed="rId6"/>
          <a:stretch/>
        </p:blipFill>
        <p:spPr>
          <a:xfrm>
            <a:off x="8388360" y="6453360"/>
            <a:ext cx="228600" cy="206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estrella animada 5"/>
          <p:cNvPicPr/>
          <p:nvPr/>
        </p:nvPicPr>
        <p:blipFill>
          <a:blip r:embed="rId7"/>
          <a:stretch/>
        </p:blipFill>
        <p:spPr>
          <a:xfrm>
            <a:off x="8172360" y="333360"/>
            <a:ext cx="228600" cy="206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estrella animada 4"/>
          <p:cNvPicPr/>
          <p:nvPr/>
        </p:nvPicPr>
        <p:blipFill>
          <a:blip r:embed="rId8"/>
          <a:stretch/>
        </p:blipFill>
        <p:spPr>
          <a:xfrm>
            <a:off x="6588000" y="630864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estrella animada 4"/>
          <p:cNvPicPr/>
          <p:nvPr/>
        </p:nvPicPr>
        <p:blipFill>
          <a:blip r:embed="rId9"/>
          <a:stretch/>
        </p:blipFill>
        <p:spPr>
          <a:xfrm>
            <a:off x="7812000" y="162864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50" name="WordArt 13"/>
          <p:cNvSpPr txBox="1"/>
          <p:nvPr/>
        </p:nvSpPr>
        <p:spPr>
          <a:xfrm>
            <a:off x="4143240" y="3489480"/>
            <a:ext cx="41752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d1d1f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Universal</a:t>
            </a:r>
            <a:endParaRPr b="0" lang="en-US" sz="1800" spc="1" strike="noStrike">
              <a:ln w="38160">
                <a:solidFill>
                  <a:srgbClr val="d1d1f0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14"/>
          <p:cNvSpPr txBox="1"/>
          <p:nvPr/>
        </p:nvSpPr>
        <p:spPr>
          <a:xfrm>
            <a:off x="1214280" y="1486080"/>
            <a:ext cx="47530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d1d1f0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a Energía</a:t>
            </a:r>
            <a:endParaRPr b="0" lang="en-US" sz="1800" spc="1" strike="noStrike">
              <a:ln w="38160">
                <a:solidFill>
                  <a:srgbClr val="d1d1f0"/>
                </a:solidFill>
                <a:miter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randomBar dir="vert"/>
    <p:sndAc>
      <p:stSnd>
        <p:snd r:embed="rId14" name="deRosyEnioMoriconeGabrielsObo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755640" y="115920"/>
            <a:ext cx="78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Es la limitada capacidad de percepción humana </a:t>
            </a:r>
            <a:br>
              <a:rPr sz="2400"/>
            </a:b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la que traza los límites, al captar sólo u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pequeña parte de la total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1116000" y="1438200"/>
            <a:ext cx="7056360" cy="515952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</p:spTree>
  </p:cSld>
  <p:transition>
    <p:randomBar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jp"/>
          <p:cNvPicPr/>
          <p:nvPr/>
        </p:nvPicPr>
        <p:blipFill>
          <a:blip r:embed="rId1"/>
          <a:stretch/>
        </p:blipFill>
        <p:spPr>
          <a:xfrm>
            <a:off x="1332000" y="1197000"/>
            <a:ext cx="6408720" cy="51530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250920" y="18900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Tanto lo denso como lo que resulta imperceptible, </a:t>
            </a:r>
            <a:br>
              <a:rPr sz="2400"/>
            </a:b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se encuentra regulado por continuos movimi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71280" y="11592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La energía sutil, el alma o la humanidad inherente no se ven. </a:t>
            </a:r>
            <a:br>
              <a:rPr sz="2000"/>
            </a:b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Eso no quiere decir que no exi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Alas%20alma"/>
          <p:cNvPicPr/>
          <p:nvPr/>
        </p:nvPicPr>
        <p:blipFill>
          <a:blip r:embed="rId1"/>
          <a:stretch/>
        </p:blipFill>
        <p:spPr>
          <a:xfrm>
            <a:off x="973080" y="990720"/>
            <a:ext cx="6767640" cy="56563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jp"/>
          <p:cNvPicPr/>
          <p:nvPr/>
        </p:nvPicPr>
        <p:blipFill>
          <a:blip r:embed="rId1"/>
          <a:stretch/>
        </p:blipFill>
        <p:spPr>
          <a:xfrm>
            <a:off x="165240" y="1268280"/>
            <a:ext cx="8893080" cy="55641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0" y="810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Dicha energía puede ser percibida en cada acción ejecutada, </a:t>
            </a:r>
            <a:br>
              <a:rPr sz="2000"/>
            </a:b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en cada pensamiento, en cada palabra, así como también </a:t>
            </a:r>
            <a:br>
              <a:rPr sz="2000"/>
            </a:b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en cada sentimiento y en cada emo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8100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Por ejemplo, cuando una persona es compasiva o generosa </a:t>
            </a:r>
            <a:br>
              <a:rPr sz="2000"/>
            </a:b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con otra, generalmente no pregona que está manifestando </a:t>
            </a:r>
            <a:br>
              <a:rPr sz="2000"/>
            </a:b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esas virtudes, y menos se coloca un letrero o cartel, </a:t>
            </a:r>
            <a:br>
              <a:rPr sz="2000"/>
            </a:b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para que los demás entiendan que las está expresa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Colorados-Navidad-2%208"/>
          <p:cNvPicPr/>
          <p:nvPr/>
        </p:nvPicPr>
        <p:blipFill>
          <a:blip r:embed="rId1"/>
          <a:stretch/>
        </p:blipFill>
        <p:spPr>
          <a:xfrm>
            <a:off x="1619280" y="1700280"/>
            <a:ext cx="5977080" cy="504504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4"/>
          <p:cNvGrpSpPr/>
          <p:nvPr/>
        </p:nvGrpSpPr>
        <p:grpSpPr>
          <a:xfrm>
            <a:off x="2513160" y="2781000"/>
            <a:ext cx="936360" cy="1006920"/>
            <a:chOff x="2513160" y="2781000"/>
            <a:chExt cx="936360" cy="1006920"/>
          </a:xfrm>
        </p:grpSpPr>
        <p:pic>
          <p:nvPicPr>
            <p:cNvPr id="96" name="Picture 5" descr=""/>
            <p:cNvPicPr/>
            <p:nvPr/>
          </p:nvPicPr>
          <p:blipFill>
            <a:blip r:embed="rId2"/>
            <a:stretch/>
          </p:blipFill>
          <p:spPr>
            <a:xfrm>
              <a:off x="2513160" y="3427560"/>
              <a:ext cx="93636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Line 6"/>
            <p:cNvSpPr/>
            <p:nvPr/>
          </p:nvSpPr>
          <p:spPr>
            <a:xfrm flipV="1">
              <a:off x="2700360" y="2781000"/>
              <a:ext cx="7128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7"/>
            <p:cNvSpPr/>
            <p:nvPr/>
          </p:nvSpPr>
          <p:spPr>
            <a:xfrm flipH="1" flipV="1">
              <a:off x="3231720" y="3112560"/>
              <a:ext cx="73080" cy="3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jp"/>
          <p:cNvPicPr/>
          <p:nvPr/>
        </p:nvPicPr>
        <p:blipFill>
          <a:blip r:embed="rId1"/>
          <a:stretch/>
        </p:blipFill>
        <p:spPr>
          <a:xfrm>
            <a:off x="1187280" y="1590840"/>
            <a:ext cx="6769440" cy="51512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36360" y="8100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Tampoco puede comprarlas en un frasco, en una bolsa, por litros </a:t>
            </a:r>
            <a:br>
              <a:rPr sz="2000"/>
            </a:b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o por kilos en la tienda, en el supermercado, en la farmacia, </a:t>
            </a:r>
            <a:br>
              <a:rPr sz="2000"/>
            </a:b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en un centro comercial o en la estación de servicios, </a:t>
            </a:r>
            <a:br>
              <a:rPr sz="2000"/>
            </a:b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para utilizarlas cuando las necesi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684360" y="106200"/>
            <a:ext cx="79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Las personas sólo las sienten, las manifiestan, </a:t>
            </a:r>
            <a:br>
              <a:rPr sz="2400"/>
            </a:b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las vivencian y las experiment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jp"/>
          <p:cNvPicPr/>
          <p:nvPr/>
        </p:nvPicPr>
        <p:blipFill>
          <a:blip r:embed="rId1"/>
          <a:stretch/>
        </p:blipFill>
        <p:spPr>
          <a:xfrm>
            <a:off x="1763640" y="981000"/>
            <a:ext cx="6048360" cy="57927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17604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El que se beneficia con esas cualidades humanas, </a:t>
            </a:r>
            <a:br>
              <a:rPr sz="2000"/>
            </a:b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generalmente las reconoce, a través de cada gesto, sentimiento, </a:t>
            </a:r>
            <a:br>
              <a:rPr sz="2000"/>
            </a:b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emoción o palabra; y quienes observan u oyen, las perciben </a:t>
            </a:r>
            <a:br>
              <a:rPr sz="2000"/>
            </a:b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sin necesidad de alguna expl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jp"/>
          <p:cNvPicPr/>
          <p:nvPr/>
        </p:nvPicPr>
        <p:blipFill>
          <a:blip r:embed="rId1"/>
          <a:stretch/>
        </p:blipFill>
        <p:spPr>
          <a:xfrm>
            <a:off x="1908000" y="1700280"/>
            <a:ext cx="5034240" cy="51577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38040" y="189000"/>
            <a:ext cx="8494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Entonces, si la compasión y la generosidad </a:t>
            </a:r>
            <a:br>
              <a:rPr sz="2000"/>
            </a:b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no se pueden ver en forma de objetos, </a:t>
            </a:r>
            <a:br>
              <a:rPr sz="2000"/>
            </a:b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¿cómo los seres humanos pueden entender su existenci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3"/>
          <p:cNvSpPr txBox="1"/>
          <p:nvPr/>
        </p:nvSpPr>
        <p:spPr>
          <a:xfrm>
            <a:off x="2411280" y="1413000"/>
            <a:ext cx="4608720" cy="48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cc"/>
                </a:solidFill>
                <a:latin typeface="Times New Roman"/>
              </a:rPr>
              <a:t>?</a:t>
            </a:r>
            <a:endParaRPr b="0" lang="en-US" sz="1800" spc="1" strike="noStrike">
              <a:ln w="0">
                <a:noFill/>
              </a:ln>
              <a:solidFill>
                <a:srgbClr val="3366cc"/>
              </a:solidFill>
              <a:latin typeface="Times New Roman"/>
              <a:ea typeface="Times New Roman"/>
            </a:endParaRPr>
          </a:p>
        </p:txBody>
      </p:sp>
    </p:spTree>
  </p:cSld>
  <p:transition>
    <p:randomBar dir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2914560" y="216000"/>
            <a:ext cx="6553080" cy="6858000"/>
            <a:chOff x="2914560" y="216000"/>
            <a:chExt cx="6553080" cy="6858000"/>
          </a:xfrm>
        </p:grpSpPr>
        <p:pic>
          <p:nvPicPr>
            <p:cNvPr id="108" name="Picture 3" descr="chakras"/>
            <p:cNvPicPr/>
            <p:nvPr/>
          </p:nvPicPr>
          <p:blipFill>
            <a:blip r:embed="rId1"/>
            <a:stretch/>
          </p:blipFill>
          <p:spPr>
            <a:xfrm>
              <a:off x="3419280" y="405000"/>
              <a:ext cx="5977080" cy="666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" descr=""/>
            <p:cNvPicPr/>
            <p:nvPr/>
          </p:nvPicPr>
          <p:blipFill>
            <a:blip r:embed="rId2"/>
            <a:stretch/>
          </p:blipFill>
          <p:spPr>
            <a:xfrm>
              <a:off x="2914560" y="216000"/>
              <a:ext cx="63007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Oval 5"/>
            <p:cNvSpPr/>
            <p:nvPr/>
          </p:nvSpPr>
          <p:spPr>
            <a:xfrm>
              <a:off x="4067280" y="620640"/>
              <a:ext cx="4824360" cy="6120000"/>
            </a:xfrm>
            <a:prstGeom prst="ellipse">
              <a:avLst/>
            </a:prstGeom>
            <a:noFill/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6"/>
            <p:cNvSpPr/>
            <p:nvPr/>
          </p:nvSpPr>
          <p:spPr>
            <a:xfrm>
              <a:off x="9072360" y="216000"/>
              <a:ext cx="395280" cy="6858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 Box 7"/>
          <p:cNvSpPr/>
          <p:nvPr/>
        </p:nvSpPr>
        <p:spPr>
          <a:xfrm>
            <a:off x="179280" y="522360"/>
            <a:ext cx="38196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La compasión y </a:t>
            </a:r>
            <a:br>
              <a:rPr sz="2000"/>
            </a:b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la generosidad, </a:t>
            </a:r>
            <a:br>
              <a:rPr sz="2000"/>
            </a:b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o cualquier otra virtud </a:t>
            </a:r>
            <a:br>
              <a:rPr sz="2000"/>
            </a:b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al ser expresada, </a:t>
            </a:r>
            <a:br>
              <a:rPr sz="2000"/>
            </a:b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las partículas que conforman las energías humanas inherentes </a:t>
            </a:r>
            <a:br>
              <a:rPr sz="2000"/>
            </a:b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se ordenan y </a:t>
            </a:r>
            <a:br>
              <a:rPr sz="2000"/>
            </a:b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se reordenan según ciertos patrones imperceptibles, </a:t>
            </a:r>
            <a:br>
              <a:rPr sz="2000"/>
            </a:b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los cuales sólo pueden </a:t>
            </a:r>
            <a:br>
              <a:rPr sz="2000"/>
            </a:b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ser captados  </a:t>
            </a:r>
            <a:br>
              <a:rPr sz="2000"/>
            </a:b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por los sentidos </a:t>
            </a:r>
            <a:br>
              <a:rPr sz="2000"/>
            </a:b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e interpretados </a:t>
            </a:r>
            <a:br>
              <a:rPr sz="2000"/>
            </a:b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por la mente y/o </a:t>
            </a:r>
            <a:br>
              <a:rPr sz="2000"/>
            </a:b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por su capacidad </a:t>
            </a:r>
            <a:br>
              <a:rPr sz="2000"/>
            </a:b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de discern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j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556000" y="71280"/>
            <a:ext cx="468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Arial"/>
              </a:rPr>
              <a:t>La Energía es una sol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258920" y="620640"/>
            <a:ext cx="727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Arial"/>
              </a:rPr>
              <a:t>Ella proviene de una fuente original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5000760" y="1477800"/>
            <a:ext cx="4035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Es la forma en que </a:t>
            </a:r>
            <a:br>
              <a:rPr sz="2000"/>
            </a:b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se han manifestado y </a:t>
            </a:r>
            <a:br>
              <a:rPr sz="2000"/>
            </a:b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se manifiestan </a:t>
            </a:r>
            <a:br>
              <a:rPr sz="2000"/>
            </a:b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las Energías Humanas, además de la forma en que se han desarrollado, fortalecido, afianzado </a:t>
            </a:r>
            <a:br>
              <a:rPr sz="2000"/>
            </a:b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y arraigado, </a:t>
            </a:r>
            <a:br>
              <a:rPr sz="2000"/>
            </a:b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las que denotan </a:t>
            </a:r>
            <a:br>
              <a:rPr sz="2000"/>
            </a:b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en realidad el carácter </a:t>
            </a:r>
            <a:br>
              <a:rPr sz="2000"/>
            </a:b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y la personalidad de </a:t>
            </a:r>
            <a:br>
              <a:rPr sz="2000"/>
            </a:b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un individu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jp"/>
          <p:cNvPicPr/>
          <p:nvPr/>
        </p:nvPicPr>
        <p:blipFill>
          <a:blip r:embed="rId1"/>
          <a:stretch/>
        </p:blipFill>
        <p:spPr>
          <a:xfrm>
            <a:off x="179280" y="260280"/>
            <a:ext cx="5172120" cy="64087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14 Imagen" descr="Solo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2"/>
          <p:cNvSpPr/>
          <p:nvPr/>
        </p:nvSpPr>
        <p:spPr>
          <a:xfrm>
            <a:off x="250920" y="142920"/>
            <a:ext cx="856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Las virtudes humanas al ser energías, no se aprenden </a:t>
            </a:r>
            <a:br>
              <a:rPr sz="2000"/>
            </a:b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ni se enseñan, ni se adquieren, ni se obtienen</a:t>
            </a:r>
            <a:br>
              <a:rPr sz="2000"/>
            </a:b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así como tampoco se pie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Ellas sólo deben ser estimuladas, activadas, manifestadas, desarrolladas, fortalecida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Estas energías, son conocidas también </a:t>
            </a:r>
            <a:br>
              <a:rPr sz="2000"/>
            </a:b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como valores humanos o cualidades posi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3 Imagen" descr="Sol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2"/>
          <p:cNvSpPr/>
          <p:nvPr/>
        </p:nvSpPr>
        <p:spPr>
          <a:xfrm>
            <a:off x="250920" y="357120"/>
            <a:ext cx="85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Pero cuando son mal utilizadas, esta tergiversación energética acompaña a quien las distorsionó  hasta que sean nuevamente llevadas a su justo equilibrio. Estas energías distorsionadas </a:t>
            </a:r>
            <a:br>
              <a:rPr sz="2000"/>
            </a:b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son conocidas como antivalores o cualidades nega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12 Imagen" descr="Universo7.JPG"/>
          <p:cNvPicPr/>
          <p:nvPr/>
        </p:nvPicPr>
        <p:blipFill>
          <a:blip r:embed="rId1"/>
          <a:stretch/>
        </p:blipFill>
        <p:spPr>
          <a:xfrm>
            <a:off x="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2"/>
          <p:cNvSpPr/>
          <p:nvPr/>
        </p:nvSpPr>
        <p:spPr>
          <a:xfrm>
            <a:off x="250920" y="2858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Es así como la totalidad del Universo </a:t>
            </a:r>
            <a:br>
              <a:rPr sz="2400"/>
            </a:b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siempre se encuentra interactuando </a:t>
            </a:r>
            <a:br>
              <a:rPr sz="2400"/>
            </a:b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con cada ente, elemento, criatura y/o perso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ManosMundo"/>
          <p:cNvPicPr/>
          <p:nvPr/>
        </p:nvPicPr>
        <p:blipFill>
          <a:blip r:embed="rId1"/>
          <a:stretch/>
        </p:blipFill>
        <p:spPr>
          <a:xfrm>
            <a:off x="900000" y="630360"/>
            <a:ext cx="8286840" cy="5994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338040" y="115920"/>
            <a:ext cx="8494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Al comprenderse ese funcionamiento y la responsabilidad energética individual que tenemos todos, es que podemos </a:t>
            </a:r>
            <a:br>
              <a:rPr sz="2000"/>
            </a:b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hacer de este mundo un Mundo Mejo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6300720" y="1363680"/>
            <a:ext cx="28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ffff"/>
                </a:solidFill>
                <a:latin typeface="Arial"/>
              </a:rPr>
              <a:t>Elizabeth Vârga Ramír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4"/>
          <p:cNvSpPr/>
          <p:nvPr/>
        </p:nvSpPr>
        <p:spPr>
          <a:xfrm>
            <a:off x="1619280" y="5857920"/>
            <a:ext cx="5689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ffff"/>
                </a:solidFill>
                <a:latin typeface="Arial"/>
              </a:rPr>
              <a:t>Si deseas recibir estos mensajes, suscribe tu correo </a:t>
            </a:r>
            <a:br>
              <a:rPr sz="1400"/>
            </a:br>
            <a:r>
              <a:rPr b="1" i="1" lang="es-ES_tradnl" sz="1400" spc="-1" strike="noStrike">
                <a:solidFill>
                  <a:srgbClr val="ffffff"/>
                </a:solidFill>
                <a:latin typeface="Arial"/>
              </a:rPr>
              <a:t>según la indicaciones de la página Web </a:t>
            </a:r>
            <a:r>
              <a:rPr b="0" lang="es-ES_tradnl" sz="1400" spc="-1" strike="noStrike" u="sng">
                <a:solidFill>
                  <a:srgbClr val="33cc33"/>
                </a:solidFill>
                <a:uFillTx/>
                <a:latin typeface="Arial"/>
                <a:hlinkClick r:id="rId2"/>
              </a:rPr>
              <a:t>www.humanismonuevaconciencia.com</a:t>
            </a:r>
            <a:r>
              <a:rPr b="1" i="1" lang="es-ES_tradnl" sz="1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6715080" y="6286680"/>
            <a:ext cx="2340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ffffff"/>
                </a:solidFill>
                <a:latin typeface="Arial"/>
              </a:rPr>
              <a:t>Diseño de imágenes y dibujos EVR</a:t>
            </a:r>
            <a:br>
              <a:rPr sz="1000"/>
            </a:br>
            <a:r>
              <a:rPr b="1" i="1" lang="es-ES_tradnl" sz="1000" spc="-1" strike="noStrike">
                <a:solidFill>
                  <a:srgbClr val="ffffff"/>
                </a:solidFill>
                <a:latin typeface="Arial"/>
              </a:rPr>
              <a:t>Fotografías de la We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380"/>
                            </p:stCondLst>
                            <p:childTnLst>
                              <p:par>
                                <p:cTn id="20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380"/>
                            </p:stCondLst>
                            <p:childTnLst>
                              <p:par>
                                <p:cTn id="2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jp"/>
          <p:cNvPicPr/>
          <p:nvPr/>
        </p:nvPicPr>
        <p:blipFill>
          <a:blip r:embed="rId1"/>
          <a:stretch/>
        </p:blipFill>
        <p:spPr>
          <a:xfrm>
            <a:off x="0" y="0"/>
            <a:ext cx="9144000" cy="6800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estrella animada 4"/>
          <p:cNvPicPr/>
          <p:nvPr/>
        </p:nvPicPr>
        <p:blipFill>
          <a:blip r:embed="rId2"/>
          <a:stretch/>
        </p:blipFill>
        <p:spPr>
          <a:xfrm>
            <a:off x="1023840" y="509904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estrella animada 5"/>
          <p:cNvPicPr/>
          <p:nvPr/>
        </p:nvPicPr>
        <p:blipFill>
          <a:blip r:embed="rId3"/>
          <a:stretch/>
        </p:blipFill>
        <p:spPr>
          <a:xfrm>
            <a:off x="395280" y="2637000"/>
            <a:ext cx="228600" cy="206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estrella animada 5"/>
          <p:cNvPicPr/>
          <p:nvPr/>
        </p:nvPicPr>
        <p:blipFill>
          <a:blip r:embed="rId4"/>
          <a:stretch/>
        </p:blipFill>
        <p:spPr>
          <a:xfrm>
            <a:off x="539640" y="4292640"/>
            <a:ext cx="228600" cy="206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estrella animada 5"/>
          <p:cNvPicPr/>
          <p:nvPr/>
        </p:nvPicPr>
        <p:blipFill>
          <a:blip r:embed="rId5"/>
          <a:stretch/>
        </p:blipFill>
        <p:spPr>
          <a:xfrm>
            <a:off x="6948360" y="4869000"/>
            <a:ext cx="228600" cy="206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estrella animada 5"/>
          <p:cNvPicPr/>
          <p:nvPr/>
        </p:nvPicPr>
        <p:blipFill>
          <a:blip r:embed="rId6"/>
          <a:stretch/>
        </p:blipFill>
        <p:spPr>
          <a:xfrm>
            <a:off x="8532720" y="260280"/>
            <a:ext cx="228600" cy="206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estrella animada 5"/>
          <p:cNvPicPr/>
          <p:nvPr/>
        </p:nvPicPr>
        <p:blipFill>
          <a:blip r:embed="rId7"/>
          <a:stretch/>
        </p:blipFill>
        <p:spPr>
          <a:xfrm>
            <a:off x="8459640" y="2276640"/>
            <a:ext cx="228600" cy="206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estrella animada 5"/>
          <p:cNvPicPr/>
          <p:nvPr/>
        </p:nvPicPr>
        <p:blipFill>
          <a:blip r:embed="rId8"/>
          <a:stretch/>
        </p:blipFill>
        <p:spPr>
          <a:xfrm>
            <a:off x="6084720" y="6453360"/>
            <a:ext cx="228600" cy="206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estrella animada 4"/>
          <p:cNvPicPr/>
          <p:nvPr/>
        </p:nvPicPr>
        <p:blipFill>
          <a:blip r:embed="rId9"/>
          <a:stretch/>
        </p:blipFill>
        <p:spPr>
          <a:xfrm>
            <a:off x="7236000" y="285264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estrella animada 4"/>
          <p:cNvPicPr/>
          <p:nvPr/>
        </p:nvPicPr>
        <p:blipFill>
          <a:blip r:embed="rId10"/>
          <a:stretch/>
        </p:blipFill>
        <p:spPr>
          <a:xfrm>
            <a:off x="395280" y="33336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estrella animada 5"/>
          <p:cNvPicPr/>
          <p:nvPr/>
        </p:nvPicPr>
        <p:blipFill>
          <a:blip r:embed="rId11"/>
          <a:stretch/>
        </p:blipFill>
        <p:spPr>
          <a:xfrm>
            <a:off x="2843280" y="5084640"/>
            <a:ext cx="228600" cy="206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4"/>
          <p:cNvSpPr/>
          <p:nvPr/>
        </p:nvSpPr>
        <p:spPr>
          <a:xfrm>
            <a:off x="1643040" y="300024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ffff"/>
                </a:solidFill>
                <a:latin typeface="Arial"/>
              </a:rPr>
              <a:t>El  Universo</a:t>
            </a:r>
            <a:r>
              <a:rPr b="1" i="1" lang="es-E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jp"/>
          <p:cNvPicPr/>
          <p:nvPr/>
        </p:nvPicPr>
        <p:blipFill>
          <a:blip r:embed="rId1"/>
          <a:stretch/>
        </p:blipFill>
        <p:spPr>
          <a:xfrm>
            <a:off x="431640" y="57240"/>
            <a:ext cx="8317080" cy="58928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0" y="5919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La energía que existe en todo el universo es la que sostiene la enorme y compleja interacción en todo lo que existe.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jp"/>
          <p:cNvPicPr/>
          <p:nvPr/>
        </p:nvPicPr>
        <p:blipFill>
          <a:blip r:embed="rId1"/>
          <a:stretch/>
        </p:blipFill>
        <p:spPr>
          <a:xfrm>
            <a:off x="179280" y="1289160"/>
            <a:ext cx="8893440" cy="53798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0" y="18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Cada persona, cada animal, cada planta, </a:t>
            </a:r>
            <a:br>
              <a:rPr sz="2400"/>
            </a:b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cada cosa y cada elemento es una porción de el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jp"/>
          <p:cNvPicPr/>
          <p:nvPr/>
        </p:nvPicPr>
        <p:blipFill>
          <a:blip r:embed="rId1"/>
          <a:stretch/>
        </p:blipFill>
        <p:spPr>
          <a:xfrm>
            <a:off x="539640" y="260280"/>
            <a:ext cx="8064720" cy="53053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108000" y="5554800"/>
            <a:ext cx="896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Las partículas subatómicas que la conforman se encuentran </a:t>
            </a:r>
            <a:br>
              <a:rPr sz="2000"/>
            </a:b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en un constante e ininterrumpido movimiento:  </a:t>
            </a:r>
            <a:br>
              <a:rPr sz="2000"/>
            </a:b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átomos, electrones, fotones, quark, cuantos de luz,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TodoEnergias"/>
          <p:cNvPicPr/>
          <p:nvPr/>
        </p:nvPicPr>
        <p:blipFill>
          <a:blip r:embed="rId1"/>
          <a:stretch/>
        </p:blipFill>
        <p:spPr>
          <a:xfrm>
            <a:off x="1547640" y="482760"/>
            <a:ext cx="6120000" cy="59623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539640" y="44280"/>
            <a:ext cx="8137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Arial"/>
              </a:rPr>
              <a:t>La energía, en cualquiera de sus formas, </a:t>
            </a:r>
            <a:br>
              <a:rPr sz="2600"/>
            </a:br>
            <a:r>
              <a:rPr b="1" i="1" lang="es-ES" sz="2600" spc="-1" strike="noStrike">
                <a:solidFill>
                  <a:srgbClr val="ffffff"/>
                </a:solidFill>
                <a:latin typeface="Arial"/>
              </a:rPr>
              <a:t>se interrelaciona constantemente entre sí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16000" y="5927760"/>
            <a:ext cx="87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Arial"/>
              </a:rPr>
              <a:t>La atracción que el uno ejerce sobre el otro </a:t>
            </a:r>
            <a:br>
              <a:rPr sz="2600"/>
            </a:br>
            <a:r>
              <a:rPr b="1" i="1" lang="es-ES" sz="2600" spc="-1" strike="noStrike">
                <a:solidFill>
                  <a:srgbClr val="ffffff"/>
                </a:solidFill>
                <a:latin typeface="Arial"/>
              </a:rPr>
              <a:t>es lo que hace que el Universo exista y funcion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5543280" cy="5616720"/>
          </a:xfrm>
          <a:prstGeom prst="rect">
            <a:avLst/>
          </a:prstGeom>
          <a:ln w="57240">
            <a:solidFill>
              <a:srgbClr val="990033"/>
            </a:solidFill>
            <a:miter/>
          </a:ln>
        </p:spPr>
      </p:pic>
      <p:sp>
        <p:nvSpPr>
          <p:cNvPr id="78" name="Text Box 3"/>
          <p:cNvSpPr/>
          <p:nvPr/>
        </p:nvSpPr>
        <p:spPr>
          <a:xfrm>
            <a:off x="179280" y="11592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Lo que llamamos vida, no es más que la manifestación permanente de ese movimiento energé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Reikimanoconbrillos"/>
          <p:cNvPicPr/>
          <p:nvPr/>
        </p:nvPicPr>
        <p:blipFill>
          <a:blip r:embed="rId1"/>
          <a:stretch/>
        </p:blipFill>
        <p:spPr>
          <a:xfrm>
            <a:off x="0" y="1049400"/>
            <a:ext cx="9144000" cy="59086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357120" y="146160"/>
            <a:ext cx="864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Arial"/>
              </a:rPr>
              <a:t>Es la cercanía de sus partículas subatómicas y su movimiento, </a:t>
            </a:r>
            <a:br>
              <a:rPr sz="2200"/>
            </a:br>
            <a:r>
              <a:rPr b="1" i="1" lang="es-ES" sz="2200" spc="-1" strike="noStrike">
                <a:solidFill>
                  <a:srgbClr val="ffffff"/>
                </a:solidFill>
                <a:latin typeface="Arial"/>
              </a:rPr>
              <a:t>lo que determina su perceptibilidad al ojo human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estrella animada 5"/>
          <p:cNvPicPr/>
          <p:nvPr/>
        </p:nvPicPr>
        <p:blipFill>
          <a:blip r:embed="rId2"/>
          <a:stretch/>
        </p:blipFill>
        <p:spPr>
          <a:xfrm>
            <a:off x="8459640" y="1413000"/>
            <a:ext cx="211320" cy="212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estrella animada 5"/>
          <p:cNvPicPr/>
          <p:nvPr/>
        </p:nvPicPr>
        <p:blipFill>
          <a:blip r:embed="rId3"/>
          <a:stretch/>
        </p:blipFill>
        <p:spPr>
          <a:xfrm>
            <a:off x="539640" y="1341360"/>
            <a:ext cx="211320" cy="21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estrella animada 5"/>
          <p:cNvPicPr/>
          <p:nvPr/>
        </p:nvPicPr>
        <p:blipFill>
          <a:blip r:embed="rId4"/>
          <a:stretch/>
        </p:blipFill>
        <p:spPr>
          <a:xfrm>
            <a:off x="1187280" y="5516640"/>
            <a:ext cx="211320" cy="2127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1547640" y="985680"/>
            <a:ext cx="601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Arial"/>
              </a:rPr>
              <a:t>Esa es la base de la existencia físic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1T04:54:28Z</dcterms:created>
  <dc:creator>Elizabeth Varga Ramirez</dc:creator>
  <dc:description/>
  <dc:language>en-US</dc:language>
  <cp:lastModifiedBy>Usuario</cp:lastModifiedBy>
  <dcterms:modified xsi:type="dcterms:W3CDTF">2010-09-10T22:32:40Z</dcterms:modified>
  <cp:revision>43</cp:revision>
  <dc:subject>Humanismo: Nueva Conciencia</dc:subject>
  <dc:title>Energía Universal</dc:title>
</cp:coreProperties>
</file>