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thair%20%20Ar%20Neamh-Mulher%20Cant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F0D-B767-4703-9DAC-AEE67A88BF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B69-1C35-4939-B1CD-BD87F74732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D82-186D-40C1-8D1B-A05BD028D8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9DD-9659-4E87-9E88-7DD229B48D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8BA4-3AD7-4385-BD0A-1A16997E89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5DC-7A2D-4E5E-9B7D-916852BFBD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FDC9-A500-433B-9F95-F0E0E7083C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891-6091-42B9-B62F-5340CC8462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A625-2410-46FD-8B40-AA0DA73AAF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3A9-E427-400C-A27A-4FE0EDF87B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3E5-1F00-489D-BA45-7417220D8F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1925-AD34-42E4-8D4F-3077680DC6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6D9-9ED9-4B78-B0BD-9668179D92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653-30DE-4F2D-8F27-7114C0F66A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95C-20F4-49AF-90C4-BAFAF5241F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67B3-0967-474C-917B-DCFE8DC157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BC5-B30D-43C3-8783-13ADC6EDB2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13D5-6914-403D-B884-5C257D2239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1874-AA0A-44F2-B41B-2B0E008933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892C-34D8-4AE7-901E-8AA113FAAB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86E1-A1DD-4505-B1C4-A9E95985B1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7B9-F55C-48A1-BF9C-D40DCA56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263-1598-4C79-9DF0-880BCC5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510-7A96-4C33-B4E1-FCCFF71B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E6E-4AC1-48C4-9E58-163E5326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70E-E0B7-49D8-A17A-0A62C19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CBB-670A-4F48-8620-B601B33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A85-CBE5-4C59-BC98-7582346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75D-F964-48E9-A35A-B42E2FD2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300-A8CB-4C50-BB5F-D3D8D66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452-0EF6-4E8C-BBDA-E46E33F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3B-6046-42B5-A36A-D4346A9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A1E-5459-43F1-96C6-F201F41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09B-E021-4C8A-B69E-3F2F511E24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thair%20%20Ar%20Neamh-Mulher%20Cant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002"/>
            </a:gs>
            <a:gs pos="50000">
              <a:srgbClr val="a50021"/>
            </a:gs>
            <a:gs pos="100000">
              <a:srgbClr val="0a000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86728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143000"/>
            <a:ext cx="8076960" cy="487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299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La Tía Cochela tenía raz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1 CuadroTexto"/>
          <p:cNvSpPr/>
          <p:nvPr/>
        </p:nvSpPr>
        <p:spPr>
          <a:xfrm>
            <a:off x="1701720" y="1487520"/>
            <a:ext cx="61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Pasaron más de 50 años, y…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Athair%20%20Ar%20Neamh-Mulher%20Cant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6386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80880"/>
            <a:ext cx="807732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ttp://upload.wikimedia.org/wikipedia/commons/thumb/e/e4/Bergoglio_2.jpg/220px-Bergoglio_2.jpg"/>
          <p:cNvPicPr/>
          <p:nvPr/>
        </p:nvPicPr>
        <p:blipFill>
          <a:blip r:embed="rId1"/>
          <a:stretch/>
        </p:blipFill>
        <p:spPr>
          <a:xfrm>
            <a:off x="-3240" y="15840"/>
            <a:ext cx="3395880" cy="3687840"/>
          </a:xfrm>
          <a:prstGeom prst="rect">
            <a:avLst/>
          </a:prstGeom>
          <a:ln w="0">
            <a:noFill/>
          </a:ln>
        </p:spPr>
      </p:pic>
      <p:sp>
        <p:nvSpPr>
          <p:cNvPr id="93" name="1 CuadroTexto"/>
          <p:cNvSpPr/>
          <p:nvPr/>
        </p:nvSpPr>
        <p:spPr>
          <a:xfrm>
            <a:off x="1544760" y="1700280"/>
            <a:ext cx="69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Cochela cumplía, acabadamente ese pedido,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invitaba a familiares y amigos a rezar por el padre Jorge, que ahor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ra Monseñor pero que iba "a ser Papa porque ese hombre es un santo, yo l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ozco muy bien desde que empezó a caminar en el barro para ayudar a l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bres y además es jesuita, es muy bueno, honesto y humilde, va a ser Papa"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petía hasta el hartaz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en por él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100d"/>
            </a:gs>
            <a:gs pos="50000">
              <a:srgbClr val="ffffcc"/>
            </a:gs>
            <a:gs pos="100000">
              <a:srgbClr val="1010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b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3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http://www.eluniversal.com.mx/img/2013/03/Nac/2bueno.jpg"/>
          <p:cNvPicPr/>
          <p:nvPr/>
        </p:nvPicPr>
        <p:blipFill>
          <a:blip r:embed="rId1"/>
          <a:stretch/>
        </p:blipFill>
        <p:spPr>
          <a:xfrm>
            <a:off x="31680" y="71280"/>
            <a:ext cx="4359240" cy="3357720"/>
          </a:xfrm>
          <a:prstGeom prst="rect">
            <a:avLst/>
          </a:prstGeom>
          <a:ln w="0">
            <a:noFill/>
          </a:ln>
        </p:spPr>
      </p:pic>
      <p:sp>
        <p:nvSpPr>
          <p:cNvPr id="98" name="1 CuadroTexto"/>
          <p:cNvSpPr/>
          <p:nvPr/>
        </p:nvSpPr>
        <p:spPr>
          <a:xfrm>
            <a:off x="1547640" y="199224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ía y releía una y mil veces las not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iodísticas que se publicaban sobre el Carde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padre Jorge siempre l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 afecto, mucho cariño y la acarició con su misericordiosa mirada, per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siempre le pidió algo, algo inusual y llamativo en un c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empr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 pidió que rece por él, que lo necesitaba para poder hacer mejor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rabajo como hombre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a"/>
            </a:gs>
            <a:gs pos="50000">
              <a:srgbClr val="ffcc99"/>
            </a:gs>
            <a:gs pos="100000">
              <a:srgbClr val="100d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 CuadroTexto"/>
          <p:cNvSpPr/>
          <p:nvPr/>
        </p:nvSpPr>
        <p:spPr>
          <a:xfrm>
            <a:off x="533520" y="620640"/>
            <a:ext cx="792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da fue muy dura con Cochela porque aunque la llenó del afecto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amiliares y amigos, no le permitió tener hijos, también perdió a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añero muy temprano, pero ella nunca se quejó, siempre tuvo una sonris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todos, y cuando digo todos es todos, hasta con quienes le hacían e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al, hasta a los delincuentes que le tocó enfrentar los "retaba"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iñosamente para que tomen el buen camino, agregando indefectiblemente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s palabras un único final: "mi hijo", lo que demostraba claramente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da una de sus frases eran dichas como la madre que no pudo ser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 CuadroTexto"/>
          <p:cNvSpPr/>
          <p:nvPr/>
        </p:nvSpPr>
        <p:spPr>
          <a:xfrm>
            <a:off x="971640" y="836640"/>
            <a:ext cx="72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fue dura su partida, la vejez comenzó a hacer estragos en su salud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ecialmente en su salud mental y una demencia senil se apoderó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últimos días, enfermedad que la comenzó a enajenar y de la que sólo se logró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vadir cuando esporádicamente reconocía a alguno de sus seres más queridos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uando hablaba de "Bergoglio, el cura que según ella sería Papa, porque 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ombre Santo".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0"/>
            </a:gs>
            <a:gs pos="50000">
              <a:srgbClr val="ffcc00"/>
            </a:gs>
            <a:gs pos="100000">
              <a:srgbClr val="10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620640"/>
            <a:ext cx="8042040" cy="5894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1459080" y="936720"/>
            <a:ext cx="6190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 pasar meses sin visitarlo… Bergoglio hizo averiguar a su secretario qué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ra de la vida de Cochela, enterándose así que ella estaba muy enferma y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 quedaba poco tiempo de vida. Una tarde de diciembre de 2011, estab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dormida en compañía de su hermana mayor, su enfermera y familiares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uando en el pequeño departamento de avenida Las Heras sonó el porter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éctrico, la visita se identificó simplemente como Jorge Bergoglio,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nía a vistar a Coch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http://static.deia.com/images/2013/03/13/efe_20130313_202807_pa1168jorge-mario-bergogliopie_14467_11.jpg"/>
          <p:cNvPicPr/>
          <p:nvPr/>
        </p:nvPicPr>
        <p:blipFill>
          <a:blip r:embed="rId1"/>
          <a:stretch/>
        </p:blipFill>
        <p:spPr>
          <a:xfrm>
            <a:off x="27000" y="0"/>
            <a:ext cx="3548160" cy="4713120"/>
          </a:xfrm>
          <a:prstGeom prst="rect">
            <a:avLst/>
          </a:prstGeom>
          <a:ln w="0">
            <a:noFill/>
          </a:ln>
        </p:spPr>
      </p:pic>
      <p:sp>
        <p:nvSpPr>
          <p:cNvPr id="114" name="1 CuadroTexto"/>
          <p:cNvSpPr/>
          <p:nvPr/>
        </p:nvSpPr>
        <p:spPr>
          <a:xfrm>
            <a:off x="1619280" y="263700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ó solo, de a pie y con una única misión, darl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unción de los enfermos a su antigua Benefactora de "Los Polvorines", 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abemos si lo reconoció o no, pero si sabemos que pocos días después partió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reunirse con su marido en la eternidad, desde donde seguro hizo lobby  ant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s para que su profecía se haga realidad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a00"/>
            </a:gs>
            <a:gs pos="50000">
              <a:srgbClr val="ff9900"/>
            </a:gs>
            <a:gs pos="100000">
              <a:srgbClr val="100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094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5800" y="304920"/>
            <a:ext cx="807732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1258920" y="119700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el cura Jorge Bergoglio fue Papa, como decía Cochela, ante las incrédul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ejas de quienes tanto la amamos, pero que en eso no la supimos tomar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tenía razón y seguramente Francisco Primero también será u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anto cuando le toque, tanto am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nta devoci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n dudas tienen sentid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0"/>
            </a:gs>
            <a:gs pos="50000">
              <a:srgbClr val="cccc00"/>
            </a:gs>
            <a:gs pos="100000">
              <a:srgbClr val="0d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3520" y="380880"/>
            <a:ext cx="807696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https://encrypted-tbn2.gstatic.com/images?q=tbn:ANd9GcQt7p3GEtXT6lLpTESIdbn171L5Y1PVB8OdRxxIySPvDHPyPQGG8w"/>
          <p:cNvPicPr/>
          <p:nvPr/>
        </p:nvPicPr>
        <p:blipFill>
          <a:blip r:embed="rId1"/>
          <a:stretch/>
        </p:blipFill>
        <p:spPr>
          <a:xfrm>
            <a:off x="0" y="0"/>
            <a:ext cx="2340000" cy="3205080"/>
          </a:xfrm>
          <a:prstGeom prst="rect">
            <a:avLst/>
          </a:prstGeom>
          <a:ln w="0">
            <a:noFill/>
          </a:ln>
        </p:spPr>
      </p:pic>
      <p:sp>
        <p:nvSpPr>
          <p:cNvPr id="123" name="1 CuadroTexto"/>
          <p:cNvSpPr/>
          <p:nvPr/>
        </p:nvSpPr>
        <p:spPr>
          <a:xfrm>
            <a:off x="2133720" y="1844640"/>
            <a:ext cx="64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maestra, “Cochela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María Beatriz Solari de Cichero, mi amada tía, mi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egunda mamá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ocos meses después falleció “Coiche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u inseparable her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i gran madre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100d"/>
            </a:gs>
            <a:gs pos="50000">
              <a:srgbClr val="ffffcc"/>
            </a:gs>
            <a:gs pos="100000">
              <a:srgbClr val="1010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b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3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1 CuadroTexto"/>
          <p:cNvSpPr/>
          <p:nvPr/>
        </p:nvSpPr>
        <p:spPr>
          <a:xfrm>
            <a:off x="1042920" y="1052640"/>
            <a:ext cx="7567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Ruego una oración en su memo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para que el Papa Francis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enga l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fuerzas necesarias para reencauzar a nuestra Iglesia… 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laborar a la paz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l mundo y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felicidad de los pobres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304920"/>
            <a:ext cx="952488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1 CuadroTexto"/>
          <p:cNvSpPr/>
          <p:nvPr/>
        </p:nvSpPr>
        <p:spPr>
          <a:xfrm>
            <a:off x="1042920" y="1197000"/>
            <a:ext cx="712944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e colma de felicidad y orgullo cristiano haberme equivocado y pido perdón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or no haberla sabido to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 serio…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¡¡¡Tía Cochela, tenía razón…!!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B -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a"/>
            </a:gs>
            <a:gs pos="50000">
              <a:srgbClr val="ffcc99"/>
            </a:gs>
            <a:gs pos="100000">
              <a:srgbClr val="100d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124000" y="2276640"/>
            <a:ext cx="6505560" cy="4510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Los Polvorines - Escuela 201 ( www.alepolvorines.com.ar ) "/>
          <p:cNvPicPr/>
          <p:nvPr/>
        </p:nvPicPr>
        <p:blipFill>
          <a:blip r:embed="rId1"/>
          <a:stretch/>
        </p:blipFill>
        <p:spPr>
          <a:xfrm>
            <a:off x="174600" y="189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1 CuadroTexto"/>
          <p:cNvSpPr/>
          <p:nvPr/>
        </p:nvSpPr>
        <p:spPr>
          <a:xfrm>
            <a:off x="2556000" y="2565360"/>
            <a:ext cx="57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una muy humilde escuela de la zona de "Los Polvorines", en cercanías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mpo de Mayo, Buenos Aires, en donde los niños concurrían tal vez más p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btener su plato de comida que para estudiar, estaba la maestra (que jamá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onsideró una trabajadora de la educación), a pura vocación, ayudando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s alumnos a hacer la tarea después del comed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04920"/>
            <a:ext cx="952488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://img2.mlstatic.com/el-jesuita-jorge-bergoglio-sergio-rubin-y-f-ambrogetti_MLA-O-3974236490_032013.jpg"/>
          <p:cNvPicPr/>
          <p:nvPr/>
        </p:nvPicPr>
        <p:blipFill>
          <a:blip r:embed="rId1"/>
          <a:stretch/>
        </p:blipFill>
        <p:spPr>
          <a:xfrm>
            <a:off x="974880" y="836640"/>
            <a:ext cx="7707240" cy="5256360"/>
          </a:xfrm>
          <a:prstGeom prst="rect">
            <a:avLst/>
          </a:prstGeom>
          <a:ln w="0">
            <a:noFill/>
          </a:ln>
        </p:spPr>
      </p:pic>
      <p:sp>
        <p:nvSpPr>
          <p:cNvPr id="136" name="2 CuadroTexto"/>
          <p:cNvSpPr/>
          <p:nvPr/>
        </p:nvSpPr>
        <p:spPr>
          <a:xfrm>
            <a:off x="755640" y="5950080"/>
            <a:ext cx="79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¡¡¡Ahora hay que rezar mucho por él…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1 CuadroTexto"/>
          <p:cNvSpPr/>
          <p:nvPr/>
        </p:nvSpPr>
        <p:spPr>
          <a:xfrm>
            <a:off x="755640" y="511200"/>
            <a:ext cx="7488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úbitamente d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óvenes seminaristas, flacos y embarrados hasta las rodillas, golpearon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anos, a modo de pedir permiso para ingresar, ofreciéndose para colaborar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educación de los chicos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 los invitó muy gentilmente a pasar y agradeció a los hombres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s su buena voluntad, pero les aclaró que ella no disponía en la escue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dinero para pagar sus servicios, a lo que los visitantes respondiero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con que nos dé de comer estaremos muy bien pagados", pues ellos era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suitas, pobres y en plena acción evangelizadora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0"/>
            </a:gs>
            <a:gs pos="50000">
              <a:srgbClr val="ffcc00"/>
            </a:gs>
            <a:gs pos="100000">
              <a:srgbClr val="10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33520" y="380880"/>
            <a:ext cx="8076960" cy="6172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http://p2.trrsf.com/image/fget/cf/301/401/images.terra.com/2013/03/15/ap-6353af90f15a35082c0f6a70670016da.JPG"/>
          <p:cNvPicPr/>
          <p:nvPr/>
        </p:nvPicPr>
        <p:blipFill>
          <a:blip r:embed="rId1"/>
          <a:stretch/>
        </p:blipFill>
        <p:spPr>
          <a:xfrm>
            <a:off x="0" y="0"/>
            <a:ext cx="2867040" cy="3819600"/>
          </a:xfrm>
          <a:prstGeom prst="rect">
            <a:avLst/>
          </a:prstGeom>
          <a:ln w="0">
            <a:noFill/>
          </a:ln>
        </p:spPr>
      </p:pic>
      <p:sp>
        <p:nvSpPr>
          <p:cNvPr id="66" name="1 CuadroTexto"/>
          <p:cNvSpPr/>
          <p:nvPr/>
        </p:nvSpPr>
        <p:spPr>
          <a:xfrm>
            <a:off x="1619280" y="26370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ue así que los nobles sacerdotes estuvieron trabajando con los chicos de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arrio durante varios meses, tiempo que grabó para siempre en el corazón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, la capacidad de amar que mostraban los curas especialmente u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ellos al que llamaban Jorge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-468360" y="-1102680"/>
            <a:ext cx="8784360" cy="5031720"/>
            <a:chOff x="-468360" y="-1102680"/>
            <a:chExt cx="8784360" cy="5031720"/>
          </a:xfrm>
        </p:grpSpPr>
        <p:sp>
          <p:nvSpPr>
            <p:cNvPr id="70" name="Rectangle 4"/>
            <p:cNvSpPr/>
            <p:nvPr/>
          </p:nvSpPr>
          <p:spPr>
            <a:xfrm>
              <a:off x="-468360" y="148680"/>
              <a:ext cx="723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-106200" y="-1102680"/>
              <a:ext cx="84222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r>
                <a:rPr b="1" lang="pt-BR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9" descr="http://www.periodistadigital.com/imagenes/2013/04/11/plana-mayor-jesuita-1976_270x250.jpg"/>
          <p:cNvPicPr/>
          <p:nvPr/>
        </p:nvPicPr>
        <p:blipFill>
          <a:blip r:embed="rId1"/>
          <a:stretch/>
        </p:blipFill>
        <p:spPr>
          <a:xfrm>
            <a:off x="0" y="-79200"/>
            <a:ext cx="4643280" cy="4298760"/>
          </a:xfrm>
          <a:prstGeom prst="rect">
            <a:avLst/>
          </a:prstGeom>
          <a:ln w="0">
            <a:noFill/>
          </a:ln>
        </p:spPr>
      </p:pic>
      <p:sp>
        <p:nvSpPr>
          <p:cNvPr id="73" name="1 CuadroTexto"/>
          <p:cNvSpPr/>
          <p:nvPr/>
        </p:nvSpPr>
        <p:spPr>
          <a:xfrm>
            <a:off x="1638360" y="1773360"/>
            <a:ext cx="69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da transcurrió, los jóvenes jesuitas continuaron su labor eclesiástic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la maestra con su titánica tarea educativa, siempre en barri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enciados, obreros y populares, a pesar de ser ella misma una señora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uena posición socio cultural y, así continuó su vida, luego com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cretaria, vicedirectora, directora, supervisora y por fin, jubilada p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os pocos pesos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a00"/>
            </a:gs>
            <a:gs pos="50000">
              <a:srgbClr val="ff9900"/>
            </a:gs>
            <a:gs pos="100000">
              <a:srgbClr val="100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85800" y="304920"/>
            <a:ext cx="807732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Comic Sans MS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826920" y="765000"/>
            <a:ext cx="785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a entrada en su tercera edad, la maestra concurría a misa en la iglesi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l Pilar y un buen día creyó ver en el “Monseñor" que daba la misa, a u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ejo conocido. Inquieta, como siempre fue, esperó la finalización de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sa y se acercó al sacerdote preguntándole si él no era el padre Jorge..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abían pasado unos 35 años y Monseñor detuvo su mirada en la pequeñ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buela, la miró a los ojos, dibujó una sonrisa en su gesto y con tota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egría le dijo: claro que soy el padre Jorge, y usted es la maestra de "Los Polvorin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0099"/>
            </a:gs>
            <a:gs pos="100000">
              <a:srgbClr val="0000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99"/>
              </a:gs>
              <a:gs pos="100000">
                <a:srgbClr val="000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99"/>
              </a:gs>
              <a:gs pos="100000">
                <a:srgbClr val="000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8668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 CuadroTexto"/>
          <p:cNvSpPr/>
          <p:nvPr/>
        </p:nvSpPr>
        <p:spPr>
          <a:xfrm>
            <a:off x="826920" y="765000"/>
            <a:ext cx="7490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,  Cochela,  no pudo evitar romper en llanto de emoció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pidió permiso al ahora Monseñor para poder visitarlo. Provocando una nuev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onrisa en el cura que le dijo que se enojaría si no viniera a verl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g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 jubilada volvió a su casa a contarle a Coiche,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ermana mayor y a toda la familia la alegría de su encuentro y la may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egría aún de haber logrado el permiso para visitar a su viejo amigo en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roquia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0"/>
            </a:gs>
            <a:gs pos="50000">
              <a:srgbClr val="cccc00"/>
            </a:gs>
            <a:gs pos="100000">
              <a:srgbClr val="0d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3520" y="380880"/>
            <a:ext cx="807696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2400" spc="-1" strike="noStrike">
                <a:solidFill>
                  <a:srgbClr val="ff99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1116000" y="98280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partir de ese momento, Cochela visitaría mensualmente a Monseñor, siempr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vándole todo tipo de ofrendas, escritos, viejas fotografías en blanco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egro, y entre ellas se destacaban sus "Chipás", lo que además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acterizaban por su exquisitez y por su origen corrent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anciana 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ecesitaba ver personalmente a Monseñor, ella se conformaba con que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cretario le entregue sus presentes ya que no quería distraerlo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up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002"/>
            </a:gs>
            <a:gs pos="50000">
              <a:srgbClr val="a50021"/>
            </a:gs>
            <a:gs pos="100000">
              <a:srgbClr val="0a000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09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86728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 CuadroTexto"/>
          <p:cNvSpPr/>
          <p:nvPr/>
        </p:nvSpPr>
        <p:spPr>
          <a:xfrm>
            <a:off x="1258920" y="54936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n embargo, a cada visita, cuando no lo encontraba a él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empre indefectiblemente seguía una llamada telefónica de Monseñor,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sona, para agradecer la deferencia y el cariño que sus visit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videnciaban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jamás pidió nada a Monseñor, y Monseñor fue Cardenal, y Obispo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 ciudad, y ella vivía cada homilía del padre Jorge como dando crédito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ue escuchaba la palabra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1:03:07Z</dcterms:created>
  <dc:creator/>
  <dc:description/>
  <dc:language>en-US</dc:language>
  <cp:lastModifiedBy>Sergio A Rodríguez</cp:lastModifiedBy>
  <dcterms:modified xsi:type="dcterms:W3CDTF">2013-08-15T06:20:13Z</dcterms:modified>
  <cp:revision>38</cp:revision>
  <dc:subject/>
  <dc:title>Apresentação do PowerPoint</dc:title>
</cp:coreProperties>
</file>