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sounda36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45E-9739-4753-9800-206D692C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C17-D0DC-4D4A-B615-7BAD9EB0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498-A18D-459C-8019-44742E94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1BB-B480-444E-BA76-87B7E10A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517-22B5-43ED-A663-76108E77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AFD-4D10-4029-9020-3A72456C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BE1-37D2-47E7-98FB-5720F2C9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BCA-A947-47CA-BABD-8BC2AE01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448-E072-471C-BE66-F87BDF4B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96D-74C7-48F3-AF16-0C8E9555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CDF-81FA-44B7-BEBE-43D6A8F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D9D-0709-481A-BF66-75562543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0E5C-9952-4857-8261-3C092113B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ounda3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3492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4" descr="00"/>
          <p:cNvPicPr/>
          <p:nvPr/>
        </p:nvPicPr>
        <p:blipFill>
          <a:blip r:embed="rId1"/>
          <a:stretch/>
        </p:blipFill>
        <p:spPr>
          <a:xfrm>
            <a:off x="0" y="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44" name="WordArt 21"/>
          <p:cNvSpPr txBox="1"/>
          <p:nvPr/>
        </p:nvSpPr>
        <p:spPr>
          <a:xfrm>
            <a:off x="395280" y="3429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Franklin Gothic Medium"/>
              </a:rPr>
              <a:t>Mi Tefiláh </a:t>
            </a:r>
            <a:endParaRPr b="0" lang="en-US" sz="24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Franklin Gothic Medium"/>
              </a:rPr>
              <a:t>antes </a:t>
            </a:r>
            <a:endParaRPr b="0" lang="en-US" sz="24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Franklin Gothic Medium"/>
              </a:rPr>
              <a:t>de Yom Kipur...</a:t>
            </a:r>
            <a:endParaRPr b="0" lang="en-US" sz="24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  <p:transition spd="slow">
    <p:randomBar dir="vert"/>
    <p:sndAc>
      <p:stSnd>
        <p:snd r:embed="rId2" name="sounda3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3492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92" name="WordArt 18"/>
          <p:cNvSpPr txBox="1"/>
          <p:nvPr/>
        </p:nvSpPr>
        <p:spPr>
          <a:xfrm>
            <a:off x="500040" y="2465280"/>
            <a:ext cx="814392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También por la oración  que poco a poco fui aplazando</a:t>
            </a:r>
            <a:endParaRPr b="0" lang="en-US" sz="24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y que ahora vengo a presentarte,</a:t>
            </a:r>
            <a:endParaRPr b="0" lang="en-US" sz="24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or todos mis olvidos, descuidos y silencios,</a:t>
            </a:r>
            <a:endParaRPr b="0" lang="en-US" sz="24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nuevamente Te pido perdón.</a:t>
            </a:r>
            <a:endParaRPr b="0" lang="en-US" sz="24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492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8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9"/>
          <p:cNvSpPr txBox="1"/>
          <p:nvPr/>
        </p:nvSpPr>
        <p:spPr>
          <a:xfrm>
            <a:off x="1471680" y="3753000"/>
            <a:ext cx="617220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Que los próximos días sean siempr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bendecidos.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492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7"/>
          <p:cNvSpPr txBox="1"/>
          <p:nvPr/>
        </p:nvSpPr>
        <p:spPr>
          <a:xfrm>
            <a:off x="2189160" y="2611440"/>
            <a:ext cx="475308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Entrego mi Alm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delante de T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y te presento mis día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que únicamente Tú sab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si llegaré a vivirlo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492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7"/>
          <p:cNvSpPr txBox="1"/>
          <p:nvPr/>
        </p:nvSpPr>
        <p:spPr>
          <a:xfrm>
            <a:off x="1962000" y="2790720"/>
            <a:ext cx="51818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Hoy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Te pido par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mis parientes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mis amigo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y para m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a paz y la alegría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a fortaleza y la prudencia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a lucidez y la sabiduría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0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1"/>
          <p:cNvSpPr txBox="1"/>
          <p:nvPr/>
        </p:nvSpPr>
        <p:spPr>
          <a:xfrm>
            <a:off x="2119320" y="2971800"/>
            <a:ext cx="4896000" cy="36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Quier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vivir cada d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con optimismo y bondad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levando a todas part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un corazón lleno d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comprensión y paz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117" name="WordArt 8"/>
          <p:cNvSpPr txBox="1"/>
          <p:nvPr/>
        </p:nvSpPr>
        <p:spPr>
          <a:xfrm>
            <a:off x="2050920" y="1268280"/>
            <a:ext cx="453564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Cierra mis oíd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a toda falsed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y mis labi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a palabras mentirosa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egoistas o qu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astimen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randomBar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2901960" y="3622680"/>
            <a:ext cx="3313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Abre sí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mi ser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todo lo q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es bueno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7"/>
          <p:cNvSpPr txBox="1"/>
          <p:nvPr/>
        </p:nvSpPr>
        <p:spPr>
          <a:xfrm>
            <a:off x="2643120" y="3143160"/>
            <a:ext cx="3816360" cy="35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Que mi espíritu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sea replet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únicamente de bendicion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ara que las derram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or donde pase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2322360" y="3186000"/>
            <a:ext cx="453564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Ha Shem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a mis amigos que l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este mensaje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lénalos de Sabiduría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az y Amor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2268360" y="3789360"/>
            <a:ext cx="4524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Y que nuestra amist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dure para siempre e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nuestros corazone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randomBa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3492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49" name="WordArt 22"/>
          <p:cNvSpPr txBox="1"/>
          <p:nvPr/>
        </p:nvSpPr>
        <p:spPr>
          <a:xfrm>
            <a:off x="1782720" y="3357720"/>
            <a:ext cx="554508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Ha Shem,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dueño del tiempo y 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de la eternidad,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Tuyo es el hoy y 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el mañana,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el pasado y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el futuro.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strips dir="r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143" name="WordArt 7"/>
          <p:cNvSpPr txBox="1"/>
          <p:nvPr/>
        </p:nvSpPr>
        <p:spPr>
          <a:xfrm>
            <a:off x="2176560" y="3286080"/>
            <a:ext cx="4752720" cy="32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léname, también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de bondad y alegrí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ara que todas las person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que yo encuentre en mi cami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uedan descubrir en m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un poquito de Tí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7"/>
          <p:cNvSpPr txBox="1"/>
          <p:nvPr/>
        </p:nvSpPr>
        <p:spPr>
          <a:xfrm>
            <a:off x="1679400" y="2976480"/>
            <a:ext cx="57913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Dános siempre días felices,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y enséñanos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a repartir felicidad.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9" name="WordArt 9"/>
          <p:cNvSpPr txBox="1"/>
          <p:nvPr/>
        </p:nvSpPr>
        <p:spPr>
          <a:xfrm>
            <a:off x="3627360" y="6110280"/>
            <a:ext cx="1873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Amé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randomBar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492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00"/>
          <p:cNvPicPr/>
          <p:nvPr/>
        </p:nvPicPr>
        <p:blipFill>
          <a:blip r:embed="rId1"/>
          <a:stretch/>
        </p:blipFill>
        <p:spPr>
          <a:xfrm>
            <a:off x="158760" y="2142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55" name="WordArt 17"/>
          <p:cNvSpPr txBox="1"/>
          <p:nvPr/>
        </p:nvSpPr>
        <p:spPr>
          <a:xfrm>
            <a:off x="1871640" y="2981160"/>
            <a:ext cx="54007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Al acabar</a:t>
            </a:r>
            <a:endParaRPr b="0" lang="en-US" sz="18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un día más,</a:t>
            </a:r>
            <a:endParaRPr b="0" lang="en-US" sz="18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quiero darte</a:t>
            </a:r>
            <a:endParaRPr b="0" lang="en-US" sz="18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  </a:t>
            </a: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as gracias</a:t>
            </a:r>
            <a:endParaRPr b="0" lang="en-US" sz="18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or todo aquello</a:t>
            </a:r>
            <a:endParaRPr b="0" lang="en-US" sz="18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que recibí</a:t>
            </a:r>
            <a:endParaRPr b="0" lang="en-US" sz="18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de Tí.</a:t>
            </a:r>
            <a:endParaRPr b="0" lang="en-US" sz="18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492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60" name="WordArt 20"/>
          <p:cNvSpPr txBox="1"/>
          <p:nvPr/>
        </p:nvSpPr>
        <p:spPr>
          <a:xfrm>
            <a:off x="955800" y="3067200"/>
            <a:ext cx="7215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Gracias por la vida 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 </a:t>
            </a: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y por el amor, por las flores, 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or el aire y por el sol,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or la alegría y por el dolor,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or lo que fue posible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y por lo que no fue.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7128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" descr="00"/>
          <p:cNvPicPr/>
          <p:nvPr/>
        </p:nvPicPr>
        <p:blipFill>
          <a:blip r:embed="rId1"/>
          <a:stretch/>
        </p:blipFill>
        <p:spPr>
          <a:xfrm>
            <a:off x="20160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65" name="WordArt 18"/>
          <p:cNvSpPr txBox="1"/>
          <p:nvPr/>
        </p:nvSpPr>
        <p:spPr>
          <a:xfrm>
            <a:off x="1476360" y="2443320"/>
            <a:ext cx="5904000" cy="42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Te ofrezco todo lo que hice, el trabajo que pud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realizar,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as cosas que pasaron por mis mano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y lo que con ella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ude construir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492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5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WordArt 16"/>
          <p:cNvSpPr txBox="1"/>
          <p:nvPr/>
        </p:nvSpPr>
        <p:spPr>
          <a:xfrm>
            <a:off x="1392120" y="3247920"/>
            <a:ext cx="6394680" cy="36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Te presento</a:t>
            </a:r>
            <a:endParaRPr b="0" lang="en-US" sz="4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4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as  personas amigas, las amistades nuevas </a:t>
            </a:r>
            <a:endParaRPr b="0" lang="en-US" sz="4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y los antiguos amores.</a:t>
            </a:r>
            <a:endParaRPr b="0" lang="en-US" sz="4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492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77" name="WordArt 16"/>
          <p:cNvSpPr txBox="1"/>
          <p:nvPr/>
        </p:nvSpPr>
        <p:spPr>
          <a:xfrm>
            <a:off x="2249640" y="2571840"/>
            <a:ext cx="460836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endParaRPr b="0" lang="en-US" sz="2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os que están cerca de mi,</a:t>
            </a:r>
            <a:endParaRPr b="0" lang="en-US" sz="2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os que pude ayudar,</a:t>
            </a:r>
            <a:endParaRPr b="0" lang="en-US" sz="2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y aquellos con quien compartí</a:t>
            </a:r>
            <a:endParaRPr b="0" lang="en-US" sz="2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la vida, el trabajo,</a:t>
            </a:r>
            <a:endParaRPr b="0" lang="en-US" sz="2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el dolor y la alegría.</a:t>
            </a:r>
            <a:endParaRPr b="0" lang="en-US" sz="2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3492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82" name="WordArt 18"/>
          <p:cNvSpPr txBox="1"/>
          <p:nvPr/>
        </p:nvSpPr>
        <p:spPr>
          <a:xfrm>
            <a:off x="2176560" y="2825640"/>
            <a:ext cx="475272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Mas también, Señor,</a:t>
            </a:r>
            <a:endParaRPr b="0" lang="en-US" sz="2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hoy te quiero pedir perdón.</a:t>
            </a:r>
            <a:endParaRPr b="0" lang="en-US" sz="2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erdón por el tiempo perdido,</a:t>
            </a:r>
            <a:endParaRPr b="0" lang="en-US" sz="2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or el dinero mal gastado,</a:t>
            </a:r>
            <a:endParaRPr b="0" lang="en-US" sz="2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or la palabra inútil y el amor</a:t>
            </a:r>
            <a:endParaRPr b="0" lang="en-US" sz="2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 </a:t>
            </a:r>
            <a:r>
              <a:rPr b="0" lang="en-US" sz="20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desperdiciado. </a:t>
            </a:r>
            <a:endParaRPr b="0" lang="en-US" sz="20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4920" y="115920"/>
            <a:ext cx="9144000" cy="6858000"/>
          </a:xfrm>
          <a:prstGeom prst="rect">
            <a:avLst/>
          </a:prstGeom>
          <a:noFill/>
          <a:ln w="18720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7" descr="00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2952720"/>
          </a:xfrm>
          <a:prstGeom prst="rect">
            <a:avLst/>
          </a:prstGeom>
          <a:ln w="0">
            <a:noFill/>
          </a:ln>
        </p:spPr>
      </p:pic>
      <p:sp>
        <p:nvSpPr>
          <p:cNvPr id="86" name="WordArt 18"/>
          <p:cNvSpPr txBox="1"/>
          <p:nvPr/>
        </p:nvSpPr>
        <p:spPr>
          <a:xfrm>
            <a:off x="2363760" y="3203640"/>
            <a:ext cx="4392720" cy="34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erdón por las </a:t>
            </a:r>
            <a:endParaRPr b="0" lang="en-US" sz="18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obras vacías y </a:t>
            </a:r>
            <a:endParaRPr b="0" lang="en-US" sz="18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or el trabajo mal hecho,</a:t>
            </a:r>
            <a:endParaRPr b="0" lang="en-US" sz="18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perdón por vivir</a:t>
            </a:r>
            <a:endParaRPr b="0" lang="en-US" sz="18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62626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708688"/>
                  </a:outerShdw>
                </a:effectLst>
                <a:latin typeface="Georgia"/>
              </a:rPr>
              <a:t>sin entusiasmo.</a:t>
            </a:r>
            <a:endParaRPr b="0" lang="en-US" sz="1800" spc="1" strike="noStrike">
              <a:ln w="9360">
                <a:solidFill>
                  <a:srgbClr val="262626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708688"/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00:34:10Z</dcterms:created>
  <dc:creator>LINCOLN FERREIRA </dc:creator>
  <dc:description/>
  <dc:language>en-US</dc:language>
  <cp:lastModifiedBy>gkalinka</cp:lastModifiedBy>
  <dcterms:modified xsi:type="dcterms:W3CDTF">2009-09-23T14:28:29Z</dcterms:modified>
  <cp:revision>28</cp:revision>
  <dc:subject/>
  <dc:title>Slide 1</dc:title>
</cp:coreProperties>
</file>