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Soneto%20de%20la%20luna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D0B-F210-42D3-B4C3-8DFF7DB8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3C5-973C-49E3-AF10-24BA2EA7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A69-C936-4A76-A5D4-88C7B6FC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C31-381F-45C3-B62D-3230589F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184F-036B-417A-8306-989BA25F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6F15-D6E3-4182-8F10-183169F6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17F0-4FAE-4161-97D9-9F313B5A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FBCD-E83B-4B34-8E19-E920131A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DB59-06BE-48C1-8FF3-F95156BC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24B6-3E79-49EC-A813-46C57827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5FC5-C5BA-42BE-AAE0-444CD28E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E38-0695-4CCE-8BE8-59DE686B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7124-FABD-4812-B491-381565C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B6AF-3ACC-46CD-B3A0-AFE152E1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7705-A2F7-4C6F-8AE9-9B29990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39CA-C534-4D33-82C5-3FA208DB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905A-980A-4586-9AF8-1D768860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068D-6F50-45FC-A958-B72295A8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92B0-DE51-4262-80E6-25E522B6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DB22-6485-4DF5-BC1B-1A541E25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6B15C-4950-4931-9054-14E08BB2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BD80-C660-49CE-B25F-6CD20F50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71A-19AE-4413-A45F-10B56140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9C7A-4325-41B0-BC2D-8545CC64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0620-B246-42AE-9519-ACDBE22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91D6-1C16-40E3-98A1-74D22DF1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CD8B8-0212-402B-BAEE-8075B2B9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7B0B-1043-4DE6-93E6-5BE19A1D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0E33-5229-48A2-A121-059D420C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A001-0E43-4BB7-89E4-58160AE9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563C-8F5D-44DE-942D-488CE04D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BFBE-8C7D-440F-B6F4-2D7E6CA9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F3A7-9844-445A-882B-3AA592AE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0CE-1331-49A6-B822-A6C6F0B8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07D2-A4AD-477B-8610-0F1A55DE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48849-65C7-445F-A46D-FA802614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E4FE4-3FE3-4CF4-87F4-E31B13E4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D2DB-BBF5-4FC1-81F9-9C687AE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9853-9056-4EFE-897F-6E529B8A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8CB1-16BD-4FAC-AB16-4F612C92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90A9-4BCC-45E9-BA49-19484A7C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F0E79-FC37-4AAB-954C-E3AD8F7B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602E4-935D-4751-A334-91B796A9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DEAD9-3712-4900-BD80-DF7AD09D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421-E7CB-4FF2-B143-1BE2D33C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D5343-84FF-40CB-B0AE-AB6C2C92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196E4-F662-4191-A821-386EA80C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06D12-4F8F-4CCD-8248-86C1FB39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D4BE5-3A33-4F7C-9C85-27A5CA92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3C40-3A9F-48B8-B044-53BA756F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F0BAF-FE3B-4D98-AFA9-EF9E4B2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5723F-96DB-41FD-AB9F-B4D625B8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6BEB5-796E-4C7A-87A8-68314FD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35E4-9261-4FE3-954C-ED83451D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87FB-0964-47F5-AC07-62CCFF70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038-29E0-4940-B716-49ADF2C0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F1BCA-C7C7-49D4-870E-4EA9D741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43FD-FB16-423D-8CE0-9EA0E7F5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7E34-83D7-4B7D-97AD-1D847E28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F0C53-855E-4CA4-ADDE-AFE9EB1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2B68F-C305-441E-9B40-A6F1071D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5643E-7B5E-4240-BD3F-606F043C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EEFB0-79A3-4C66-9409-B6669A10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EC78C-69A2-45EA-82F1-50C7DA5B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651AF-74D7-4ABE-AD5B-E12E782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A1421-AEA9-479C-B062-B5C2F3F9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1C6-6C43-4FB2-B0DE-E7DC8379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4D226-4199-4DD1-9B0F-EFD11AEB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0DFBC-94A6-4121-ABCA-7B98763A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72465-889A-448D-BEF4-ECC9A658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0FF17-E58C-4151-90F3-D2835551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C3B1-2790-42E3-A4DD-3C1EC6DC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83062-C0B4-44A5-8556-F6CEFE1A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E057D-9984-4C25-81B8-64BEC16E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FE7F5-6EDD-482F-84C5-D8A23521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647D6-54C6-4F90-B834-8FF1CCA7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D3E37-689E-46AA-9B17-931A25AA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CDF-FC3D-4B16-A4D0-AA435F97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41D70-B124-4DC4-AFB1-A40E434A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26E3-0B90-43D9-AC08-C7530D3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2B9B3-8FEE-4190-93F2-00FE17AC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A97F5-0960-4455-8B8C-9CB04490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DFFF2-7171-4A12-8242-006F9527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6F7-3C1F-4A4E-9CF7-E661753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B9B3-BFFC-4971-BA48-732C3AAC4A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D655-0989-466B-A7BE-92F1F6EE8E3F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5CD8-F98D-44C0-9C19-2BAC7ED07F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1D64-BB9E-4BF5-A59B-39C9CAC6663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B06B-398C-4A17-8F1F-7BCCED5995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DFE8-1179-42FC-B025-0E736C63C9D2}" type="slidenum"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51DE-0547-4352-AFE0-D385649D5BF8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eto%20de%20la%20luna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C:\Documents and Settings\Admin\Mis documentos\Mis imágenes\WATERHOUSE\waterhous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5"/>
          <p:cNvSpPr/>
          <p:nvPr/>
        </p:nvSpPr>
        <p:spPr>
          <a:xfrm>
            <a:off x="0" y="121932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0000"/>
                </a:solidFill>
                <a:latin typeface="Segoe Print"/>
              </a:rPr>
              <a:t>Eterna inspiració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85800" y="40384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Segoe Print"/>
              </a:rPr>
              <a:t>“</a:t>
            </a:r>
            <a:r>
              <a:rPr b="1" i="1" lang="es-ES" sz="2800" spc="-1" strike="noStrike">
                <a:solidFill>
                  <a:srgbClr val="002060"/>
                </a:solidFill>
                <a:latin typeface="Segoe Print"/>
              </a:rPr>
              <a:t>El eterno femen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Segoe Print"/>
              </a:rPr>
              <a:t>nos impulsa hacia arrib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Segoe Print"/>
              </a:rPr>
              <a:t>                      </a:t>
            </a:r>
            <a:r>
              <a:rPr b="1" i="1" lang="es-ES" sz="2800" spc="-1" strike="noStrike">
                <a:solidFill>
                  <a:srgbClr val="002060"/>
                </a:solidFill>
                <a:latin typeface="Segoe Print"/>
              </a:rPr>
              <a:t>Goe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7238880" y="5638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Murphy Script"/>
              </a:rPr>
              <a:t>Avance autom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dissolve/>
    <p:sndAc>
      <p:stSnd>
        <p:snd r:embed="rId2" name="Soneto%20de%20la%20lun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028" descr="C:\Documents and Settings\Admin\Mis documentos\Mis imágenes\WATERHOUSE\waterhouse_the_crystal_ball_skull.jpg"/>
          <p:cNvPicPr/>
          <p:nvPr/>
        </p:nvPicPr>
        <p:blipFill>
          <a:blip r:embed="rId1"/>
          <a:stretch/>
        </p:blipFill>
        <p:spPr>
          <a:xfrm>
            <a:off x="4711680" y="0"/>
            <a:ext cx="443232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29"/>
          <p:cNvSpPr/>
          <p:nvPr/>
        </p:nvSpPr>
        <p:spPr>
          <a:xfrm>
            <a:off x="533520" y="1752480"/>
            <a:ext cx="3657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30"/>
          <p:cNvSpPr/>
          <p:nvPr/>
        </p:nvSpPr>
        <p:spPr>
          <a:xfrm>
            <a:off x="914400" y="1371600"/>
            <a:ext cx="304812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c2c2c2"/>
                </a:solidFill>
                <a:latin typeface="Segoe Print"/>
              </a:rPr>
              <a:t>“</a:t>
            </a:r>
            <a:r>
              <a:rPr b="0" i="1" lang="es-ES" sz="3200" spc="-1" strike="noStrike">
                <a:solidFill>
                  <a:srgbClr val="c2c2c2"/>
                </a:solidFill>
                <a:latin typeface="Segoe Print"/>
              </a:rPr>
              <a:t>Para mí, la mujer ideal es aquella con la que puedo llorar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c2c2c2"/>
                </a:solidFill>
                <a:latin typeface="Segoe Print"/>
              </a:rPr>
              <a:t>	</a:t>
            </a:r>
            <a:r>
              <a:rPr b="0" i="1" lang="es-ES" sz="2800" spc="-1" strike="noStrike">
                <a:solidFill>
                  <a:srgbClr val="c2c2c2"/>
                </a:solidFill>
                <a:latin typeface="Segoe Print"/>
              </a:rPr>
              <a:t>Enzo Biag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C:\Documents and Settings\Admin\Mis documentos\Mis imágenes\WATERHOUSE\WATERHOUSE-Narcissus.jpg"/>
          <p:cNvPicPr/>
          <p:nvPr/>
        </p:nvPicPr>
        <p:blipFill>
          <a:blip r:embed="rId1"/>
          <a:stretch/>
        </p:blipFill>
        <p:spPr>
          <a:xfrm>
            <a:off x="4869000" y="0"/>
            <a:ext cx="4275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685800" y="1773360"/>
            <a:ext cx="358128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“</a:t>
            </a:r>
            <a:r>
              <a:rPr b="0" i="1" lang="es-ES" sz="32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La mujer es la reina del mundo y la esclava de un deseo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      </a:t>
            </a:r>
            <a:r>
              <a:rPr b="0" i="1" lang="es-ES" sz="20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Honoré de Balz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C:\Documents and Settings\Admin\Mis documentos\Mis imágenes\WATERHOUSE\circe-waterhou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990720" y="5057640"/>
            <a:ext cx="74674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151515"/>
                </a:solidFill>
                <a:latin typeface="Segoe Print"/>
                <a:ea typeface="Times New Roman"/>
              </a:rPr>
              <a:t>“</a:t>
            </a:r>
            <a:r>
              <a:rPr b="1" i="1" lang="es-ES" sz="2800" spc="-1" strike="noStrike">
                <a:solidFill>
                  <a:srgbClr val="151515"/>
                </a:solidFill>
                <a:latin typeface="Segoe Print"/>
                <a:ea typeface="Times New Roman"/>
              </a:rPr>
              <a:t>Nunca tuve más religión que un cuerpo de muj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51515"/>
                </a:solidFill>
                <a:latin typeface="Segoe Print"/>
                <a:ea typeface="Times New Roman"/>
              </a:rPr>
              <a:t>Joaquín Sabina</a:t>
            </a:r>
            <a:r>
              <a:rPr b="1" i="1" lang="es-ES" sz="2400" spc="-1" strike="noStrike">
                <a:solidFill>
                  <a:srgbClr val="151515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8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C:\Documents and Settings\Admin\Mis documentos\Mis imágenes\WATERHOUSE\WATERHOUSE-At_the_Shrine.jpg"/>
          <p:cNvPicPr/>
          <p:nvPr/>
        </p:nvPicPr>
        <p:blipFill>
          <a:blip r:embed="rId1"/>
          <a:stretch/>
        </p:blipFill>
        <p:spPr>
          <a:xfrm>
            <a:off x="4737240" y="0"/>
            <a:ext cx="440676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"/>
          <p:cNvSpPr/>
          <p:nvPr/>
        </p:nvSpPr>
        <p:spPr>
          <a:xfrm>
            <a:off x="533520" y="1628640"/>
            <a:ext cx="39621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a3a3a3"/>
                </a:solidFill>
                <a:latin typeface="Segoe Print"/>
              </a:rPr>
              <a:t>“</a:t>
            </a:r>
            <a:r>
              <a:rPr b="0" i="1" lang="es-ES" sz="2800" spc="-1" strike="noStrike">
                <a:solidFill>
                  <a:srgbClr val="a3a3a3"/>
                </a:solidFill>
                <a:latin typeface="Segoe Print"/>
              </a:rPr>
              <a:t>Cada mujer que pasa frente a uno sin detenerse, es una historia de amor que no se concretará nunca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a3a3a3"/>
                </a:solidFill>
                <a:latin typeface="Segoe Print"/>
              </a:rPr>
              <a:t>      </a:t>
            </a:r>
            <a:r>
              <a:rPr b="0" i="1" lang="es-ES" sz="2000" spc="-1" strike="noStrike">
                <a:solidFill>
                  <a:srgbClr val="a3a3a3"/>
                </a:solidFill>
                <a:latin typeface="Segoe Print"/>
              </a:rPr>
              <a:t>Alejandro Dolina       </a:t>
            </a:r>
            <a:r>
              <a:rPr b="0" i="1" lang="es-ES" sz="2000" spc="-1" strike="noStrike">
                <a:solidFill>
                  <a:srgbClr val="a3a3a3"/>
                </a:solidFill>
                <a:latin typeface="Segoe Print"/>
              </a:rPr>
              <a:t>	</a:t>
            </a:r>
            <a:r>
              <a:rPr b="0" i="1" lang="es-ES" sz="2800" spc="-1" strike="noStrike">
                <a:solidFill>
                  <a:srgbClr val="a3a3a3"/>
                </a:solidFill>
                <a:latin typeface="Segoe Print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9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C:\Documents and Settings\Admin\Mis documentos\Mis imágenes\WATERHOUSE\waterhouse123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152280" y="0"/>
            <a:ext cx="86868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“</a:t>
            </a:r>
            <a:r>
              <a:rPr b="0" i="1" lang="es-ES" sz="28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Crecí besando libros y pan. Desde que besé a una mujer, mis actividades con el pan y los libros perdieron interés”</a:t>
            </a:r>
            <a:r>
              <a:rPr b="0" i="1" lang="es-ES" sz="28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	</a:t>
            </a:r>
            <a:r>
              <a:rPr b="0" i="1" lang="es-ES" sz="28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	</a:t>
            </a:r>
            <a:r>
              <a:rPr b="0" i="1" lang="es-ES" sz="20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Salman Rushdie</a:t>
            </a:r>
            <a:r>
              <a:rPr b="0" i="1" lang="es-ES" sz="2800" spc="-1" strike="noStrike">
                <a:solidFill>
                  <a:srgbClr val="bfbfbf"/>
                </a:solidFill>
                <a:latin typeface="Segoe Print"/>
              </a:rPr>
              <a:t> </a:t>
            </a:r>
            <a:r>
              <a:rPr b="0" i="1" lang="es-ES" sz="36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	</a:t>
            </a:r>
            <a:r>
              <a:rPr b="0" i="1" lang="es-ES" sz="36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	</a:t>
            </a:r>
            <a:r>
              <a:rPr b="0" i="1" lang="es-ES" sz="36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	</a:t>
            </a:r>
            <a:r>
              <a:rPr b="0" i="1" lang="es-ES" sz="36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C:\Documents and Settings\Admin\Mis documentos\Mis imágenes\WATERHOUSE\WATERHOUSE-My_Sweet_Rose.jpg"/>
          <p:cNvPicPr/>
          <p:nvPr/>
        </p:nvPicPr>
        <p:blipFill>
          <a:blip r:embed="rId1"/>
          <a:stretch/>
        </p:blipFill>
        <p:spPr>
          <a:xfrm>
            <a:off x="3878280" y="0"/>
            <a:ext cx="526572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609480" y="1371600"/>
            <a:ext cx="2819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04920" y="1268280"/>
            <a:ext cx="365760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“</a:t>
            </a:r>
            <a:r>
              <a:rPr b="0" i="1" lang="es-ES" sz="32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Las mujeres con pasado y los hombres con futuro son las personas más interesan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      </a:t>
            </a:r>
            <a:r>
              <a:rPr b="0" i="1" lang="es-ES" sz="20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Chavela Varg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8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C:\Documents and Settings\Admin\Mis documentos\Mis imágenes\WATERHOUSE\WATERHOUSE-Gather_ye_rosebuds.jpg"/>
          <p:cNvPicPr/>
          <p:nvPr/>
        </p:nvPicPr>
        <p:blipFill>
          <a:blip r:embed="rId1"/>
          <a:stretch/>
        </p:blipFill>
        <p:spPr>
          <a:xfrm>
            <a:off x="4059360" y="0"/>
            <a:ext cx="508464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457200" y="990720"/>
            <a:ext cx="3657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533520" y="990720"/>
            <a:ext cx="327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609480" y="1052640"/>
            <a:ext cx="3276720" cy="37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“</a:t>
            </a:r>
            <a:r>
              <a:rPr b="0" i="1" lang="es-ES" sz="32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El rostro de una mujer debe estar acuñado por su propia historia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  </a:t>
            </a:r>
            <a:r>
              <a:rPr b="0" i="1" lang="es-ES" sz="20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Claudia Cardin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C:\Documents and Settings\Admin\Mis documentos\Mis imágenes\WATERHOUSE\waterhouse393vl.jpg"/>
          <p:cNvPicPr/>
          <p:nvPr/>
        </p:nvPicPr>
        <p:blipFill>
          <a:blip r:embed="rId1"/>
          <a:stretch/>
        </p:blipFill>
        <p:spPr>
          <a:xfrm>
            <a:off x="4902120" y="0"/>
            <a:ext cx="424188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6"/>
          <p:cNvSpPr/>
          <p:nvPr/>
        </p:nvSpPr>
        <p:spPr>
          <a:xfrm>
            <a:off x="914400" y="1052640"/>
            <a:ext cx="327672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“</a:t>
            </a:r>
            <a:r>
              <a:rPr b="0" i="1" lang="es-ES" sz="32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La mujer tiene un solo camino para superar al homb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Ser cada día más muj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       </a:t>
            </a:r>
            <a:r>
              <a:rPr b="0" i="1" lang="es-ES" sz="20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Angel Ganiv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C:\Documents and Settings\Admin\Mis documentos\Mis imágenes\WATERHOUSE\waterhouse.jpg"/>
          <p:cNvPicPr/>
          <p:nvPr/>
        </p:nvPicPr>
        <p:blipFill>
          <a:blip r:embed="rId1"/>
          <a:stretch/>
        </p:blipFill>
        <p:spPr>
          <a:xfrm>
            <a:off x="4187880" y="0"/>
            <a:ext cx="495612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304920" y="1219320"/>
            <a:ext cx="388620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“</a:t>
            </a:r>
            <a:r>
              <a:rPr b="0" i="1" lang="es-ES" sz="28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Una mujer puede darlo todo con una sonrisa y recuperarlo después con una lágrim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bfbfbf"/>
                </a:solidFill>
                <a:latin typeface="Segoe Print"/>
              </a:rPr>
              <a:t>G. Coco Cha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8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304920" y="1268280"/>
            <a:ext cx="327636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“</a:t>
            </a:r>
            <a:r>
              <a:rPr b="0" i="1" lang="es-ES" sz="28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Dicen que un hombre no es hombre mientras no oye su nombre en los labios de una mujer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     </a:t>
            </a:r>
            <a:r>
              <a:rPr b="0" i="1" lang="es-ES" sz="2000" spc="-1" strike="noStrike">
                <a:solidFill>
                  <a:srgbClr val="bfbfbf"/>
                </a:solidFill>
                <a:latin typeface="Segoe Print"/>
                <a:ea typeface="Times New Roman"/>
              </a:rPr>
              <a:t>Antonio Machado</a:t>
            </a:r>
            <a:r>
              <a:rPr b="0" i="1" lang="es-ES" sz="2000" spc="-1" strike="noStrike">
                <a:solidFill>
                  <a:srgbClr val="bfbfbf"/>
                </a:solidFill>
                <a:latin typeface="Segoe Pri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5" descr="C:\Documents and Settings\Admin\Mis documentos\Mis imágenes\WATERHOUSE\Waterhouse_Destiny.jpg"/>
          <p:cNvPicPr/>
          <p:nvPr/>
        </p:nvPicPr>
        <p:blipFill>
          <a:blip r:embed="rId1"/>
          <a:stretch/>
        </p:blipFill>
        <p:spPr>
          <a:xfrm>
            <a:off x="3616200" y="0"/>
            <a:ext cx="5527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C:\Documents and Settings\Admin\Mis documentos\Mis imágenes\WATERHOUSE\32203-waterhouse_boreas_small.jpg"/>
          <p:cNvPicPr/>
          <p:nvPr/>
        </p:nvPicPr>
        <p:blipFill>
          <a:blip r:embed="rId1"/>
          <a:stretch/>
        </p:blipFill>
        <p:spPr>
          <a:xfrm>
            <a:off x="4275000" y="0"/>
            <a:ext cx="4869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228600" y="1447920"/>
            <a:ext cx="396252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“</a:t>
            </a:r>
            <a:r>
              <a:rPr b="0" i="1" lang="es-ES" sz="28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Si usted quiere saber lo que una mujer dice realmente, mírela, no la escuche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	</a:t>
            </a:r>
            <a:r>
              <a:rPr b="0" i="1" lang="es-ES" sz="28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     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Oscar Wilde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8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C:\Documents and Settings\Admin\Mis documentos\Mis imágenes\WATERHOUSE\A_coign_of_vantage.jpg"/>
          <p:cNvPicPr/>
          <p:nvPr/>
        </p:nvPicPr>
        <p:blipFill>
          <a:blip r:embed="rId1"/>
          <a:stretch/>
        </p:blipFill>
        <p:spPr>
          <a:xfrm>
            <a:off x="4422600" y="0"/>
            <a:ext cx="47214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5"/>
          <p:cNvSpPr/>
          <p:nvPr/>
        </p:nvSpPr>
        <p:spPr>
          <a:xfrm>
            <a:off x="533520" y="1628640"/>
            <a:ext cx="3124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bfbfbf"/>
                </a:solidFill>
                <a:latin typeface="Segoe Print"/>
              </a:rPr>
              <a:t>Para todas… 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bfbfbf"/>
                </a:solidFill>
                <a:latin typeface="Segoe Print"/>
              </a:rPr>
              <a:t> </a:t>
            </a:r>
            <a:r>
              <a:rPr b="1" i="1" lang="es-ES" sz="3200" spc="-1" strike="noStrike">
                <a:solidFill>
                  <a:srgbClr val="bfbfbf"/>
                </a:solidFill>
                <a:latin typeface="Segoe Print"/>
              </a:rPr>
              <a:t>¡Por ser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bfbfbf"/>
                </a:solidFill>
                <a:latin typeface="Segoe Print"/>
              </a:rPr>
              <a:t>¡Por estar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bfbfbf"/>
                </a:solidFill>
                <a:latin typeface="Segoe Print"/>
              </a:rPr>
              <a:t>¡Por existir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533520" y="5105520"/>
            <a:ext cx="33908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Segoe Print"/>
              </a:rPr>
              <a:t>Música: Clara Mo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Segoe Print"/>
              </a:rPr>
              <a:t>Letra:  “Soneto de la luna” </a:t>
            </a:r>
            <a:r>
              <a:rPr b="0" i="1" lang="es-ES" sz="1400" spc="-1" strike="noStrike">
                <a:solidFill>
                  <a:srgbClr val="ffffff"/>
                </a:solidFill>
                <a:latin typeface="Segoe Print"/>
              </a:rPr>
              <a:t>	</a:t>
            </a:r>
            <a:r>
              <a:rPr b="0" i="1" lang="es-ES" sz="1400" spc="-1" strike="noStrike">
                <a:solidFill>
                  <a:srgbClr val="ffffff"/>
                </a:solidFill>
                <a:latin typeface="Segoe Print"/>
              </a:rPr>
              <a:t>Antonio Ga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Segoe Print"/>
              </a:rPr>
              <a:t>Obra:  J. W. Waterho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C:\Documents and Settings\Admin\Mis documentos\Mis imágenes\WATERHOUSE\WaterhousePsycheBox.jpg"/>
          <p:cNvPicPr/>
          <p:nvPr/>
        </p:nvPicPr>
        <p:blipFill>
          <a:blip r:embed="rId1"/>
          <a:stretch/>
        </p:blipFill>
        <p:spPr>
          <a:xfrm>
            <a:off x="4892760" y="0"/>
            <a:ext cx="425124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5"/>
          <p:cNvSpPr/>
          <p:nvPr/>
        </p:nvSpPr>
        <p:spPr>
          <a:xfrm>
            <a:off x="685800" y="1052640"/>
            <a:ext cx="3733920" cy="33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“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El testimonio de las mujeres es ver lo de fuera desde dentro. Si hay una característica que pueda diferenciar el discurso de la mujer, es ese encuadr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     </a:t>
            </a:r>
            <a:r>
              <a:rPr b="0" i="1" lang="es-ES" sz="20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C. Martín Gaite</a:t>
            </a:r>
            <a:r>
              <a:rPr b="0" i="1" lang="es-ES" sz="2000" spc="-1" strike="noStrike">
                <a:solidFill>
                  <a:srgbClr val="c2c2c2"/>
                </a:solidFill>
                <a:latin typeface="Segoe Pri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:\Documents and Settings\Admin\Mis documentos\Mis imágenes\WATERHOUSE\Waterhouse_Ophel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228600" y="76212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“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Sin la mujer, la vida es pura prosa”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	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	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	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	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	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	</a:t>
            </a:r>
            <a:r>
              <a:rPr b="0" i="1" lang="es-ES" sz="20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Rubén Darío</a:t>
            </a:r>
            <a:r>
              <a:rPr b="0" i="1" lang="es-ES" sz="2000" spc="-1" strike="noStrike">
                <a:solidFill>
                  <a:srgbClr val="c2c2c2"/>
                </a:solidFill>
                <a:latin typeface="Segoe Pri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C:\Documents and Settings\Admin\Mis documentos\Mis imágenes\WATERHOUSE\psyche_waterhouse.jpg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838080" y="1557360"/>
            <a:ext cx="37339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“</a:t>
            </a:r>
            <a:r>
              <a:rPr b="0" i="1" lang="es-ES" sz="28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Sin la sonrisa de una mujer, no hay gloria completa para el hombre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c2c2c2"/>
                </a:solidFill>
                <a:latin typeface="Segoe Print"/>
              </a:rPr>
              <a:t>José Mar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C:\Documents and Settings\Admin\Mis documentos\Mis imágenes\WATERHOUSE\waterhouse004.jpg"/>
          <p:cNvPicPr/>
          <p:nvPr/>
        </p:nvPicPr>
        <p:blipFill>
          <a:blip r:embed="rId1"/>
          <a:stretch/>
        </p:blipFill>
        <p:spPr>
          <a:xfrm>
            <a:off x="4950000" y="0"/>
            <a:ext cx="419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457200" y="1557360"/>
            <a:ext cx="39625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“</a:t>
            </a:r>
            <a:r>
              <a:rPr b="0" i="1" lang="es-ES" sz="28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Las batallas contra las mujeres son las únicas que se ganan huyendo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Napoleón Bonaparte</a:t>
            </a:r>
            <a:r>
              <a:rPr b="0" i="1" lang="es-ES" sz="2000" spc="-1" strike="noStrike">
                <a:solidFill>
                  <a:srgbClr val="c2c2c2"/>
                </a:solidFill>
                <a:latin typeface="Segoe Pri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C:\Documents and Settings\Admin\Mis documentos\Mis imágenes\WATERHOUSE\Ariad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533520" y="533520"/>
            <a:ext cx="4572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2c2c2"/>
                </a:solidFill>
                <a:latin typeface="Segoe Print"/>
              </a:rPr>
              <a:t>"Cuando una mujer se rinde es porque ha vencido"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2c2c2"/>
                </a:solidFill>
                <a:latin typeface="Segoe Print"/>
              </a:rPr>
              <a:t>	</a:t>
            </a:r>
            <a:r>
              <a:rPr b="0" i="1" lang="es-ES" sz="2000" spc="-1" strike="noStrike">
                <a:solidFill>
                  <a:srgbClr val="c2c2c2"/>
                </a:solidFill>
                <a:latin typeface="Segoe Print"/>
              </a:rPr>
              <a:t>Aldo Cammaro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C:\Documents and Settings\Admin\Mis documentos\Mis imágenes\WATERHOUSE\waterhouse40.jpg"/>
          <p:cNvPicPr/>
          <p:nvPr/>
        </p:nvPicPr>
        <p:blipFill>
          <a:blip r:embed="rId1"/>
          <a:stretch/>
        </p:blipFill>
        <p:spPr>
          <a:xfrm>
            <a:off x="443088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304920" y="1341360"/>
            <a:ext cx="396216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“</a:t>
            </a:r>
            <a:r>
              <a:rPr b="0" i="1" lang="es-ES" sz="32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No se nace, sino que se deviene muj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 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Simone de Beauvoir</a:t>
            </a:r>
            <a:r>
              <a:rPr b="0" i="1" lang="es-ES" sz="2400" spc="-1" strike="noStrike">
                <a:solidFill>
                  <a:srgbClr val="c2c2c2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C:\Documents and Settings\Admin\Mis documentos\Mis imágenes\WATERHOUSE\waterhouse_lady_of_shalott.jpg"/>
          <p:cNvPicPr/>
          <p:nvPr/>
        </p:nvPicPr>
        <p:blipFill>
          <a:blip r:embed="rId1"/>
          <a:stretch/>
        </p:blipFill>
        <p:spPr>
          <a:xfrm>
            <a:off x="0" y="0"/>
            <a:ext cx="506088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5943600" y="12193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562720" y="914400"/>
            <a:ext cx="3276360" cy="36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“</a:t>
            </a:r>
            <a:r>
              <a:rPr b="0" i="1" lang="es-ES" sz="32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La intuición de una mujer es más precisa que la certeza de un homb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c2c2c2"/>
                </a:solidFill>
                <a:latin typeface="Segoe Print"/>
                <a:ea typeface="Times New Roman"/>
              </a:rPr>
              <a:t>Rudyard Kip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8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08:07:57Z</dcterms:created>
  <dc:creator>Alejandra</dc:creator>
  <dc:description/>
  <dc:language>en-US</dc:language>
  <cp:lastModifiedBy>Maria Luisa</cp:lastModifiedBy>
  <dcterms:modified xsi:type="dcterms:W3CDTF">2011-03-07T17:19:30Z</dcterms:modified>
  <cp:revision>68</cp:revision>
  <dc:subject/>
  <dc:title>Presentación de PowerPoint</dc:title>
</cp:coreProperties>
</file>