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drumroll.wav" ContentType="audio/x-wav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EBC-F66D-4AAF-B9CB-B626663E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199-F5B0-4112-A4FC-9E57E868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909-B73A-45CA-A767-D640519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41D-C73C-4D02-AE68-49DD59DE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3A0-B439-445D-BFE3-8D0C34E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F03-FC6E-4DF9-9C09-EA871BD4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631-79A2-41B3-80AB-A5617B66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185-21AA-456D-BB33-26FC6C65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C03-030D-48B8-B836-66013D84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662-0181-495B-878A-2052A487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507-C46F-4EA2-BD88-E45001E0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74C-1CB3-48C7-B830-DE9B3BA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F29E-F6B8-4654-9F52-AE1CAD10174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cintuyy@redpositiva.com.a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int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br>
              <a:rPr sz="4000"/>
            </a:b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1  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POR INTERVA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UNCIONAMIENTO ALTERNADO DE MAGNETOS E I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ZONAS DE ESTIMULO CONCENTRICA. FORTALECIMIENTO MUSCULAR Y FIBRI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ORRIENTE CIRCUNDANTE SIMILAR A LA RUSA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ONDA DE FRECUENCIA PUNZANTE, SIMILAR A ELECTROACUPUN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ONDAS RELAJANTES, BENEFICIA ZONAS  MUSCULARES CONGESTIONADAS O CON D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2: 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DIGITOPUNTURA</a:t>
            </a: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ONDAS DE CACHETEO Y RODADURA. SIMILAR AL MASAJE CIENTÍFICO TAILANDÉ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3: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MASAJE TAILAN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TRATA DE UNA ONDA ESCALAR  ( TIPO BOOMERANG = PENETRA REMUEVE Y REBOTA 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MASAMIENTO CIRCUNDAN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宋体"/>
              </a:rPr>
              <a:t>MOVILIZA LAS GRASAS Y ADIPOSIDA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4 :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MARTILLAJE  O GOLPET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FRICCIÓN DE ONDAS ESCALAR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ONDAS DE DOS TIPOS: CONCAVA Y CONVEX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FRICCIONA Y DESGASTA LA ADIPOSID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REAFIRMA</a:t>
            </a: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5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 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TONIFICAD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VIBRACIÓN ESTIMULANTE SECUE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PUNTALA, VIBRA Y CAMBIA LA POLAR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Normaliza el funcionamiento de los órganos inter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6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: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POR SECTORES O POR PUNT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70828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MBINA TODAS LAS ONDAS ANTERI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CTIVA LA CIRCULACIÓN SANGUÍN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MAXIMO DE FRECUENCIA DE ON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7: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MODO GLOBAL O MASAJE TO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lud Na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cintuyy@redpositiva.com.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iosalud@redpositiva.org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atonal Suipacha 370 – 1º B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uenos Aires – Argentin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edia cuadra del Obelis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5-3494-1438   //   011-4326-07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052280"/>
            <a:ext cx="82296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Tres principales causas de muerte: exceso de peso,  stress y cigarrillo ( cerebrales y cardíaco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Tecnología de avanzada aplicada a la enfermedad del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siglo XXI (40 % población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50 años de experiencia mundial aplicados en 1 solo producto, el nues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Beneficios estéticos y terapéuticos para toda la famil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3 diferentes tipos de energía naturales que benefician el cuerpo y la sal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La intensidad de energía adecuada para cada zona del cuerp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Computadora ajustable a la medida de su cuerpo y sus necesida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  <a:ea typeface="宋体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  <a:ea typeface="宋体"/>
              </a:rPr>
              <a:t> Por qu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  <a:ea typeface="宋体"/>
              </a:rPr>
              <a:t> es el mejor producto del merca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3 Rectángulo"/>
          <p:cNvSpPr/>
          <p:nvPr/>
        </p:nvSpPr>
        <p:spPr>
          <a:xfrm>
            <a:off x="500040" y="203976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Las mujeres y los hombres de todo el mundo invierten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dinero en es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ica por eso son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hermosos hoy en 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ste producto lo ayuda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 a embellecer su cuerpo y hacerlo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salu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La ciencia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dica ha comprobado que el sobrepeso es perjudicial para la salud, las expectativas de una larga vida, para trabajar o para estud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amb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puede derivar en enfermedades tales como hipertens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, alto contenido de grasa en la sangre, alterac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de ritmo car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c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Este producto disuelve y transforma el excedente de grasa en peque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ñ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as part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í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culas y las elimina por sus canales na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l 80% del excedente de grasa se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 quemado con su uso contin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taca zonas adiposas en dos frentes y con 4 tipos de energ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s diferentes, todas na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s el dispositivo ideal para las personas con sobre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Muchos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odos ofrecen una mala alternativa que solo llevan a c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rculos de adelgazar-volver a engordar-adelgazar-volver a engordar y 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uestro producto es ideal en la disminuc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de grasa localizad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Remueve adiposidad localizada excedente de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cualquier lugar del cuerp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zonas con estrías, recuperando la firmeza de la piel. Tonifica el bus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Elimina el cansancio y stress. Mejora la depresión.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Elimina celulitis y tonif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Descontractura cualquier zona del cuerp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funcionamiento orgánico y su metabolismo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tot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Armoniza y equilibra todos los canales meridianos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circulación sanguínea y linfát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1357200" y="5000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eneficios Princip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59984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imanes ( imano terapi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magnetos ( magnetoterapi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calor ( térmic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3 fuentes de energía natural que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benefician la salu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Calibri"/>
              </a:rPr>
              <a:t>FUNCIONA SIN ENCHUFAR EL APARAT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PRODUCE POLARIZACION EN LAS CELULAS ( MINERALES EN SANGRE 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STIMULA Y ALINEA CELULAS DESORDENADAS,  ATROFIADAS Y ENGORDADA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REPARACION Y RESTAURACI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N DE TEJIDOS. EJEMPLO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A  PIEL: ESTR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Í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AS, FLACCIDEZ, TONIFICACI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N, ET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OS HUESOS: QUEBRADURAS O FISURA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OS 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RGANOS: DISFUNCIONES HEPATICAS, RENALES, ET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QUILIBRA ( PRINCIPIO DEL YING Y YANG 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SI EL EQUIPO ESTA CONECTADO SE TRANSFORMA EN UN CAMPO MAGNETI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Im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Magn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STIMULO VIBRATORIO ( HASTA 5.000 R.P.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oviliza los líquidos del cuerpo (7 CM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GUA,  SANGRE Y LINFA ( LIQ DE DRENAJE )  ocupa el 90% de nuestro cuer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Favorece el sistema energético y metabólico  que conforman la maquina hum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ENEFICIA LA CADENA: CELULA – TEJIDO – VISCERA 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- ORGAN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oviliza la energía disponible  de nuestro sistema.  La relaja y la pot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Inducción celular de rotación  y frotación por estimulo  de ondas de frecuencia (50 HZ)  de ahí  el calor que se produce  = CALOR  Y ENERGIA (  la sed tiene su principio en esta combustión </a:t>
            </a:r>
            <a:r>
              <a:rPr b="1" lang="es-ES" sz="2000" spc="-1" strike="noStrike">
                <a:solidFill>
                  <a:srgbClr val="9c004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120" y="1571400"/>
            <a:ext cx="8329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c00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USA EL PRINCIPIO FISICO DE RADIACIÓN TERM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IMULA LAS ZONAS MAS SUPERFICIALES           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(HASTA 3 CM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TACA Y REDUCE ADIPOSIDAD LOCALIZADA EN  TEJIDOS ( PANZA DE BEBEDOR, CELULITIS 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L CALOR PRODUCE DILATACION = APERTURA DE LOS POROS PERMEABILIZACIÓN CUTÁ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IMULA LAS GLANDULAS EXOCRINAS ( HACIA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ERA ), ESA MOVILIZACION  EXPULSA  LO  ESTANCA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LA GRASA PROVOCA UNA SOBRECARGA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ARDIACA. LOS MIEMBROS INFERIORES SON  LOS MAS PERJUDI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c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STIMULACIÓN SANGUINEA Y LINF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MOSTRACIÓN DE LOS 7 CICLOS POSTERI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USA COMO PRE CALENTAMIENTO MUSCULAR O PRE LINFA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8 Modos de Uso</a:t>
            </a: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0 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: POR  CIC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1:34:08Z</dcterms:created>
  <dc:creator>PC</dc:creator>
  <dc:description/>
  <dc:language>en-US</dc:language>
  <cp:lastModifiedBy>Francisco Checchi</cp:lastModifiedBy>
  <dcterms:modified xsi:type="dcterms:W3CDTF">2012-06-01T18:41:30Z</dcterms:modified>
  <cp:revision>57</cp:revision>
  <dc:subject/>
  <dc:title>Diapositiva 1</dc:title>
</cp:coreProperties>
</file>