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AmazingGrace_Mantovani.wav" ContentType="audio/x-wav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091-3612-4C9F-A17D-44F04AE2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511-1D77-45FB-8C87-92F94E0B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DFA-0BA6-4BD0-A93A-BA6126CB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1BE-3FB3-4E43-AC83-54CD09E4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A23-685D-470F-9A80-9D62E137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C2E-7650-4FC9-BFDA-DC0E202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506-3311-450A-B08B-ADA3615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35B-E770-43EE-BECE-675081B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1AE-A660-4037-952B-3F709F6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C82-4469-47EF-807B-53B3B538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582-B5D3-41D5-8D1C-CA5CF64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737-073F-4805-89F4-4E8576D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0DE4-ED7D-495F-BBE7-51F296FFC3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Imagen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80880" y="620640"/>
            <a:ext cx="83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DAD   NEUROLINGÜÍSTIC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agen_plan_trabaj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395280" y="5229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sigues diciendo que no soportas tu trabajo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edes perderlo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avril-lavigne-140-n24350"/>
          <p:cNvPicPr/>
          <p:nvPr/>
        </p:nvPicPr>
        <p:blipFill>
          <a:blip r:embed="rId1"/>
          <a:stretch/>
        </p:blipFill>
        <p:spPr>
          <a:xfrm>
            <a:off x="-2844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324000" y="5229360"/>
            <a:ext cx="83516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sigues diciendo que no soportas tu cuerpo,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 cuerpo puede enfermarse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utos"/>
          <p:cNvPicPr/>
          <p:nvPr/>
        </p:nvPicPr>
        <p:blipFill>
          <a:blip r:embed="rId1"/>
          <a:stretch/>
        </p:blipFill>
        <p:spPr>
          <a:xfrm>
            <a:off x="0" y="-387360"/>
            <a:ext cx="96836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573120" y="192240"/>
            <a:ext cx="839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Si sigues diciendo que no aguantas tu car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tu carro puede ser robado o descompon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vaso-quebr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337760" y="333000"/>
            <a:ext cx="709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sigues diciendo que estás quebra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s qué? Siempre estarás quebrad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el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0" y="530676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sigues diciendo que no puedes conf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n hombres o mujeres, siempre encontrarás alguien en tu vida que te lastimará o te traicionará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ombre-desempleado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250920" y="5384880"/>
            <a:ext cx="864216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 sigues diciendo que no encuentras trabajo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irás desempleado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novio+loco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198360" y="128160"/>
            <a:ext cx="495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Si sigues diciendo que no puedes encontrar alguien a quien amar o crea en ti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tus pensamientos atraerán mas experiencias confirmando tus creencias.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pensamiento+positi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828720" y="831600"/>
            <a:ext cx="74883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Haz tus pensamientos y tus conversaciones más positivos y guárdalas con fe, esperanza, amor y acción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esarrollo-perso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686040" y="2055600"/>
            <a:ext cx="509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*No tengas miedo de creer que puedes tener lo que tú quieres y mereces.*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nsamientos+Positiv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4639320" y="589680"/>
            <a:ext cx="37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serva tus 'Pensamientos,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convertirán en palab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praying%20in%20the%20spirit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611280" y="5840280"/>
            <a:ext cx="79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tes de Orar…PERDONA  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buenas_relaci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233280" y="5300640"/>
            <a:ext cx="441000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serva tus 'Palabras'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 convertirán en acciones. 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undo-mejor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2268360" y="26028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bserva tus 'Acciones'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 convertirán en hábitos.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2562053805_49f09ba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324000" y="551664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serva tus 'Hábitos', Se convertirán en carácter.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vorcio-ninos"/>
          <p:cNvPicPr/>
          <p:nvPr/>
        </p:nvPicPr>
        <p:blipFill>
          <a:blip r:embed="rId1"/>
          <a:stretch/>
        </p:blipFill>
        <p:spPr>
          <a:xfrm>
            <a:off x="-22320" y="1622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385920" y="476280"/>
            <a:ext cx="8528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bserva tu 'Carácter'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 convertirá en tu 'Destino'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aminatas Made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60280" y="333360"/>
            <a:ext cx="835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sí…. Para prevenir cualquier obstáculo…</a:t>
            </a:r>
            <a:endParaRPr b="0" lang="en-US" sz="1800" spc="1" strike="noStrike">
              <a:ln w="12600">
                <a:solidFill>
                  <a:srgbClr val="92d05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Consigue tu propio camino ! </a:t>
            </a:r>
            <a:endParaRPr b="0" lang="en-US" sz="1800" spc="1" strike="noStrike">
              <a:ln w="12600">
                <a:solidFill>
                  <a:srgbClr val="92d05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jovenes_felices_su_vida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250920" y="907920"/>
            <a:ext cx="84247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¡¡ Disfruta cada minuto de tu vida !! 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      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e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539640" y="1125360"/>
            <a:ext cx="60483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uando el filosofo señala la luna, 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l tonto se fija en el dedo.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regalo_vacio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58920" y="5398560"/>
            <a:ext cx="8426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'Si no te gusta lo que recib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visa muy bien lo que estás dando'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ola de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396720" y="189000"/>
            <a:ext cx="8309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elicid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341280" y="5505480"/>
            <a:ext cx="82058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2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blar-al-oido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>
            <a:off x="3557520" y="2666880"/>
            <a:ext cx="2028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792000" y="6021360"/>
            <a:ext cx="756000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tes de Hablar…ESCUCHA 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20angels20earth20light4oq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2473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estés ocupado todo el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arte éste mensaje de inspir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¡¡ yo lo acabo de hacer !!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dansalax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900000" y="2781360"/>
            <a:ext cx="5362560" cy="161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¨QUE COSA EXTRAÑA ES EL HOMBRE, 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ACER NO PIDE, 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IVIR NO SABE,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Y MORIR NO QUIERE¨.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5724360" y="5159520"/>
            <a:ext cx="23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639" dir="2700000" blurRad="0" rotWithShape="0">
                    <a:srgbClr val="000000"/>
                  </a:outerShdw>
                </a:effectLst>
                <a:latin typeface="Impact"/>
              </a:rPr>
              <a:t>Un  Abraz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63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scribir-ca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395280" y="5586480"/>
            <a:ext cx="84247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tes de Escribir…PIENSA  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astar-plata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2781360"/>
            <a:ext cx="62200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es de Gastar…GAN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riticas%255B3%25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5" descr=""/>
          <p:cNvPicPr/>
          <p:nvPr/>
        </p:nvPicPr>
        <p:blipFill>
          <a:blip r:embed="rId2"/>
          <a:stretch/>
        </p:blipFill>
        <p:spPr>
          <a:xfrm>
            <a:off x="1395360" y="5430960"/>
            <a:ext cx="702936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no-puedes-rendi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1258920" y="5445000"/>
            <a:ext cx="6985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2f2f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tes de Rendirte…PRUEBA</a:t>
            </a:r>
            <a:endParaRPr b="0" lang="en-US" sz="1800" spc="1" strike="noStrike">
              <a:ln w="0">
                <a:noFill/>
              </a:ln>
              <a:solidFill>
                <a:srgbClr val="f2f2f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nuestros%20pensamientos%20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250920" y="5300640"/>
            <a:ext cx="86421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us PALABRAS, tus SUEÑOS, y tus PENSAMIENTOS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ienen el poder de crear condiciones en tu vida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yR-Consultores-Cristian-Bejarano-Hablar-En-Publico-Formacion-Talleres-Seminarios-Conferencias-02"/>
          <p:cNvPicPr/>
          <p:nvPr/>
        </p:nvPicPr>
        <p:blipFill>
          <a:blip r:embed="rId1"/>
          <a:srcRect l="0" t="938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250920" y="392040"/>
            <a:ext cx="34574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05867"/>
                    </a:gs>
                    <a:gs pos="50000">
                      <a:srgbClr val="ffffff"/>
                    </a:gs>
                    <a:gs pos="100000">
                      <a:srgbClr val="205867"/>
                    </a:gs>
                  </a:gsLst>
                  <a:lin ang="0"/>
                </a:gradFill>
                <a:effectLst>
                  <a:outerShdw dist="50621" dir="2021404" blurRad="0" rotWithShape="0">
                    <a:srgbClr val="000000"/>
                  </a:outerShdw>
                </a:effectLst>
                <a:latin typeface="Times New Roman"/>
              </a:rPr>
              <a:t>De lo que hables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05867"/>
                  </a:gs>
                  <a:gs pos="50000">
                    <a:srgbClr val="ffffff"/>
                  </a:gs>
                  <a:gs pos="100000">
                    <a:srgbClr val="205867"/>
                  </a:gs>
                </a:gsLst>
                <a:lin ang="0"/>
              </a:gradFill>
              <a:effectLst>
                <a:outerShdw dist="50621" dir="2021404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05867"/>
                    </a:gs>
                    <a:gs pos="50000">
                      <a:srgbClr val="ffffff"/>
                    </a:gs>
                    <a:gs pos="100000">
                      <a:srgbClr val="205867"/>
                    </a:gs>
                  </a:gsLst>
                  <a:lin ang="0"/>
                </a:gradFill>
                <a:effectLst>
                  <a:outerShdw dist="50621" dir="2021404" blurRad="0" rotWithShape="0">
                    <a:srgbClr val="000000"/>
                  </a:outerShdw>
                </a:effectLst>
                <a:latin typeface="Times New Roman"/>
              </a:rPr>
              <a:t>lo obtendrás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05867"/>
                  </a:gs>
                  <a:gs pos="50000">
                    <a:srgbClr val="ffffff"/>
                  </a:gs>
                  <a:gs pos="100000">
                    <a:srgbClr val="205867"/>
                  </a:gs>
                </a:gsLst>
                <a:lin ang="0"/>
              </a:gradFill>
              <a:effectLst>
                <a:outerShdw dist="50621" dir="2021404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1:37:54Z</dcterms:created>
  <dc:creator>Personal</dc:creator>
  <dc:description/>
  <dc:language>en-US</dc:language>
  <cp:lastModifiedBy>FASAD</cp:lastModifiedBy>
  <dcterms:modified xsi:type="dcterms:W3CDTF">2011-05-25T19:43:29Z</dcterms:modified>
  <cp:revision>6</cp:revision>
  <dc:subject/>
  <dc:title>Diapositiva 1</dc:title>
</cp:coreProperties>
</file>