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Frank%20Sinatra%20-%20My%20Way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rank%20Sinatra%20-%20My%20Way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IMAGEM PARA TELA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2951280"/>
          </a:xfrm>
          <a:prstGeom prst="rect">
            <a:avLst/>
          </a:prstGeom>
          <a:ln w="0">
            <a:noFill/>
          </a:ln>
        </p:spPr>
      </p:pic>
      <p:sp>
        <p:nvSpPr>
          <p:cNvPr id="37" name="Rectangle 8"/>
          <p:cNvSpPr/>
          <p:nvPr/>
        </p:nvSpPr>
        <p:spPr>
          <a:xfrm>
            <a:off x="3214440" y="4581360"/>
            <a:ext cx="290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La última pied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Rectangle 11"/>
          <p:cNvSpPr/>
          <p:nvPr/>
        </p:nvSpPr>
        <p:spPr>
          <a:xfrm>
            <a:off x="1908000" y="5516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Música:  Frank Sinatra - My 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J.R.M.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IMAGEM PARA TELA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2951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0" y="3500280"/>
            <a:ext cx="914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Asume tus errores como aprendizajes, pide disculpas si lo crees conveniente, sigue tomando tus decisiones y vive “A TU MANERA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Aún tienes muchas piedras preciosas en el corazón, muchos momentos Mágicos que vivir y muchos errores que comet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Aprovecha tus oportunidades, disfruta plenamente la vida, y si de repente crees que estás equivocada pero crees en ti, y decides dar un cambio de rumbo, ¡cambia y rectifica!...pues esos son regalos del Padre Universal para tí (libre albedrío, capacidad de rectificar y aprender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¡A mi todavía me queda una piedra!...¿Y a t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IMAGEM PARA TELA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2951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179280" y="3387960"/>
            <a:ext cx="8678880" cy="301860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fff99"/>
                </a:solidFill>
                <a:latin typeface="Arial"/>
              </a:rPr>
              <a:t>¡Rebelate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fff99"/>
                </a:solidFill>
                <a:latin typeface="Arial"/>
              </a:rPr>
              <a:t>lucha contra las adversidades, y se feliz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fff99"/>
                </a:solidFill>
                <a:latin typeface="Arial"/>
              </a:rPr>
              <a:t>¡¡A TU MANERA!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IMAGEM PARA TELA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295128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9"/>
          <p:cNvSpPr/>
          <p:nvPr/>
        </p:nvSpPr>
        <p:spPr>
          <a:xfrm>
            <a:off x="468360" y="3357720"/>
            <a:ext cx="8316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Me encanta una canción de Frank Sinat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que yo acostumbro cantar, My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uando leía este texto, me llamo la atención la letra de esta canción que dice mas o menos así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Si yo acerté...o si fallé,  eso lo hice a mi manera”.</a:t>
            </a: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Frank%20Sinatra%20-%20My%20Way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IMAGEM PARA TELA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2951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0" y="335772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Cuando pienso en el pasado, recuerdo que cometí muchos errores; tuve bastantes aciertos pero también me equivoqu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Y ahora, cuando pienso en el futuro, estoy seguro que seguiré acertando y equivocándom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IMAGEM PARA TELA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2951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334980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Es imposible acertar siempre, además de que no aprenderíamos nada al salirnos todo bi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Pero lo importante es que no perdamos tiempo ni gastemos nuestra energía torturándonos. Podemos ser un poco críticos con nosotros mismos para tomar conciencia de los errores y aprender de ellos, pero no machacarnos ni reprocharnos todo el tiempo.</a:t>
            </a: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IMAGEM PARA TELA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2951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31381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Un</a:t>
            </a:r>
            <a:r>
              <a:rPr b="1" lang="pt-BR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día, un familiar me preguntó y juzgó por que tomé una decisión equivocada tiempo atrá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Respondí que no me arrepentía, y le expliqué que en aquel momento, mi actitud me parecía lógic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Si hubiese tenido el conocimiento y la madurez necesaria para aquella decisión,  posiblemente habría sido diferente pero eso  no lo sabré nunc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¡Por eso te digo a ti que me lees!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no te tortures por un error del pasad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IMAGEM PARA TELA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2951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0" y="36388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Talvez  elegiste a la persona equivocad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para casar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A lo mejor te fuiste de una buena empresa para terminar en otra peo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O quizás una hija embarazada que se fué de la cas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No importa lo que sea, ¡no te tortures!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IMAGEM PARA TELA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2951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0" y="32130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Enseguida que tomes conciencia de dar cambios en una situación ¡hazlo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Si te sientes culpable, ¡perdónate!, y comprende que actuaste así porque en ese momento la ocasión lo requería, no vayas mas allá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Existe una historia conocida que me gusta much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Un pescador llegó a la playa de madrugada para  trabajar y encontró una bolsita llena de pied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IMAGEM PARA TELA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2951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0" y="29224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99"/>
                </a:solidFill>
                <a:latin typeface="Arial"/>
              </a:rPr>
              <a:t>No había amanecido y comenzó a lanzarlas al mar una a una; según las iba tirando iba amaneciendo, y cuando iba a lanzar la última piedra, vió que era una piedra preciosa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700" spc="-1" strike="noStrike">
                <a:solidFill>
                  <a:srgbClr val="ffff99"/>
                </a:solidFill>
                <a:latin typeface="Arial"/>
              </a:rPr>
              <a:t>Muy arrepentido, le contó el incidente a un amigo y este le dijo: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99"/>
                </a:solidFill>
                <a:latin typeface="Arial"/>
              </a:rPr>
              <a:t>– “</a:t>
            </a:r>
            <a:r>
              <a:rPr b="1" lang="pt-BR" sz="2700" spc="-1" strike="noStrike">
                <a:solidFill>
                  <a:srgbClr val="ffff99"/>
                </a:solidFill>
                <a:latin typeface="Arial"/>
              </a:rPr>
              <a:t>hubiese sido mejor si prestases mas atención, pero   piensa que todavía te queda la última piedra”</a:t>
            </a:r>
            <a:r>
              <a:rPr b="0" lang="pt-BR" sz="27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IMAGEM PARA TELA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2951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0" y="3063960"/>
            <a:ext cx="9144000" cy="36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99"/>
                </a:solidFill>
                <a:latin typeface="Arial"/>
              </a:rPr>
              <a:t>MORALEJA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99"/>
                </a:solidFill>
                <a:latin typeface="Arial"/>
              </a:rPr>
              <a:t>Hay personas que se pasan la vida reprochándose y martirizándose por lo que hicieron o dejaron de hacer siendo demasiado críticas por sus errore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99"/>
                </a:solidFill>
                <a:latin typeface="Arial"/>
              </a:rPr>
              <a:t>Si eres una de ellas,  hay un mensaje para ti: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7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1" i="1" lang="pt-BR" sz="2700" spc="-1" strike="noStrike">
                <a:solidFill>
                  <a:srgbClr val="ffff99"/>
                </a:solidFill>
                <a:latin typeface="Arial"/>
              </a:rPr>
              <a:t>No pierdas tu tiempo con remordimientos ni arrepentimientos”.</a:t>
            </a:r>
            <a:r>
              <a:rPr b="1" lang="pt-BR" sz="27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9:19:07Z</dcterms:created>
  <dc:creator>miguel</dc:creator>
  <dc:description/>
  <dc:language>en-US</dc:language>
  <cp:lastModifiedBy>miguel</cp:lastModifiedBy>
  <dcterms:modified xsi:type="dcterms:W3CDTF">2009-10-05T21:27:29Z</dcterms:modified>
  <cp:revision>2</cp:revision>
  <dc:subject/>
  <dc:title>Diapositiva 1</dc:title>
</cp:coreProperties>
</file>