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2E9-54F5-4ECB-A1CB-5673300A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7BB-6879-4292-AC0C-55C3C36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F18-0AA5-4F1A-9F8C-64EC6036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F3D-7DEA-45CA-B198-B95F9BBD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F334-2E1C-4606-A2CC-B892998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2B45-4DFE-48AE-B4BA-DADD7DA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31B-F735-4211-B35F-A711D6D7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C58D-E2BB-4FF0-88D7-FA3E9402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E96-5272-4709-A542-245B03DA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012B-9F70-47B8-B31E-6C824ABD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5C73-0B89-475A-8CBA-D997531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C83-0FDB-4330-ACE8-D445A9F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457D-C12C-406D-8B00-A0F87A62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8737-54AA-40C2-B030-6A446FE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D53-F34B-42DD-9602-D87C0C47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0CC-F3D2-4AFB-9DFA-EF82B482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4147-E0A1-4E50-AD9A-D5F4114C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530-885E-4BCE-955E-FC260A2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131-E280-44C5-BD55-CE4A18E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9EE-D144-42FA-8DBF-F6310EA2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9CF-0536-4241-898D-D1115FB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020-CCE9-48B6-A922-477D1B1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440-5A2A-4AF0-9B45-DA1D69D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B4A-55F8-4EE5-AE51-F619C22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/>
            <p:nvPr/>
          </p:nvSpPr>
          <p:spPr>
            <a:xfrm>
              <a:off x="5386680" y="1590480"/>
              <a:ext cx="3744360" cy="525996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6480"/>
              <a:ext cx="16819920" cy="13689000"/>
            </a:xfrm>
            <a:custGeom>
              <a:avLst/>
              <a:gdLst>
                <a:gd name="textAreaLeft" fmla="*/ 8409240 w 16819920"/>
                <a:gd name="textAreaRight" fmla="*/ 16819200 w 1681992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30972-CD2F-4E32-94E4-FB25B20E7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/>
            <p:nvPr/>
          </p:nvSpPr>
          <p:spPr>
            <a:xfrm>
              <a:off x="3270600" y="2696760"/>
              <a:ext cx="5871600" cy="414756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52600"/>
              <a:ext cx="13451040" cy="10783800"/>
            </a:xfrm>
            <a:custGeom>
              <a:avLst/>
              <a:gdLst>
                <a:gd name="textAreaLeft" fmla="*/ 6724800 w 13451040"/>
                <a:gd name="textAreaRight" fmla="*/ 13450680 w 1345104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5FAC5E-5330-4038-8C6C-41B60F484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1448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Cuatro velas estaban ardiendo calmadam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El ambiente estaba tan silencioso que se podia oír el diálogo entre el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 vela fue encendida el 3 de octubre de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guien que tiene esperanza, amor, fé y desea mucha paz, te está enviando y está manteniendo encendida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íala a tus amig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ti, te deseo que la vela de la esperanza, del  amor, de la fé, de la paz y de la AMISTAD  nunca se apague en tu vida!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a vela no pierde su llama encendiendo otra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r favor, envía a tus amigos, y haz que la vela de ellos también permanezca encendid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 gran abrazo y que DIOS te BENDIGA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0"/>
            <a:ext cx="87361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primer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Yo soy la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Paz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, y a pesar de mi luz, las person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 consiguen mantenerme encendida. En seguid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 llama, lentamente, 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ó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tot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920" y="69840"/>
            <a:ext cx="8910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egund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dice: - Yo me llamo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Fé!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Infelizmente soy superflua para las personas. Ellas no quieren saber de Dios, por eso no tiene sent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ntinuar ardie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l terminar su charla, un viento sopló levemente sobre ella, y la ll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9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"/>
            <a:ext cx="89154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Muy bajo y triste 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ercera vela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se manifestó: - Yo soy e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mor!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No tengo más fuerzas para ard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Las personas me dejan de lado, porque sólo consiguen mirarse ellas mismas, se olvidan hasta de aquellos que está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su alrededor. Y también 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5120" y="101520"/>
            <a:ext cx="85345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 repente, llegó un niño y vio las tres velas </a:t>
            </a:r>
            <a:r>
              <a:rPr b="0" lang="en-GB" sz="3200" spc="-1" strike="noStrike">
                <a:solidFill>
                  <a:srgbClr val="ffffcc"/>
                </a:solidFill>
                <a:latin typeface="Arial Black"/>
              </a:rPr>
              <a:t>apagadas ..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- Qué es esto? Ustedes deben quedar </a:t>
            </a:r>
            <a:r>
              <a:rPr b="0" lang="en-GB" sz="3200" spc="-1" strike="noStrike">
                <a:solidFill>
                  <a:srgbClr val="ff6600"/>
                </a:solidFill>
                <a:latin typeface="Arial Black"/>
              </a:rPr>
              <a:t>encendida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y arder hasta el f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60720" y="360360"/>
            <a:ext cx="41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ntoces la </a:t>
            </a:r>
            <a:r>
              <a:rPr b="0" lang="en-GB" sz="2400" spc="-1" strike="noStrike">
                <a:solidFill>
                  <a:srgbClr val="339933"/>
                </a:solidFill>
                <a:latin typeface="Arial"/>
              </a:rPr>
              <a:t>cuarta vela habló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No tengas miedo, hijo. Mientras yo esté encendida,  podremos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ncende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las otras v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80960" y="3200400"/>
            <a:ext cx="52786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Arial"/>
              </a:rPr>
              <a:t>Pausa para reflex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Cuand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agamos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l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llamas de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la 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Paz, Fé y Amor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ún así, no todo está perdido ... Alguna cosa ha de quedar dentro de la gente. Y esto tiene que ser preservado, encima de todo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0"/>
            <a:ext cx="7620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ntonces el niño tomó la vela de la </a:t>
            </a:r>
            <a:r>
              <a:rPr b="0" lang="en-GB" sz="4000" spc="-1" strike="noStrike">
                <a:solidFill>
                  <a:srgbClr val="008000"/>
                </a:solidFill>
                <a:latin typeface="Arial Black"/>
              </a:rPr>
              <a:t>Esperanza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y </a:t>
            </a:r>
            <a:r>
              <a:rPr b="0" lang="en-GB" sz="3600" spc="-1" strike="noStrike">
                <a:solidFill>
                  <a:srgbClr val="ff6600"/>
                </a:solidFill>
                <a:latin typeface="Arial Black"/>
              </a:rPr>
              <a:t>encendió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 nuevamente las 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staban </a:t>
            </a:r>
            <a:r>
              <a:rPr b="0" lang="en-GB" sz="3600" spc="-1" strike="noStrike">
                <a:solidFill>
                  <a:srgbClr val="ffffcc"/>
                </a:solidFill>
                <a:latin typeface="Arial Black"/>
              </a:rPr>
              <a:t>apag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1800" y="1792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Que la vela de la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Esperanza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nunca se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pague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dentro de t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la es nuestra luz al final del tú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 camino de la felicidad precisa, antes, ser pavimentado con la </a:t>
            </a:r>
            <a:r>
              <a:rPr b="1" lang="en-GB" sz="2800" spc="-1" strike="noStrike">
                <a:solidFill>
                  <a:srgbClr val="339933"/>
                </a:solidFill>
                <a:latin typeface="Arial"/>
              </a:rPr>
              <a:t>esperanz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27080" y="59594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3240" y="59706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24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24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1681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a felicidad no siemp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olpea nuestra puerta.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enerla es preciso una búsqueda incesante, y al encontrarla tener el coraje de meterla dentro de nosotr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594036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3240" y="59706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Daniel</cp:lastModifiedBy>
  <dcterms:modified xsi:type="dcterms:W3CDTF">2010-02-21T19:29:13Z</dcterms:modified>
  <cp:revision>3</cp:revision>
  <dc:subject/>
  <dc:title>Esperança... o que seria de nós sem ela?</dc:title>
</cp:coreProperties>
</file>