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Athair%20%20Ar%20Neamh-Mulher%20Canta.wav" ContentType="audio/x-wav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70BE0-978F-4B00-BC2E-775EA9C4422B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A2B02-3AD8-4FF8-89A5-F4E4DD8FAE6D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FC7FF-1B27-413A-97AA-0DCDEEFC0E88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CEE64-B249-48FE-ACEF-19A4BDCB6A65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AF2B8-871C-4A8C-BEB0-6A5CA5DE6968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D53B6-EBED-4B68-9ECE-0D1F2F3540E6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5DE91-2BD8-4DA6-9D8C-D748171066E9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1A30B-BEE0-4D18-8C2C-F77D2E997C68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2C0A6-BCE5-42F7-8F22-35186CB4E251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74B90-15A2-4342-9122-5CB2FF43B8A2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503D2-D674-4D94-9CB0-E5BF8A3A717B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A9BBE-67D5-4987-94A6-12535358B3A6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99E32-136A-4C68-965C-D8CD0B247E9F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035F2-E049-49FC-916B-0FC2ECB19416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85CBD-4C4D-418B-A46A-2BF5EE971EE5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A26DD-5921-4FB6-B97E-5E485DE0F429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1C1DA-4CCC-46B2-A23D-84866F14DF32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35686-B407-4651-8FC6-3FBB3744CCD4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A0228-8869-4D85-A683-C73A515F3CE2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6A27C-58C7-4638-8032-FAFA45A9462E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2F2D3-2C71-425E-86B5-BDD19F9D1358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3937A-54F4-4382-A9D4-844C9C70F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29D9E-E417-49C1-BAC8-57798CBFE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9870C-2679-4B44-9578-5D1E74BE9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10523-6B38-4258-B168-3A4BE96DF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745DA-3034-4E95-8757-A86B6254C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180CA-54D6-4B91-80FF-96B2352D7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C9AB5-1650-4A75-B49F-C181B03F8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94947-C639-43CF-9B46-A2237C561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A4E81-FA3B-4693-A9B8-821D3F606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69F68-151A-4B34-A400-81D595E4E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45DAD-52FE-40A7-A47B-8E1EDE82C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7CB34-E59D-4A1D-9A14-8FAC3D565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7EA14-3B07-4107-95E8-79610B364DC8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Athair%20%20Ar%20Neamh-Mulher%20Canta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a0002"/>
            </a:gs>
            <a:gs pos="50000">
              <a:srgbClr val="a50021"/>
            </a:gs>
            <a:gs pos="100000">
              <a:srgbClr val="0a0002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457200" y="0"/>
            <a:ext cx="2895480" cy="6858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a50021"/>
              </a:gs>
              <a:gs pos="100000">
                <a:srgbClr val="0000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5867280" y="0"/>
            <a:ext cx="2743200" cy="6858000"/>
          </a:xfrm>
          <a:prstGeom prst="rect">
            <a:avLst/>
          </a:prstGeom>
          <a:gradFill rotWithShape="0">
            <a:gsLst>
              <a:gs pos="0">
                <a:srgbClr val="0a0002"/>
              </a:gs>
              <a:gs pos="50000">
                <a:srgbClr val="a50021"/>
              </a:gs>
              <a:gs pos="100000">
                <a:srgbClr val="0a0002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533520" y="1143000"/>
            <a:ext cx="8076960" cy="487692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6"/>
          <p:cNvSpPr/>
          <p:nvPr/>
        </p:nvSpPr>
        <p:spPr>
          <a:xfrm>
            <a:off x="0" y="299088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5400" spc="-1" strike="noStrike">
                <a:solidFill>
                  <a:srgbClr val="ffffff"/>
                </a:solidFill>
                <a:latin typeface="Times New Roman"/>
              </a:rPr>
              <a:t>La Tía Cochela tenía razó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1 CuadroTexto"/>
          <p:cNvSpPr/>
          <p:nvPr/>
        </p:nvSpPr>
        <p:spPr>
          <a:xfrm>
            <a:off x="1701720" y="1487520"/>
            <a:ext cx="61930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Times New Roman"/>
              </a:rPr>
              <a:t>Pasaron más de 50 años, y… 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vert"/>
    <p:sndAc>
      <p:stSnd>
        <p:snd r:embed="rId1" name="Athair%20%20Ar%20Neamh-Mulher%20Canta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50000">
              <a:srgbClr val="000099"/>
            </a:gs>
            <a:gs pos="100000">
              <a:srgbClr val="00004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2"/>
          <p:cNvSpPr/>
          <p:nvPr/>
        </p:nvSpPr>
        <p:spPr>
          <a:xfrm>
            <a:off x="457200" y="0"/>
            <a:ext cx="2895480" cy="6858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5638680" y="0"/>
            <a:ext cx="2895840" cy="6858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4"/>
          <p:cNvSpPr/>
          <p:nvPr/>
        </p:nvSpPr>
        <p:spPr>
          <a:xfrm>
            <a:off x="457200" y="380880"/>
            <a:ext cx="8077320" cy="624852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 7" descr="http://upload.wikimedia.org/wikipedia/commons/thumb/e/e4/Bergoglio_2.jpg/220px-Bergoglio_2.jpg"/>
          <p:cNvPicPr/>
          <p:nvPr/>
        </p:nvPicPr>
        <p:blipFill>
          <a:blip r:embed="rId1"/>
          <a:stretch/>
        </p:blipFill>
        <p:spPr>
          <a:xfrm>
            <a:off x="-3240" y="15840"/>
            <a:ext cx="3395880" cy="3687840"/>
          </a:xfrm>
          <a:prstGeom prst="rect">
            <a:avLst/>
          </a:prstGeom>
          <a:ln w="0">
            <a:noFill/>
          </a:ln>
        </p:spPr>
      </p:pic>
      <p:sp>
        <p:nvSpPr>
          <p:cNvPr id="93" name="1 CuadroTexto"/>
          <p:cNvSpPr/>
          <p:nvPr/>
        </p:nvSpPr>
        <p:spPr>
          <a:xfrm>
            <a:off x="1544760" y="1700280"/>
            <a:ext cx="69847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Y Cochela cumplía, acabadamente ese pedido, y</a:t>
            </a:r>
            <a:br>
              <a:rPr sz="2400"/>
            </a:b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también invitaba a familiares y amigos a rezar por el padre Jorge, que ahora</a:t>
            </a:r>
            <a:br>
              <a:rPr sz="2400"/>
            </a:b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era Monseñor pero que iba "a ser Papa porque ese hombre es un santo, yo lo</a:t>
            </a:r>
            <a:br>
              <a:rPr sz="2400"/>
            </a:b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conozco muy bien desde que empezó a caminar en el barro para ayudar a los</a:t>
            </a:r>
            <a:br>
              <a:rPr sz="2400"/>
            </a:b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pobres y además es jesuita, es muy bueno, honesto y humilde, va a ser Papa",</a:t>
            </a:r>
            <a:br>
              <a:rPr sz="2400"/>
            </a:b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repetía hasta el hartazg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Oren por él. 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0100d"/>
            </a:gs>
            <a:gs pos="50000">
              <a:srgbClr val="ffffcc"/>
            </a:gs>
            <a:gs pos="100000">
              <a:srgbClr val="10100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2"/>
          <p:cNvSpPr/>
          <p:nvPr/>
        </p:nvSpPr>
        <p:spPr>
          <a:xfrm>
            <a:off x="533520" y="0"/>
            <a:ext cx="2895480" cy="6858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ffffab"/>
              </a:gs>
              <a:gs pos="100000">
                <a:srgbClr val="0000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5715000" y="0"/>
            <a:ext cx="2895480" cy="6858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ffffa3"/>
              </a:gs>
              <a:gs pos="100000">
                <a:srgbClr val="0000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533520" y="304920"/>
            <a:ext cx="8076960" cy="624816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Picture 7" descr="http://www.eluniversal.com.mx/img/2013/03/Nac/2bueno.jpg"/>
          <p:cNvPicPr/>
          <p:nvPr/>
        </p:nvPicPr>
        <p:blipFill>
          <a:blip r:embed="rId1"/>
          <a:stretch/>
        </p:blipFill>
        <p:spPr>
          <a:xfrm>
            <a:off x="31680" y="71280"/>
            <a:ext cx="4359240" cy="3357720"/>
          </a:xfrm>
          <a:prstGeom prst="rect">
            <a:avLst/>
          </a:prstGeom>
          <a:ln w="0">
            <a:noFill/>
          </a:ln>
        </p:spPr>
      </p:pic>
      <p:sp>
        <p:nvSpPr>
          <p:cNvPr id="98" name="1 CuadroTexto"/>
          <p:cNvSpPr/>
          <p:nvPr/>
        </p:nvSpPr>
        <p:spPr>
          <a:xfrm>
            <a:off x="1547640" y="1992240"/>
            <a:ext cx="6913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Leía y releía una y mil veces las notas</a:t>
            </a:r>
            <a:br>
              <a:rPr sz="2400"/>
            </a:b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periodísticas que se publicaban sobre el Cardena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El padre Jorge siempre le</a:t>
            </a:r>
            <a:br>
              <a:rPr sz="2400"/>
            </a:b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dio afecto, mucho cariño y la acarició con su misericordiosa mirada, pero</a:t>
            </a:r>
            <a:br>
              <a:rPr sz="2400"/>
            </a:b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también siempre le pidió algo, algo inusual y llamativo en un cu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Siempre</a:t>
            </a:r>
            <a:br>
              <a:rPr sz="2400"/>
            </a:b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le pidió que rece por él, que lo necesitaba para poder hacer mejor su</a:t>
            </a:r>
            <a:br>
              <a:rPr sz="2400"/>
            </a:b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trabajo como hombre de Di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00d0a"/>
            </a:gs>
            <a:gs pos="50000">
              <a:srgbClr val="ffcc99"/>
            </a:gs>
            <a:gs pos="100000">
              <a:srgbClr val="100d0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2"/>
          <p:cNvSpPr/>
          <p:nvPr/>
        </p:nvSpPr>
        <p:spPr>
          <a:xfrm>
            <a:off x="5715000" y="0"/>
            <a:ext cx="2895480" cy="6858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ffcc99"/>
              </a:gs>
              <a:gs pos="100000">
                <a:srgbClr val="0000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3"/>
          <p:cNvSpPr/>
          <p:nvPr/>
        </p:nvSpPr>
        <p:spPr>
          <a:xfrm>
            <a:off x="533520" y="0"/>
            <a:ext cx="2895480" cy="6858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ffcc99"/>
              </a:gs>
              <a:gs pos="100000">
                <a:srgbClr val="0000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533520" y="304920"/>
            <a:ext cx="8076960" cy="624816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1 CuadroTexto"/>
          <p:cNvSpPr/>
          <p:nvPr/>
        </p:nvSpPr>
        <p:spPr>
          <a:xfrm>
            <a:off x="533520" y="620640"/>
            <a:ext cx="792612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La vida fue muy dura con Cochela porque aunque la llenó del afecto de sus</a:t>
            </a:r>
            <a:br>
              <a:rPr sz="2400"/>
            </a:b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familiares y amigos, no le permitió tener hijos, también perdió a su</a:t>
            </a:r>
            <a:br>
              <a:rPr sz="2400"/>
            </a:b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compañero muy temprano, pero ella nunca se quejó, siempre tuvo una sonrisa</a:t>
            </a:r>
            <a:br>
              <a:rPr sz="2400"/>
            </a:b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para todos, y cuando digo todos es todos, hasta con quienes le hacían el</a:t>
            </a:r>
            <a:br>
              <a:rPr sz="2400"/>
            </a:b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mal, hasta a los delincuentes que le tocó enfrentar los "retaba"</a:t>
            </a:r>
            <a:br>
              <a:rPr sz="2400"/>
            </a:b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cariñosamente para que tomen el buen camino, agregando indefectiblemente a</a:t>
            </a:r>
            <a:br>
              <a:rPr sz="2400"/>
            </a:b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sus palabras un único final: "mi hijo", lo que demostraba claramente que</a:t>
            </a:r>
            <a:br>
              <a:rPr sz="2400"/>
            </a:b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cada una de sus frases eran dichas como la madre que no pudo ser. 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in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0018"/>
            </a:gs>
            <a:gs pos="50000">
              <a:srgbClr val="990033"/>
            </a:gs>
            <a:gs pos="100000">
              <a:srgbClr val="47001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2"/>
          <p:cNvSpPr/>
          <p:nvPr/>
        </p:nvSpPr>
        <p:spPr>
          <a:xfrm>
            <a:off x="533520" y="0"/>
            <a:ext cx="2895480" cy="6858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a50021"/>
              </a:gs>
              <a:gs pos="100000">
                <a:srgbClr val="0000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3"/>
          <p:cNvSpPr/>
          <p:nvPr/>
        </p:nvSpPr>
        <p:spPr>
          <a:xfrm>
            <a:off x="5715000" y="0"/>
            <a:ext cx="2895480" cy="6858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a50021"/>
              </a:gs>
              <a:gs pos="100000">
                <a:srgbClr val="0000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4"/>
          <p:cNvSpPr/>
          <p:nvPr/>
        </p:nvSpPr>
        <p:spPr>
          <a:xfrm>
            <a:off x="533520" y="304920"/>
            <a:ext cx="8076960" cy="624816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1 CuadroTexto"/>
          <p:cNvSpPr/>
          <p:nvPr/>
        </p:nvSpPr>
        <p:spPr>
          <a:xfrm>
            <a:off x="971640" y="836640"/>
            <a:ext cx="72007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También fue dura su partida, la vejez comenzó a hacer estragos en su salud,</a:t>
            </a:r>
            <a:br>
              <a:rPr sz="2400"/>
            </a:b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especialmente en su salud mental y una demencia senil se apoderó de sus</a:t>
            </a:r>
            <a:br>
              <a:rPr sz="2400"/>
            </a:b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últimos días, enfermedad que la comenzó a enajenar y de la que sólo se logró</a:t>
            </a:r>
            <a:br>
              <a:rPr sz="2400"/>
            </a:b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evadir cuando esporádicamente reconocía a alguno de sus seres más queridos y</a:t>
            </a:r>
            <a:br>
              <a:rPr sz="2400"/>
            </a:b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cuando hablaba de "Bergoglio, el cura que según ella sería Papa, porque es</a:t>
            </a:r>
            <a:br>
              <a:rPr sz="2400"/>
            </a:b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un hombre Santo".  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00d00"/>
            </a:gs>
            <a:gs pos="50000">
              <a:srgbClr val="ffcc00"/>
            </a:gs>
            <a:gs pos="100000">
              <a:srgbClr val="100d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2"/>
          <p:cNvSpPr/>
          <p:nvPr/>
        </p:nvSpPr>
        <p:spPr>
          <a:xfrm>
            <a:off x="533520" y="0"/>
            <a:ext cx="2895480" cy="6858000"/>
          </a:xfrm>
          <a:prstGeom prst="rect">
            <a:avLst/>
          </a:prstGeom>
          <a:gradFill rotWithShape="0">
            <a:gsLst>
              <a:gs pos="0">
                <a:srgbClr val="665200"/>
              </a:gs>
              <a:gs pos="50000">
                <a:srgbClr val="ffcc00"/>
              </a:gs>
              <a:gs pos="100000">
                <a:srgbClr val="6652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791320" y="0"/>
            <a:ext cx="2895480" cy="6858000"/>
          </a:xfrm>
          <a:prstGeom prst="rect">
            <a:avLst/>
          </a:prstGeom>
          <a:gradFill rotWithShape="0">
            <a:gsLst>
              <a:gs pos="0">
                <a:srgbClr val="665200"/>
              </a:gs>
              <a:gs pos="50000">
                <a:srgbClr val="ffcc00"/>
              </a:gs>
              <a:gs pos="100000">
                <a:srgbClr val="6652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4"/>
          <p:cNvSpPr/>
          <p:nvPr/>
        </p:nvSpPr>
        <p:spPr>
          <a:xfrm>
            <a:off x="533520" y="620640"/>
            <a:ext cx="8042040" cy="589464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2 CuadroTexto"/>
          <p:cNvSpPr/>
          <p:nvPr/>
        </p:nvSpPr>
        <p:spPr>
          <a:xfrm>
            <a:off x="1459080" y="936720"/>
            <a:ext cx="61909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Al pasar meses sin visitarlo… Bergoglio hizo averiguar a su secretario qué</a:t>
            </a:r>
            <a:br>
              <a:rPr sz="2400"/>
            </a:b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era de la vida de Cochela, enterándose así que ella estaba muy enferma y que</a:t>
            </a:r>
            <a:br>
              <a:rPr sz="2400"/>
            </a:b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le quedaba poco tiempo de vida. Una tarde de diciembre de 2011, estaba</a:t>
            </a:r>
            <a:br>
              <a:rPr sz="2400"/>
            </a:b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Cochela dormida en compañía de su hermana mayor, su enfermera y familiares,</a:t>
            </a:r>
            <a:br>
              <a:rPr sz="2400"/>
            </a:b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cuando en el pequeño departamento de avenida Las Heras sonó el portero</a:t>
            </a:r>
            <a:br>
              <a:rPr sz="2400"/>
            </a:b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eléctrico, la visita se identificó simplemente como Jorge Bergoglio, que</a:t>
            </a:r>
            <a:br>
              <a:rPr sz="2400"/>
            </a:b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venía a vistar a Cochel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in" orient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b3b3b"/>
            </a:gs>
            <a:gs pos="50000">
              <a:srgbClr val="808080"/>
            </a:gs>
            <a:gs pos="100000">
              <a:srgbClr val="3b3b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2"/>
          <p:cNvSpPr/>
          <p:nvPr/>
        </p:nvSpPr>
        <p:spPr>
          <a:xfrm>
            <a:off x="5715000" y="0"/>
            <a:ext cx="2895480" cy="6858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808080"/>
              </a:gs>
              <a:gs pos="100000">
                <a:srgbClr val="0000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3"/>
          <p:cNvSpPr/>
          <p:nvPr/>
        </p:nvSpPr>
        <p:spPr>
          <a:xfrm>
            <a:off x="533520" y="0"/>
            <a:ext cx="2895480" cy="6858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808080"/>
              </a:gs>
              <a:gs pos="100000">
                <a:srgbClr val="0000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Picture 6" descr="http://static.deia.com/images/2013/03/13/efe_20130313_202807_pa1168jorge-mario-bergogliopie_14467_11.jpg"/>
          <p:cNvPicPr/>
          <p:nvPr/>
        </p:nvPicPr>
        <p:blipFill>
          <a:blip r:embed="rId1"/>
          <a:stretch/>
        </p:blipFill>
        <p:spPr>
          <a:xfrm>
            <a:off x="27000" y="0"/>
            <a:ext cx="3548160" cy="4713120"/>
          </a:xfrm>
          <a:prstGeom prst="rect">
            <a:avLst/>
          </a:prstGeom>
          <a:ln w="0">
            <a:noFill/>
          </a:ln>
        </p:spPr>
      </p:pic>
      <p:sp>
        <p:nvSpPr>
          <p:cNvPr id="114" name="1 CuadroTexto"/>
          <p:cNvSpPr/>
          <p:nvPr/>
        </p:nvSpPr>
        <p:spPr>
          <a:xfrm>
            <a:off x="1619280" y="2637000"/>
            <a:ext cx="6624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Llegó solo, de a pie y con una única misión, darle</a:t>
            </a:r>
            <a:br>
              <a:rPr sz="2400"/>
            </a:b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la unción de los enfermos a su antigua Benefactora de "Los Polvorines", no</a:t>
            </a:r>
            <a:br>
              <a:rPr sz="2400"/>
            </a:b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sabemos si lo reconoció o no, pero si sabemos que pocos días después partió</a:t>
            </a:r>
            <a:br>
              <a:rPr sz="2400"/>
            </a:b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a reunirse con su marido en la eternidad, desde donde seguro hizo lobby  ante</a:t>
            </a:r>
            <a:br>
              <a:rPr sz="2400"/>
            </a:b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Dios para que su profecía se haga realidad. 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in" orient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00a00"/>
            </a:gs>
            <a:gs pos="50000">
              <a:srgbClr val="ff9900"/>
            </a:gs>
            <a:gs pos="100000">
              <a:srgbClr val="100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2"/>
          <p:cNvSpPr/>
          <p:nvPr/>
        </p:nvSpPr>
        <p:spPr>
          <a:xfrm>
            <a:off x="5791320" y="0"/>
            <a:ext cx="2895480" cy="6858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ff9900"/>
              </a:gs>
              <a:gs pos="100000">
                <a:srgbClr val="0000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3"/>
          <p:cNvSpPr/>
          <p:nvPr/>
        </p:nvSpPr>
        <p:spPr>
          <a:xfrm>
            <a:off x="609480" y="0"/>
            <a:ext cx="2895840" cy="6858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ff9900"/>
              </a:gs>
              <a:gs pos="100000">
                <a:srgbClr val="0000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4"/>
          <p:cNvSpPr/>
          <p:nvPr/>
        </p:nvSpPr>
        <p:spPr>
          <a:xfrm>
            <a:off x="685800" y="304920"/>
            <a:ext cx="8077320" cy="624816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1 CuadroTexto"/>
          <p:cNvSpPr/>
          <p:nvPr/>
        </p:nvSpPr>
        <p:spPr>
          <a:xfrm>
            <a:off x="1258920" y="1197000"/>
            <a:ext cx="68421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Y el cura Jorge Bergoglio fue Papa, como decía Cochela, ante las incrédulas</a:t>
            </a:r>
            <a:br>
              <a:rPr sz="2400"/>
            </a:b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orejas de quienes tanto la amamos, pero que en eso no la supimos tomar en</a:t>
            </a:r>
            <a:br>
              <a:rPr sz="2400"/>
            </a:b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ser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Cochela tenía razón y seguramente Francisco Primero también será un</a:t>
            </a:r>
            <a:br>
              <a:rPr sz="2400"/>
            </a:b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santo cuando le toque, tanto amor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tanta devoción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sin dudas tienen sentido.</a:t>
            </a: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0d00"/>
            </a:gs>
            <a:gs pos="50000">
              <a:srgbClr val="cccc00"/>
            </a:gs>
            <a:gs pos="100000">
              <a:srgbClr val="0d0d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2"/>
          <p:cNvSpPr/>
          <p:nvPr/>
        </p:nvSpPr>
        <p:spPr>
          <a:xfrm>
            <a:off x="685800" y="0"/>
            <a:ext cx="2895480" cy="6858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cccc00"/>
              </a:gs>
              <a:gs pos="100000">
                <a:srgbClr val="0000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3"/>
          <p:cNvSpPr/>
          <p:nvPr/>
        </p:nvSpPr>
        <p:spPr>
          <a:xfrm>
            <a:off x="5715000" y="0"/>
            <a:ext cx="2895480" cy="6858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cccc00"/>
              </a:gs>
              <a:gs pos="100000">
                <a:srgbClr val="0000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533520" y="380880"/>
            <a:ext cx="8076960" cy="624852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Picture 7" descr="https://encrypted-tbn2.gstatic.com/images?q=tbn:ANd9GcQt7p3GEtXT6lLpTESIdbn171L5Y1PVB8OdRxxIySPvDHPyPQGG8w"/>
          <p:cNvPicPr/>
          <p:nvPr/>
        </p:nvPicPr>
        <p:blipFill>
          <a:blip r:embed="rId1"/>
          <a:stretch/>
        </p:blipFill>
        <p:spPr>
          <a:xfrm>
            <a:off x="0" y="0"/>
            <a:ext cx="2340000" cy="3205080"/>
          </a:xfrm>
          <a:prstGeom prst="rect">
            <a:avLst/>
          </a:prstGeom>
          <a:ln w="0">
            <a:noFill/>
          </a:ln>
        </p:spPr>
      </p:pic>
      <p:sp>
        <p:nvSpPr>
          <p:cNvPr id="123" name="1 CuadroTexto"/>
          <p:cNvSpPr/>
          <p:nvPr/>
        </p:nvSpPr>
        <p:spPr>
          <a:xfrm>
            <a:off x="2133720" y="1844640"/>
            <a:ext cx="640872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imes New Roman"/>
              </a:rPr>
              <a:t>La maestra, “Cochela”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imes New Roman"/>
              </a:rPr>
              <a:t>es María Beatriz Solari de Cichero, mi amada tía, mi</a:t>
            </a:r>
            <a:br>
              <a:rPr sz="3200"/>
            </a:br>
            <a:r>
              <a:rPr b="1" lang="es-ES" sz="3200" spc="-1" strike="noStrike">
                <a:solidFill>
                  <a:srgbClr val="ffffff"/>
                </a:solidFill>
                <a:latin typeface="Times New Roman"/>
              </a:rPr>
              <a:t>segunda mamá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imes New Roman"/>
              </a:rPr>
              <a:t>Pocos meses después falleció “Coiche”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" sz="3200" spc="-1" strike="noStrike">
                <a:solidFill>
                  <a:srgbClr val="ffffff"/>
                </a:solidFill>
                <a:latin typeface="Times New Roman"/>
              </a:rPr>
              <a:t>su inseparable herma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" sz="3200" spc="-1" strike="noStrike">
                <a:solidFill>
                  <a:srgbClr val="ffffff"/>
                </a:solidFill>
                <a:latin typeface="Times New Roman"/>
              </a:rPr>
              <a:t>y</a:t>
            </a:r>
            <a:br>
              <a:rPr sz="3200"/>
            </a:br>
            <a:r>
              <a:rPr b="1" lang="es-ES" sz="3200" spc="-1" strike="noStrike">
                <a:solidFill>
                  <a:srgbClr val="ffffff"/>
                </a:solidFill>
                <a:latin typeface="Times New Roman"/>
              </a:rPr>
              <a:t>mi gran madre. 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in" orient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0100d"/>
            </a:gs>
            <a:gs pos="50000">
              <a:srgbClr val="ffffcc"/>
            </a:gs>
            <a:gs pos="100000">
              <a:srgbClr val="10100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2"/>
          <p:cNvSpPr/>
          <p:nvPr/>
        </p:nvSpPr>
        <p:spPr>
          <a:xfrm>
            <a:off x="533520" y="0"/>
            <a:ext cx="2895480" cy="6858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ffffab"/>
              </a:gs>
              <a:gs pos="100000">
                <a:srgbClr val="0000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3"/>
          <p:cNvSpPr/>
          <p:nvPr/>
        </p:nvSpPr>
        <p:spPr>
          <a:xfrm>
            <a:off x="5715000" y="0"/>
            <a:ext cx="2895480" cy="6858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ffffa3"/>
              </a:gs>
              <a:gs pos="100000">
                <a:srgbClr val="0000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4"/>
          <p:cNvSpPr/>
          <p:nvPr/>
        </p:nvSpPr>
        <p:spPr>
          <a:xfrm>
            <a:off x="533520" y="304920"/>
            <a:ext cx="8076960" cy="624816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1 CuadroTexto"/>
          <p:cNvSpPr/>
          <p:nvPr/>
        </p:nvSpPr>
        <p:spPr>
          <a:xfrm>
            <a:off x="1042920" y="1052640"/>
            <a:ext cx="756756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imes New Roman"/>
              </a:rPr>
              <a:t>Ruego una oración en su memori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imes New Roman"/>
              </a:rPr>
              <a:t>y para que el Papa Francisc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imes New Roman"/>
              </a:rPr>
              <a:t>tenga las</a:t>
            </a:r>
            <a:br>
              <a:rPr sz="3200"/>
            </a:br>
            <a:r>
              <a:rPr b="1" lang="es-ES" sz="3200" spc="-1" strike="noStrike">
                <a:solidFill>
                  <a:srgbClr val="ffffff"/>
                </a:solidFill>
                <a:latin typeface="Times New Roman"/>
              </a:rPr>
              <a:t>fuerzas necesarias para reencauzar a nuestra Iglesia… y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" sz="3200" spc="-1" strike="noStrike">
                <a:solidFill>
                  <a:srgbClr val="ffffff"/>
                </a:solidFill>
                <a:latin typeface="Times New Roman"/>
              </a:rPr>
              <a:t>colaborar a la paz</a:t>
            </a:r>
            <a:br>
              <a:rPr sz="3200"/>
            </a:br>
            <a:r>
              <a:rPr b="1" lang="es-ES" sz="3200" spc="-1" strike="noStrike">
                <a:solidFill>
                  <a:srgbClr val="ffffff"/>
                </a:solidFill>
                <a:latin typeface="Times New Roman"/>
              </a:rPr>
              <a:t>del mundo y a l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imes New Roman"/>
              </a:rPr>
              <a:t>felicidad de los pobres. 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0018"/>
            </a:gs>
            <a:gs pos="50000">
              <a:srgbClr val="990033"/>
            </a:gs>
            <a:gs pos="100000">
              <a:srgbClr val="47001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2"/>
          <p:cNvSpPr/>
          <p:nvPr/>
        </p:nvSpPr>
        <p:spPr>
          <a:xfrm>
            <a:off x="533520" y="0"/>
            <a:ext cx="2895480" cy="6858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a50021"/>
              </a:gs>
              <a:gs pos="100000">
                <a:srgbClr val="0000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3"/>
          <p:cNvSpPr/>
          <p:nvPr/>
        </p:nvSpPr>
        <p:spPr>
          <a:xfrm>
            <a:off x="5715000" y="0"/>
            <a:ext cx="2895480" cy="6858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a50021"/>
              </a:gs>
              <a:gs pos="100000">
                <a:srgbClr val="0000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4"/>
          <p:cNvSpPr/>
          <p:nvPr/>
        </p:nvSpPr>
        <p:spPr>
          <a:xfrm>
            <a:off x="0" y="304920"/>
            <a:ext cx="9524880" cy="624816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1 CuadroTexto"/>
          <p:cNvSpPr/>
          <p:nvPr/>
        </p:nvSpPr>
        <p:spPr>
          <a:xfrm>
            <a:off x="1042920" y="1197000"/>
            <a:ext cx="7129440" cy="70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imes New Roman"/>
              </a:rPr>
              <a:t>Me colma de felicidad y orgullo cristiano haberme equivocado y pido perdón</a:t>
            </a:r>
            <a:br>
              <a:rPr sz="3200"/>
            </a:br>
            <a:r>
              <a:rPr b="1" lang="es-ES" sz="3200" spc="-1" strike="noStrike">
                <a:solidFill>
                  <a:srgbClr val="ffffff"/>
                </a:solidFill>
                <a:latin typeface="Times New Roman"/>
              </a:rPr>
              <a:t>por no haberla sabido toma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imes New Roman"/>
              </a:rPr>
              <a:t>en serio…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Times New Roman"/>
              </a:rPr>
              <a:t>¡¡¡Tía Cochela, tenía razón…!!!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imes New Roman"/>
              </a:rPr>
              <a:t>AB -  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00d0a"/>
            </a:gs>
            <a:gs pos="50000">
              <a:srgbClr val="ffcc99"/>
            </a:gs>
            <a:gs pos="100000">
              <a:srgbClr val="100d0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2"/>
          <p:cNvSpPr/>
          <p:nvPr/>
        </p:nvSpPr>
        <p:spPr>
          <a:xfrm>
            <a:off x="5715000" y="0"/>
            <a:ext cx="2895480" cy="6858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ffcc99"/>
              </a:gs>
              <a:gs pos="100000">
                <a:srgbClr val="0000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3"/>
          <p:cNvSpPr/>
          <p:nvPr/>
        </p:nvSpPr>
        <p:spPr>
          <a:xfrm>
            <a:off x="533520" y="0"/>
            <a:ext cx="2895480" cy="6858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ffcc99"/>
              </a:gs>
              <a:gs pos="100000">
                <a:srgbClr val="0000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2124000" y="2276640"/>
            <a:ext cx="6505560" cy="451008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7" descr="Los Polvorines - Escuela 201 ( www.alepolvorines.com.ar ) "/>
          <p:cNvPicPr/>
          <p:nvPr/>
        </p:nvPicPr>
        <p:blipFill>
          <a:blip r:embed="rId1"/>
          <a:stretch/>
        </p:blipFill>
        <p:spPr>
          <a:xfrm>
            <a:off x="174600" y="189000"/>
            <a:ext cx="4762440" cy="3571920"/>
          </a:xfrm>
          <a:prstGeom prst="rect">
            <a:avLst/>
          </a:prstGeom>
          <a:ln w="0">
            <a:noFill/>
          </a:ln>
        </p:spPr>
      </p:pic>
      <p:sp>
        <p:nvSpPr>
          <p:cNvPr id="57" name="1 CuadroTexto"/>
          <p:cNvSpPr/>
          <p:nvPr/>
        </p:nvSpPr>
        <p:spPr>
          <a:xfrm>
            <a:off x="2556000" y="2565360"/>
            <a:ext cx="57592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En una muy humilde escuela de la zona de "Los Polvorines", en cercanías de</a:t>
            </a:r>
            <a:br>
              <a:rPr sz="2400"/>
            </a:b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Campo de Mayo, Buenos Aires, en donde los niños concurrían tal vez más por</a:t>
            </a:r>
            <a:br>
              <a:rPr sz="2400"/>
            </a:b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obtener su plato de comida que para estudiar, estaba la maestra (que jamás</a:t>
            </a:r>
            <a:br>
              <a:rPr sz="2400"/>
            </a:b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se consideró una trabajadora de la educación), a pura vocación, ayudando a</a:t>
            </a:r>
            <a:br>
              <a:rPr sz="2400"/>
            </a:b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sus alumnos a hacer la tarea después del comedor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in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0018"/>
            </a:gs>
            <a:gs pos="50000">
              <a:srgbClr val="990033"/>
            </a:gs>
            <a:gs pos="100000">
              <a:srgbClr val="47001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2"/>
          <p:cNvSpPr/>
          <p:nvPr/>
        </p:nvSpPr>
        <p:spPr>
          <a:xfrm>
            <a:off x="533520" y="0"/>
            <a:ext cx="2895480" cy="6858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a50021"/>
              </a:gs>
              <a:gs pos="100000">
                <a:srgbClr val="0000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5715000" y="0"/>
            <a:ext cx="2895480" cy="6858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a50021"/>
              </a:gs>
              <a:gs pos="100000">
                <a:srgbClr val="0000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4"/>
          <p:cNvSpPr/>
          <p:nvPr/>
        </p:nvSpPr>
        <p:spPr>
          <a:xfrm>
            <a:off x="0" y="304920"/>
            <a:ext cx="9524880" cy="624816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2" descr="http://img2.mlstatic.com/el-jesuita-jorge-bergoglio-sergio-rubin-y-f-ambrogetti_MLA-O-3974236490_032013.jpg"/>
          <p:cNvPicPr/>
          <p:nvPr/>
        </p:nvPicPr>
        <p:blipFill>
          <a:blip r:embed="rId1"/>
          <a:stretch/>
        </p:blipFill>
        <p:spPr>
          <a:xfrm>
            <a:off x="974880" y="836640"/>
            <a:ext cx="7707240" cy="5256360"/>
          </a:xfrm>
          <a:prstGeom prst="rect">
            <a:avLst/>
          </a:prstGeom>
          <a:ln w="0">
            <a:noFill/>
          </a:ln>
        </p:spPr>
      </p:pic>
      <p:sp>
        <p:nvSpPr>
          <p:cNvPr id="136" name="2 CuadroTexto"/>
          <p:cNvSpPr/>
          <p:nvPr/>
        </p:nvSpPr>
        <p:spPr>
          <a:xfrm>
            <a:off x="755640" y="5950080"/>
            <a:ext cx="7926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imes New Roman"/>
              </a:rPr>
              <a:t>¡¡¡Ahora hay que rezar mucho por él…!!!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0018"/>
            </a:gs>
            <a:gs pos="50000">
              <a:srgbClr val="990033"/>
            </a:gs>
            <a:gs pos="100000">
              <a:srgbClr val="47001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2"/>
          <p:cNvSpPr/>
          <p:nvPr/>
        </p:nvSpPr>
        <p:spPr>
          <a:xfrm>
            <a:off x="533520" y="0"/>
            <a:ext cx="2895480" cy="6858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a50021"/>
              </a:gs>
              <a:gs pos="100000">
                <a:srgbClr val="0000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5715000" y="0"/>
            <a:ext cx="2895480" cy="6858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a50021"/>
              </a:gs>
              <a:gs pos="100000">
                <a:srgbClr val="0000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4"/>
          <p:cNvSpPr/>
          <p:nvPr/>
        </p:nvSpPr>
        <p:spPr>
          <a:xfrm>
            <a:off x="533520" y="304920"/>
            <a:ext cx="8076960" cy="624816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1 CuadroTexto"/>
          <p:cNvSpPr/>
          <p:nvPr/>
        </p:nvSpPr>
        <p:spPr>
          <a:xfrm>
            <a:off x="755640" y="511200"/>
            <a:ext cx="748836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Súbitamente dos</a:t>
            </a:r>
            <a:br>
              <a:rPr sz="2400"/>
            </a:b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jóvenes seminaristas, flacos y embarrados hasta las rodillas, golpearon sus</a:t>
            </a:r>
            <a:br>
              <a:rPr sz="2400"/>
            </a:b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manos, a modo de pedir permiso para ingresar, ofreciéndose para colaborar en</a:t>
            </a:r>
            <a:br>
              <a:rPr sz="2400"/>
            </a:b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la educación de los chicos. </a:t>
            </a:r>
            <a:br>
              <a:rPr sz="2400"/>
            </a:br>
            <a:br>
              <a:rPr sz="2400"/>
            </a:b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La maestra los invitó muy gentilmente a pasar y agradeció a los hombres de</a:t>
            </a:r>
            <a:br>
              <a:rPr sz="2400"/>
            </a:b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Dios su buena voluntad, pero les aclaró que ella no disponía en la escuela</a:t>
            </a:r>
            <a:br>
              <a:rPr sz="2400"/>
            </a:b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de dinero para pagar sus servicios, a lo que los visitantes respondieron</a:t>
            </a:r>
            <a:br>
              <a:rPr sz="2400"/>
            </a:b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"con que nos dé de comer estaremos muy bien pagados", pues ellos eran</a:t>
            </a:r>
            <a:br>
              <a:rPr sz="2400"/>
            </a:b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Jesuitas, pobres y en plena acción evangelizadora. 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00d00"/>
            </a:gs>
            <a:gs pos="50000">
              <a:srgbClr val="ffcc00"/>
            </a:gs>
            <a:gs pos="100000">
              <a:srgbClr val="100d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2"/>
          <p:cNvSpPr/>
          <p:nvPr/>
        </p:nvSpPr>
        <p:spPr>
          <a:xfrm>
            <a:off x="533520" y="0"/>
            <a:ext cx="2895480" cy="6858000"/>
          </a:xfrm>
          <a:prstGeom prst="rect">
            <a:avLst/>
          </a:prstGeom>
          <a:gradFill rotWithShape="0">
            <a:gsLst>
              <a:gs pos="0">
                <a:srgbClr val="665200"/>
              </a:gs>
              <a:gs pos="50000">
                <a:srgbClr val="ffcc00"/>
              </a:gs>
              <a:gs pos="100000">
                <a:srgbClr val="6652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3"/>
          <p:cNvSpPr/>
          <p:nvPr/>
        </p:nvSpPr>
        <p:spPr>
          <a:xfrm>
            <a:off x="5791320" y="0"/>
            <a:ext cx="2895480" cy="6858000"/>
          </a:xfrm>
          <a:prstGeom prst="rect">
            <a:avLst/>
          </a:prstGeom>
          <a:gradFill rotWithShape="0">
            <a:gsLst>
              <a:gs pos="0">
                <a:srgbClr val="665200"/>
              </a:gs>
              <a:gs pos="50000">
                <a:srgbClr val="ffcc00"/>
              </a:gs>
              <a:gs pos="100000">
                <a:srgbClr val="6652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4"/>
          <p:cNvSpPr/>
          <p:nvPr/>
        </p:nvSpPr>
        <p:spPr>
          <a:xfrm>
            <a:off x="533520" y="380880"/>
            <a:ext cx="8076960" cy="617220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7" descr="http://p2.trrsf.com/image/fget/cf/301/401/images.terra.com/2013/03/15/ap-6353af90f15a35082c0f6a70670016da.JPG"/>
          <p:cNvPicPr/>
          <p:nvPr/>
        </p:nvPicPr>
        <p:blipFill>
          <a:blip r:embed="rId1"/>
          <a:stretch/>
        </p:blipFill>
        <p:spPr>
          <a:xfrm>
            <a:off x="0" y="0"/>
            <a:ext cx="2867040" cy="3819600"/>
          </a:xfrm>
          <a:prstGeom prst="rect">
            <a:avLst/>
          </a:prstGeom>
          <a:ln w="0">
            <a:noFill/>
          </a:ln>
        </p:spPr>
      </p:pic>
      <p:sp>
        <p:nvSpPr>
          <p:cNvPr id="66" name="1 CuadroTexto"/>
          <p:cNvSpPr/>
          <p:nvPr/>
        </p:nvSpPr>
        <p:spPr>
          <a:xfrm>
            <a:off x="1619280" y="2637000"/>
            <a:ext cx="6697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Fue así que los nobles sacerdotes estuvieron trabajando con los chicos del</a:t>
            </a:r>
            <a:br>
              <a:rPr sz="2400"/>
            </a:b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barrio durante varios meses, tiempo que grabó para siempre en el corazón de</a:t>
            </a:r>
            <a:br>
              <a:rPr sz="2400"/>
            </a:b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la maestra, la capacidad de amar que mostraban los curas especialmente uno</a:t>
            </a:r>
            <a:br>
              <a:rPr sz="2400"/>
            </a:b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de ellos al que llamaban Jorge. 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in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b3b3b"/>
            </a:gs>
            <a:gs pos="50000">
              <a:srgbClr val="808080"/>
            </a:gs>
            <a:gs pos="100000">
              <a:srgbClr val="3b3b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2"/>
          <p:cNvSpPr/>
          <p:nvPr/>
        </p:nvSpPr>
        <p:spPr>
          <a:xfrm>
            <a:off x="5715000" y="0"/>
            <a:ext cx="2895480" cy="6858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808080"/>
              </a:gs>
              <a:gs pos="100000">
                <a:srgbClr val="0000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3"/>
          <p:cNvSpPr/>
          <p:nvPr/>
        </p:nvSpPr>
        <p:spPr>
          <a:xfrm>
            <a:off x="533520" y="0"/>
            <a:ext cx="2895480" cy="6858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808080"/>
              </a:gs>
              <a:gs pos="100000">
                <a:srgbClr val="0000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" name="Group 9"/>
          <p:cNvGrpSpPr/>
          <p:nvPr/>
        </p:nvGrpSpPr>
        <p:grpSpPr>
          <a:xfrm>
            <a:off x="-468360" y="-1102680"/>
            <a:ext cx="8784360" cy="5031720"/>
            <a:chOff x="-468360" y="-1102680"/>
            <a:chExt cx="8784360" cy="5031720"/>
          </a:xfrm>
        </p:grpSpPr>
        <p:sp>
          <p:nvSpPr>
            <p:cNvPr id="70" name="Rectangle 4"/>
            <p:cNvSpPr/>
            <p:nvPr/>
          </p:nvSpPr>
          <p:spPr>
            <a:xfrm>
              <a:off x="-468360" y="148680"/>
              <a:ext cx="72360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Rectangle 5"/>
            <p:cNvSpPr/>
            <p:nvPr/>
          </p:nvSpPr>
          <p:spPr>
            <a:xfrm>
              <a:off x="-106200" y="-1102680"/>
              <a:ext cx="8422200" cy="503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3600" spc="-1" strike="noStrike">
                  <a:solidFill>
                    <a:srgbClr val="ffff00"/>
                  </a:solidFill>
                  <a:latin typeface="Comic Sans MS"/>
                </a:rPr>
                <a:t>       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3600" spc="-1" strike="noStrike">
                  <a:solidFill>
                    <a:srgbClr val="ffff00"/>
                  </a:solidFill>
                  <a:latin typeface="Comic Sans MS"/>
                </a:rPr>
                <a:t>        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3600" spc="-1" strike="noStrike">
                  <a:solidFill>
                    <a:srgbClr val="ffff00"/>
                  </a:solidFill>
                  <a:latin typeface="Comic Sans MS"/>
                </a:rPr>
                <a:t>       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3600" spc="-1" strike="noStrike">
                  <a:solidFill>
                    <a:srgbClr val="ffff00"/>
                  </a:solidFill>
                  <a:latin typeface="Comic Sans MS"/>
                </a:rPr>
                <a:t>       </a:t>
              </a:r>
              <a:r>
                <a:rPr b="1" lang="pt-BR" sz="36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2" name="Picture 9" descr="http://www.periodistadigital.com/imagenes/2013/04/11/plana-mayor-jesuita-1976_270x250.jpg"/>
          <p:cNvPicPr/>
          <p:nvPr/>
        </p:nvPicPr>
        <p:blipFill>
          <a:blip r:embed="rId1"/>
          <a:stretch/>
        </p:blipFill>
        <p:spPr>
          <a:xfrm>
            <a:off x="0" y="-79200"/>
            <a:ext cx="4643280" cy="4298760"/>
          </a:xfrm>
          <a:prstGeom prst="rect">
            <a:avLst/>
          </a:prstGeom>
          <a:ln w="0">
            <a:noFill/>
          </a:ln>
        </p:spPr>
      </p:pic>
      <p:sp>
        <p:nvSpPr>
          <p:cNvPr id="73" name="1 CuadroTexto"/>
          <p:cNvSpPr/>
          <p:nvPr/>
        </p:nvSpPr>
        <p:spPr>
          <a:xfrm>
            <a:off x="1638360" y="1773360"/>
            <a:ext cx="69850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La vida transcurrió, los jóvenes jesuitas continuaron su labor eclesiástica</a:t>
            </a:r>
            <a:br>
              <a:rPr sz="2400"/>
            </a:b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y la maestra con su titánica tarea educativa, siempre en barrios</a:t>
            </a:r>
            <a:br>
              <a:rPr sz="2400"/>
            </a:b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carenciados, obreros y populares, a pesar de ser ella misma una señora de</a:t>
            </a:r>
            <a:br>
              <a:rPr sz="2400"/>
            </a:b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buena posición socio cultural y, así continuó su vida, luego como</a:t>
            </a:r>
            <a:br>
              <a:rPr sz="2400"/>
            </a:b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secretaria, vicedirectora, directora, supervisora y por fin, jubilada por</a:t>
            </a:r>
            <a:br>
              <a:rPr sz="2400"/>
            </a:b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unos pocos pesos. 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in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00a00"/>
            </a:gs>
            <a:gs pos="50000">
              <a:srgbClr val="ff9900"/>
            </a:gs>
            <a:gs pos="100000">
              <a:srgbClr val="100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2"/>
          <p:cNvSpPr/>
          <p:nvPr/>
        </p:nvSpPr>
        <p:spPr>
          <a:xfrm>
            <a:off x="5791320" y="0"/>
            <a:ext cx="2895480" cy="6858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ff9900"/>
              </a:gs>
              <a:gs pos="100000">
                <a:srgbClr val="0000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ectangle 3"/>
          <p:cNvSpPr/>
          <p:nvPr/>
        </p:nvSpPr>
        <p:spPr>
          <a:xfrm>
            <a:off x="609480" y="0"/>
            <a:ext cx="2895840" cy="6858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ff9900"/>
              </a:gs>
              <a:gs pos="100000">
                <a:srgbClr val="0000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4"/>
          <p:cNvSpPr/>
          <p:nvPr/>
        </p:nvSpPr>
        <p:spPr>
          <a:xfrm>
            <a:off x="685800" y="304920"/>
            <a:ext cx="8077320" cy="624816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9900"/>
                </a:solidFill>
                <a:latin typeface="Comic Sans MS"/>
              </a:rPr>
              <a:t> </a:t>
            </a:r>
            <a:br>
              <a:rPr sz="24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1 CuadroTexto"/>
          <p:cNvSpPr/>
          <p:nvPr/>
        </p:nvSpPr>
        <p:spPr>
          <a:xfrm>
            <a:off x="826920" y="765000"/>
            <a:ext cx="7859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Ya entrada en su tercera edad, la maestra concurría a misa en la iglesia</a:t>
            </a:r>
            <a:br>
              <a:rPr sz="2400"/>
            </a:b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del Pilar y un buen día creyó ver en el “Monseñor" que daba la misa, a un</a:t>
            </a:r>
            <a:br>
              <a:rPr sz="2400"/>
            </a:b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viejo conocido. Inquieta, como siempre fue, esperó la finalización de la</a:t>
            </a:r>
            <a:br>
              <a:rPr sz="2400"/>
            </a:b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misa y se acercó al sacerdote preguntándole si él no era el padre Jorge... </a:t>
            </a:r>
            <a:br>
              <a:rPr sz="2400"/>
            </a:br>
            <a:br>
              <a:rPr sz="2400"/>
            </a:b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Habían pasado unos 35 años y Monseñor detuvo su mirada en la pequeña</a:t>
            </a:r>
            <a:br>
              <a:rPr sz="2400"/>
            </a:b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abuela, la miró a los ojos, dibujó una sonrisa en su gesto y con total</a:t>
            </a:r>
            <a:br>
              <a:rPr sz="2400"/>
            </a:b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alegría le dijo: claro que soy el padre Jorge, y usted es la maestra de "Los Polvorines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4"/>
            </a:gs>
            <a:gs pos="50000">
              <a:srgbClr val="000099"/>
            </a:gs>
            <a:gs pos="100000">
              <a:srgbClr val="00008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2"/>
          <p:cNvSpPr/>
          <p:nvPr/>
        </p:nvSpPr>
        <p:spPr>
          <a:xfrm>
            <a:off x="5715000" y="0"/>
            <a:ext cx="2895480" cy="6858000"/>
          </a:xfrm>
          <a:prstGeom prst="rect">
            <a:avLst/>
          </a:prstGeom>
          <a:gradFill rotWithShape="0">
            <a:gsLst>
              <a:gs pos="0">
                <a:srgbClr val="00003d"/>
              </a:gs>
              <a:gs pos="50000">
                <a:srgbClr val="000099"/>
              </a:gs>
              <a:gs pos="100000">
                <a:srgbClr val="00003d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3"/>
          <p:cNvSpPr/>
          <p:nvPr/>
        </p:nvSpPr>
        <p:spPr>
          <a:xfrm>
            <a:off x="533520" y="0"/>
            <a:ext cx="2895480" cy="6858000"/>
          </a:xfrm>
          <a:prstGeom prst="rect">
            <a:avLst/>
          </a:prstGeom>
          <a:gradFill rotWithShape="0">
            <a:gsLst>
              <a:gs pos="0">
                <a:srgbClr val="00003d"/>
              </a:gs>
              <a:gs pos="50000">
                <a:srgbClr val="000099"/>
              </a:gs>
              <a:gs pos="100000">
                <a:srgbClr val="00003d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4"/>
          <p:cNvSpPr/>
          <p:nvPr/>
        </p:nvSpPr>
        <p:spPr>
          <a:xfrm>
            <a:off x="684360" y="866880"/>
            <a:ext cx="792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1 CuadroTexto"/>
          <p:cNvSpPr/>
          <p:nvPr/>
        </p:nvSpPr>
        <p:spPr>
          <a:xfrm>
            <a:off x="826920" y="765000"/>
            <a:ext cx="749016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La maestra,  Cochela,  no pudo evitar romper en llanto de emoción</a:t>
            </a:r>
            <a:br>
              <a:rPr sz="2400"/>
            </a:b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y pidió permiso al ahora Monseñor para poder visitarlo. Provocando una nueva</a:t>
            </a:r>
            <a:br>
              <a:rPr sz="2400"/>
            </a:b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sonrisa en el cura que le dijo que se enojaría si no viniera a verlo</a:t>
            </a:r>
            <a:br>
              <a:rPr sz="2400"/>
            </a:b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segui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La maestra jubilada volvió a su casa a contarle a Coiche, su</a:t>
            </a:r>
            <a:br>
              <a:rPr sz="2400"/>
            </a:b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hermana mayor y a toda la familia la alegría de su encuentro y la mayor</a:t>
            </a:r>
            <a:br>
              <a:rPr sz="2400"/>
            </a:b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alegría aún de haber logrado el permiso para visitar a su viejo amigo en la</a:t>
            </a:r>
            <a:br>
              <a:rPr sz="2400"/>
            </a:b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parroquia. 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in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0d00"/>
            </a:gs>
            <a:gs pos="50000">
              <a:srgbClr val="cccc00"/>
            </a:gs>
            <a:gs pos="100000">
              <a:srgbClr val="0d0d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685800" y="0"/>
            <a:ext cx="2895480" cy="6858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cccc00"/>
              </a:gs>
              <a:gs pos="100000">
                <a:srgbClr val="0000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5715000" y="0"/>
            <a:ext cx="2895480" cy="6858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cccc00"/>
              </a:gs>
              <a:gs pos="100000">
                <a:srgbClr val="0000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4"/>
          <p:cNvSpPr/>
          <p:nvPr/>
        </p:nvSpPr>
        <p:spPr>
          <a:xfrm>
            <a:off x="533520" y="380880"/>
            <a:ext cx="8076960" cy="624852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r>
              <a:rPr b="1" lang="pt-BR" sz="2400" spc="-1" strike="noStrike">
                <a:solidFill>
                  <a:srgbClr val="ff9900"/>
                </a:solidFill>
                <a:latin typeface="Comic Sans MS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1 CuadroTexto"/>
          <p:cNvSpPr/>
          <p:nvPr/>
        </p:nvSpPr>
        <p:spPr>
          <a:xfrm>
            <a:off x="1116000" y="982800"/>
            <a:ext cx="72010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A partir de ese momento, Cochela visitaría mensualmente a Monseñor, siempre</a:t>
            </a:r>
            <a:br>
              <a:rPr sz="2400"/>
            </a:b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llevándole todo tipo de ofrendas, escritos, viejas fotografías en blanco y</a:t>
            </a:r>
            <a:br>
              <a:rPr sz="2400"/>
            </a:b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negro, y entre ellas se destacaban sus "Chipás", lo que además la</a:t>
            </a:r>
            <a:br>
              <a:rPr sz="2400"/>
            </a:b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caracterizaban por su exquisitez y por su origen correntin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La anciana no</a:t>
            </a:r>
            <a:br>
              <a:rPr sz="2400"/>
            </a:b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necesitaba ver personalmente a Monseñor, ella se conformaba con que su</a:t>
            </a:r>
            <a:br>
              <a:rPr sz="2400"/>
            </a:b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secretario le entregue sus presentes ya que no quería distraerlo de sus</a:t>
            </a:r>
            <a:br>
              <a:rPr sz="2400"/>
            </a:b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ocupac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in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a0002"/>
            </a:gs>
            <a:gs pos="50000">
              <a:srgbClr val="a50021"/>
            </a:gs>
            <a:gs pos="100000">
              <a:srgbClr val="0a0002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2"/>
          <p:cNvSpPr/>
          <p:nvPr/>
        </p:nvSpPr>
        <p:spPr>
          <a:xfrm>
            <a:off x="250920" y="0"/>
            <a:ext cx="2895480" cy="6858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a50021"/>
              </a:gs>
              <a:gs pos="100000">
                <a:srgbClr val="0000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3"/>
          <p:cNvSpPr/>
          <p:nvPr/>
        </p:nvSpPr>
        <p:spPr>
          <a:xfrm>
            <a:off x="5867280" y="0"/>
            <a:ext cx="2743200" cy="6858000"/>
          </a:xfrm>
          <a:prstGeom prst="rect">
            <a:avLst/>
          </a:prstGeom>
          <a:gradFill rotWithShape="0">
            <a:gsLst>
              <a:gs pos="0">
                <a:srgbClr val="0a0002"/>
              </a:gs>
              <a:gs pos="50000">
                <a:srgbClr val="a50021"/>
              </a:gs>
              <a:gs pos="100000">
                <a:srgbClr val="0a0002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1 CuadroTexto"/>
          <p:cNvSpPr/>
          <p:nvPr/>
        </p:nvSpPr>
        <p:spPr>
          <a:xfrm>
            <a:off x="1258920" y="549360"/>
            <a:ext cx="68421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Sin embargo, a cada visita, cuando no lo encontraba a él,</a:t>
            </a:r>
            <a:br>
              <a:rPr sz="2400"/>
            </a:b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siempre indefectiblemente seguía una llamada telefónica de Monseñor, en</a:t>
            </a:r>
            <a:br>
              <a:rPr sz="2400"/>
            </a:b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persona, para agradecer la deferencia y el cariño que sus visitas</a:t>
            </a:r>
            <a:br>
              <a:rPr sz="2400"/>
            </a:b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evidenciaban. </a:t>
            </a:r>
            <a:br>
              <a:rPr sz="2400"/>
            </a:br>
            <a:br>
              <a:rPr sz="2400"/>
            </a:b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Cochela jamás pidió nada a Monseñor, y Monseñor fue Cardenal, y Obispo de</a:t>
            </a:r>
            <a:br>
              <a:rPr sz="2400"/>
            </a:b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su ciudad, y ella vivía cada homilía del padre Jorge como dando crédito a</a:t>
            </a:r>
            <a:br>
              <a:rPr sz="2400"/>
            </a:b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que escuchaba la palabra de Di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2T01:03:07Z</dcterms:created>
  <dc:creator/>
  <dc:description/>
  <dc:language>en-US</dc:language>
  <cp:lastModifiedBy>Sergio A Rodríguez</cp:lastModifiedBy>
  <dcterms:modified xsi:type="dcterms:W3CDTF">2013-08-15T06:20:13Z</dcterms:modified>
  <cp:revision>38</cp:revision>
  <dc:subject/>
  <dc:title>Apresentação do PowerPoint</dc:title>
</cp:coreProperties>
</file>