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A-Vangelis-Eternal%20Alexander-1m00.wav" ContentType="audio/x-wav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5A5-A4F7-46C8-9926-EEE92888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1AF-10D3-4715-AE3D-7940522B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462-5BD6-4EB9-AB82-6EAF04CD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461-1BB6-4CAE-A3E7-940504C2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21B-5838-4FC4-B7D5-EFFC2DE4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D29-548A-453D-A405-6323C2B2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0CD-BF36-4CD0-9F05-10D04BD3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8AF-9A03-4AE5-B249-95DC9A40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F06-F0D4-4797-8A23-F170132B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411-7C57-4AC3-AC19-A38B977D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D2E-3BD3-491A-BC61-61C9B572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441-5EE9-4FF5-8CF3-2B44531F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C10E-40DA-4BA4-80A3-36A5AAE86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gif"/><Relationship Id="rId6" Type="http://schemas.openxmlformats.org/officeDocument/2006/relationships/audio" Target="../media/A-Vangelis-Eternal%20Alexander-1m00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35280" y="6237360"/>
            <a:ext cx="2016360" cy="620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979640" y="2492280"/>
            <a:ext cx="532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Cooper Black"/>
              </a:rPr>
              <a:t>Obesidad Mental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Cooper Black"/>
              <a:ea typeface="Cooper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380360" y="5718240"/>
            <a:ext cx="1763640" cy="11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03280" y="11970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paradojal o enferm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06064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Florece la pornografia, el charlatanismo, 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la imitación, 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la insipidez, 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el egoísm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190656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No se trata de una decadencia, una «edad de las tinieblas» o el fin de la civilización, como tantos pregona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2926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Es solo una cuestión de obesidad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01336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El hombre moderno está adiposo en el raciocínio, gustos y sentimient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380360" y="5718240"/>
            <a:ext cx="176364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87280" y="98100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El mundo no precisa de reformas, desarrollo, progres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6000" y="2276640"/>
            <a:ext cx="530388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oper Black"/>
              </a:rPr>
              <a:t>Precisa sobre todo d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oper Black"/>
              <a:ea typeface="Cooper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56000" y="4076640"/>
            <a:ext cx="5184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4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Cooper Black"/>
              </a:rPr>
              <a:t>DIETA MENTA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Cooper Black"/>
              <a:ea typeface="Cooper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7380360" y="5718240"/>
            <a:ext cx="176364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 Rectángulo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42360" cy="5151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03280" y="11970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El profesor Andrew Oitke publicó su polémico libro «Mental Obesity»,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que revolucionó los campos de la educación, periodismo y relaciones sociales en genera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3357720"/>
            <a:ext cx="66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En esa obra, el catedrático de Antropología en Harvard introdujo el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concepto del epígrafe para describir lo que consideraba el peor problema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de la sociedad modern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380360" y="5718240"/>
            <a:ext cx="176364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836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- «Hace apenas algunas décadas, la Humanidad tomó conciencia de los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peligros del exceso de gordura física por una alimentación sin regl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2349360"/>
            <a:ext cx="68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Estamos ahora en el momento de notar que nuestros abusos en el campo de la información y conocimiento están  creando problemas tanto o más serios que esos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436572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-  Según el autor, «nuestra sociedad está más abarrotada de preconceptos que de proteínas, más intoxicada de lugares comunes que de hidratos de carbon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80360" y="5718240"/>
            <a:ext cx="176364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105264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La gente se vició de estereotipos, juicios apresurados, pensamientos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tacaños, condenas precipitad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270828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Todos opinan sobre todo, 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pero no saben nad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40053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Los cocineros de esta magna "fast food" intelectual son los periodistas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y comentaristas, los editores de la información y los filósofos, los argumentistas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y realizadores de cin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80360" y="5718240"/>
            <a:ext cx="176364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98100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Los noticieros y telenovelas son las hamburgers del espíritu, las revistas y novelas son los donuts de la imaginación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2133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El problema central está en la família y en la escuel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299736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-  «Cualquier padre responsable sabe que sus hijos se enfermarían si comieran solamente dulces y chocolat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436572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No se entiende, entonces, cómo es que tantos educadores aceptan que la dieta mental de los niños esté compuesta por dibujos animados, videojuegos y telenovel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80360" y="5718240"/>
            <a:ext cx="176364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16000" y="105264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Con una «alimentación intelectual» 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tan cargada de adrenalina,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romance, violencia y emoción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2349360"/>
            <a:ext cx="72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es normal que esos jóvenes nunca consigan después una vida saludable y equilibrada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3213000"/>
            <a:ext cx="727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Uno de los capítulos más polémicos y contundentes de la obra, titul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lligraphy"/>
              </a:rPr>
              <a:t>“</a:t>
            </a:r>
            <a:r>
              <a:rPr b="1" lang="pt-BR" sz="2400" spc="-1" strike="noStrike">
                <a:solidFill>
                  <a:srgbClr val="ff3300"/>
                </a:solidFill>
                <a:latin typeface="Lucida Calligraphy"/>
              </a:rPr>
              <a:t>Los Buitres"</a:t>
            </a: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, afirma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4724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«El periodista se alimenta hoy casi exclusivamente de cadáveres de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reputaci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80360" y="5718240"/>
            <a:ext cx="176364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105264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de detritos, de escándalos, de los restos mortales de las realizaciones human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2349360"/>
            <a:ext cx="31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e7b00"/>
                </a:solidFill>
                <a:latin typeface="Arial"/>
              </a:rPr>
              <a:t>  </a:t>
            </a: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La prensa dejó hace mucho de informar, para solo seducir, agredir y manipular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1989000"/>
            <a:ext cx="338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El texto describe cómo los reporteros se desinteresan de la realidad,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 para centrarse solamente en el lado polémico y chocant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5157720"/>
            <a:ext cx="73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«Sólo la parte muerta y podrida de la realidad es la que llega a los periódicos.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380360" y="5718240"/>
            <a:ext cx="176364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16000" y="981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Otros casos referidos crearon una conmoción que perdur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191628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-  «El conocimiento de las personas aumentó, pero lleno de banalidades.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Todos saben que Kennedy fue asesinado, pero no saben quién fue Kenned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3500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Todos dicen que la Capilla Sixtina tiene techo, pero nadie siquiera sospecha para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qué sirv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472428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Todos creen que Saddam es malo 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y Mandela es bueno, 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pero ni desconfían por qué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80360" y="5718240"/>
            <a:ext cx="176364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1052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Todos conocen que Pitágoras tiene un teorema, pero ignoran qué es un cateto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19162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e7b00"/>
                </a:solidFill>
                <a:latin typeface="Lucida Calligraphy"/>
              </a:rPr>
              <a:t>Las conclusiones del tratado, </a:t>
            </a:r>
            <a:br>
              <a:rPr sz="2800"/>
            </a:br>
            <a:r>
              <a:rPr b="1" lang="pt-BR" sz="2800" spc="-1" strike="noStrike">
                <a:solidFill>
                  <a:srgbClr val="7e7b00"/>
                </a:solidFill>
                <a:latin typeface="Lucida Calligraphy"/>
              </a:rPr>
              <a:t>ya clásico, son arrasadora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285264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-  «No sorprende que, en medio 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de la prosperidad y abundancia, 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las grandes realizaciones del espíritu humano estén en decadenci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436572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La família es discutida, la tradición olvidada, la religión abandonada, 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la cultura se banalizó, el folklore entró </a:t>
            </a:r>
            <a:br>
              <a:rPr sz="2400"/>
            </a:br>
            <a:r>
              <a:rPr b="1" lang="pt-BR" sz="2400" spc="-1" strike="noStrike">
                <a:solidFill>
                  <a:srgbClr val="7e7b00"/>
                </a:solidFill>
                <a:latin typeface="Lucida Calligraphy"/>
              </a:rPr>
              <a:t>en caída libre, el arte es fútil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380360" y="5718240"/>
            <a:ext cx="1763640" cy="1139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7:49:30Z</dcterms:created>
  <dc:creator>Nora</dc:creator>
  <dc:description/>
  <dc:language>en-US</dc:language>
  <cp:lastModifiedBy>.</cp:lastModifiedBy>
  <dcterms:modified xsi:type="dcterms:W3CDTF">2011-06-27T05:13:53Z</dcterms:modified>
  <cp:revision>0</cp:revision>
  <dc:subject/>
  <dc:title>Obesidad Mental</dc:title>
</cp:coreProperties>
</file>