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EB14-51C6-43E9-96D4-47A499A3C6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4AD7-2F44-4677-AAE2-665DDDF43B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4C2-E014-4CEF-BEED-B61C40CF780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240-115F-4F48-AC87-FC337DDA42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5596-ED34-4985-B1FC-AC00EECA22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2097-FCEC-4427-AD78-76AF50250A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1F0-9154-4804-ADA6-96B1D1A424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D8A-B278-4F10-B6B4-0B58A69286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C4A-3B0E-4B3F-BA26-507D4821D8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208-B382-4424-A3DC-2E4D6ECEED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410-AB74-4513-8C92-B368B6DED8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D25D-13BD-4816-885D-28A6CA9F9E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F5AF-5DF1-4665-AFA8-7526D636BA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D361-E843-4DCC-BCDA-937F0A6C9F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1B6B-E1C3-4263-BD30-D91300F87A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FE1C-284D-4FEC-A2BC-8DFB15AF31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253-968E-4379-B997-EFBD23B4F7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B9F3-6311-442B-8811-6D8F9268BF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FEC-03AF-4503-859D-277FA06080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DAA-CC4F-43A4-9BFF-3577A7C142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D3DC-51B9-48B3-AE06-9F5F2A6EB4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2AC-A11E-4F4D-BEB8-9E493D3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EA8-96B5-4A0B-BBA6-963B9DD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090-489C-43E9-B016-42768412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140-1A92-4339-A8BD-52C8987D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BC1-4A84-4982-A7C8-D088689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0D1-6114-4D7F-AEF7-5DEEDF3C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70C-D22B-4933-8DA0-91405EA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ACD-8A04-4E4A-8063-EDE8B9E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248-5AE2-4B24-A3EA-329FAB0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56E-52ED-4AF6-894C-750BC4E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6C2-A21F-4528-8290-AD2947E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96B-5195-4B46-BF60-491880D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CB90-3691-4124-A88D-F8C82255D05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92360" y="501336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urante una conferencia con varios universitarios, un profesor de la Universidad de Berlí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209760" y="620640"/>
            <a:ext cx="31374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emania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icio del siglo 20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50" name="Picture 9" descr="alemanha_bandeira_dn"/>
          <p:cNvPicPr/>
          <p:nvPr/>
        </p:nvPicPr>
        <p:blipFill>
          <a:blip r:embed="rId1"/>
          <a:stretch/>
        </p:blipFill>
        <p:spPr>
          <a:xfrm>
            <a:off x="2411280" y="1844640"/>
            <a:ext cx="4537080" cy="3024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feitos da Neve 8"/>
          <p:cNvPicPr/>
          <p:nvPr/>
        </p:nvPicPr>
        <p:blipFill>
          <a:blip r:embed="rId1"/>
          <a:stretch/>
        </p:blipFill>
        <p:spPr>
          <a:xfrm>
            <a:off x="-541440" y="-16200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826920" y="3789360"/>
            <a:ext cx="770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El cero absoluto es la ausencia total de calor; todos los cuerpos quedan inertes, incapaces de reaccionar, pero el frío no existe. Nosotros creamos esa definición para describir de que manera nos sentimos cuando no tenemos calor."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042920" y="22766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Y, ¿existe la oscuridad?  Continuó el estudiante.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El profesor respondió: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Existe.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00000" y="1989000"/>
            <a:ext cx="75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El estudiante respondió: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La oscuridad tampoco existe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La oscuridad, en realidad, es la ausencia de luz.</a:t>
            </a:r>
            <a:r>
              <a:rPr b="0" lang="es-VE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11280" y="1700280"/>
            <a:ext cx="802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La luz la podemos estudiar,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¡la oscuridad, no!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A través del prisma de Nichols, se puede descomponer la luz blanca en sus varios colores, con sus diferentes longitudes de ondas.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¡La oscuridad, no!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116000" y="1022400"/>
            <a:ext cx="691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… “</a:t>
            </a: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¿Como se puede saber qué tan oscuro está un espacio determinado?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Con base en la cantidad de luz presente en ese espacio.”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La oscuridad es una definición utilizada por el hombre para describir qué ocurre cuando hay ausencia de luz.”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4360" y="472428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Finalmente, el joven preguntó al profesor: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Señor, ¿EL MAL EXISTE?</a:t>
            </a:r>
            <a:r>
              <a:rPr b="0" lang="es-VE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4" name="Picture 5" descr="Puesta de sol"/>
          <p:cNvPicPr/>
          <p:nvPr/>
        </p:nvPicPr>
        <p:blipFill>
          <a:blip r:embed="rId1"/>
          <a:stretch/>
        </p:blipFill>
        <p:spPr>
          <a:xfrm>
            <a:off x="1979640" y="549360"/>
            <a:ext cx="5329080" cy="3997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84360" y="489888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 profesor respondió: Como afirmé al inicio, vemos estupros, crímenes, violencia en todo el mundo. Esas cosas son del mal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6" name="Picture 7" descr="Puesta de sol"/>
          <p:cNvPicPr/>
          <p:nvPr/>
        </p:nvPicPr>
        <p:blipFill>
          <a:blip r:embed="rId1"/>
          <a:stretch/>
        </p:blipFill>
        <p:spPr>
          <a:xfrm>
            <a:off x="1979640" y="549360"/>
            <a:ext cx="5329080" cy="3997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39640" y="314172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 estudiante respondió: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 mal no existe, Señor, o por lo menos no existe por sí mismo. El mal es simplemente la ausencia del bien…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De conformidad con los anteriores casos, el mal es una definición que el hombre inventó para describir la ausencia de Dios.”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8" name="Picture 7" descr="1072822915"/>
          <p:cNvPicPr/>
          <p:nvPr/>
        </p:nvPicPr>
        <p:blipFill>
          <a:blip r:embed="rId1"/>
          <a:stretch/>
        </p:blipFill>
        <p:spPr>
          <a:xfrm>
            <a:off x="3276720" y="260280"/>
            <a:ext cx="2462040" cy="2735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2200" y="3392640"/>
            <a:ext cx="8497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Dios no creó el mal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 mal es el resultado de la ausencia de Dios en el corazón de los seres humanos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s igual a lo que ocurre con el frío cuando no hay calor, o con la oscuridad cuando no hay luz.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80" name="Picture 6" descr="1072822915"/>
          <p:cNvPicPr/>
          <p:nvPr/>
        </p:nvPicPr>
        <p:blipFill>
          <a:blip r:embed="rId1"/>
          <a:stretch/>
        </p:blipFill>
        <p:spPr>
          <a:xfrm>
            <a:off x="3276720" y="260280"/>
            <a:ext cx="2462040" cy="2735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678px-Young_Albert_Einstein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604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140360" y="549360"/>
            <a:ext cx="464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cc0000"/>
                </a:solidFill>
                <a:latin typeface="Times New Roman"/>
              </a:rPr>
              <a:t>El joven fue aplaudido de pié, y el maestro, moviendo la cabeza,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VE" sz="3200" spc="-1" strike="noStrike">
                <a:solidFill>
                  <a:srgbClr val="cc0000"/>
                </a:solidFill>
                <a:latin typeface="Times New Roman"/>
              </a:rPr>
              <a:t>permaneció en silencio …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nosso_Deus"/>
          <p:cNvPicPr/>
          <p:nvPr/>
        </p:nvPicPr>
        <p:blipFill>
          <a:blip r:embed="rId1"/>
          <a:stretch/>
        </p:blipFill>
        <p:spPr>
          <a:xfrm>
            <a:off x="1476360" y="549360"/>
            <a:ext cx="5977080" cy="371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900000" y="442116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propuso un desafío a sus alumnos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con la siguiente pregunta: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¿Dios creó todo lo que existe?"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340000" y="292428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cc0000"/>
                </a:solidFill>
                <a:latin typeface="Times New Roman"/>
              </a:rPr>
              <a:t>Me llamo, ALBERT  EINSTEIN.</a:t>
            </a: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03280" y="260280"/>
            <a:ext cx="6335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 director de la Universidad,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dirigió al joven estudiante y le preguntó: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¿Cuál es tu nombre?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85" name="Picture 6" descr="albert_einstein_large"/>
          <p:cNvPicPr/>
          <p:nvPr/>
        </p:nvPicPr>
        <p:blipFill>
          <a:blip r:embed="rId1"/>
          <a:stretch/>
        </p:blipFill>
        <p:spPr>
          <a:xfrm>
            <a:off x="3519360" y="3635280"/>
            <a:ext cx="2421000" cy="2962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Image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042920" y="4797360"/>
            <a:ext cx="75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Un alumno respondió, valientemente: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Si, Él creó …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age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900000" y="3933720"/>
            <a:ext cx="80280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¿Dios realmente creó todo lo que existe?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Preguntó nuevamente el maestro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Si señor, respondió el joven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Lobos"/>
          <p:cNvPicPr/>
          <p:nvPr/>
        </p:nvPicPr>
        <p:blipFill>
          <a:blip r:embed="rId1"/>
          <a:stretch/>
        </p:blipFill>
        <p:spPr>
          <a:xfrm>
            <a:off x="1332000" y="333360"/>
            <a:ext cx="6121440" cy="424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0" y="46274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 profesor respondió: “Si Dios creó todo lo que existe, ¡entonces Dios hizo el mal, ya que el mal existe! Y si establecemos que nuestras obras son un reflejo de nosotros mismos, ¡entonces Dios es malo!!"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453852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 joven se calló frente a la respuesta del maestro, que feliz, se regocijaba de haber probado, una vez más, </a:t>
            </a:r>
            <a:r>
              <a:rPr b="1" lang="es-VE" sz="3200" spc="-1" strike="noStrike">
                <a:solidFill>
                  <a:srgbClr val="000000"/>
                </a:solidFill>
                <a:latin typeface="Times New Roman"/>
              </a:rPr>
              <a:t>que la fe era un mito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60" name="Picture 4" descr="brxbxp49092"/>
          <p:cNvPicPr/>
          <p:nvPr/>
        </p:nvPicPr>
        <p:blipFill>
          <a:blip r:embed="rId1"/>
          <a:stretch/>
        </p:blipFill>
        <p:spPr>
          <a:xfrm>
            <a:off x="0" y="0"/>
            <a:ext cx="5867280" cy="4005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mage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84360" y="4221000"/>
            <a:ext cx="784836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Otro estudiante levantó la mano y dijo: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¿Puedo hacerle una pregunta, profesor?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ógico, fue la respuesta del profesor.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Efeitos da Neve 6"/>
          <p:cNvPicPr/>
          <p:nvPr/>
        </p:nvPicPr>
        <p:blipFill>
          <a:blip r:embed="rId1"/>
          <a:stretch/>
        </p:blipFill>
        <p:spPr>
          <a:xfrm>
            <a:off x="-324000" y="0"/>
            <a:ext cx="10530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547640" y="2852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El joven se paró y preguntó: 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Profesor, ¿el frío existe?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¿Pero que pregunta es esa?… Lógico que existe, ¿o acaso nunca sentiste frío?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Efeitos da Neve 8"/>
          <p:cNvPicPr/>
          <p:nvPr/>
        </p:nvPicPr>
        <p:blipFill>
          <a:blip r:embed="rId1"/>
          <a:stretch/>
        </p:blipFill>
        <p:spPr>
          <a:xfrm>
            <a:off x="-541440" y="-16200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24000" y="3508200"/>
            <a:ext cx="88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Times New Roman"/>
              </a:rPr>
              <a:t>El muchacho respondió: "En realidad, señor, el frío no existe. Según las leyes de la Física, lo que consideramos frío, en verdad es la ausencia de calor. Todo cuerpo o objeto es factible de estudio cuando posee o transmite energía; el calor es lo que hace que este cuerpo tenga o transmita energía”.</a:t>
            </a:r>
            <a:endParaRPr b="0" lang="en-US" sz="32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1:24:13Z</dcterms:created>
  <dc:creator>RLIMA</dc:creator>
  <dc:description/>
  <dc:language>en-US</dc:language>
  <cp:lastModifiedBy>Francisco Checchi</cp:lastModifiedBy>
  <dcterms:modified xsi:type="dcterms:W3CDTF">2011-11-06T18:34:22Z</dcterms:modified>
  <cp:revision>6</cp:revision>
  <dc:subject/>
  <dc:title>LA VERDAD</dc:title>
</cp:coreProperties>
</file>