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drumroll.wav" ContentType="audio/x-wav"/>
  <Override PartName="/ppt/media/applaus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E638-820F-457C-835E-9C9AD9537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E94A-2022-465B-8A3A-19A8C4D0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3381-8FA5-4834-8E00-84F082144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F98C-1E2B-4711-BB25-61D963B68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E37B-C502-4C1A-86DA-482FBB32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CD6C-FB92-4D2D-8C9E-7DBB6533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6A01-0346-4A37-A557-8656186D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96E4-3502-4C9F-96A6-064C28AB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E43D-9E84-4533-AA45-A5075CBD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0575-5F19-4B15-86E6-7F3903DC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D763-189E-419E-AC34-D950BD08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922D-9E55-494D-A7D8-C90EFEBA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E4F4-7455-4256-938B-FF9C31AFD63A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cint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578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 u="sng">
                <a:solidFill>
                  <a:srgbClr val="000000"/>
                </a:solidFill>
                <a:uFillTx/>
                <a:latin typeface="Calibri"/>
              </a:rPr>
              <a:t>   </a:t>
            </a:r>
            <a:br>
              <a:rPr sz="4000"/>
            </a:br>
            <a:r>
              <a:rPr b="1" lang="es-ES" sz="4000" spc="-1" strike="noStrike" u="sng">
                <a:solidFill>
                  <a:srgbClr val="ffffff"/>
                </a:solidFill>
                <a:uFillTx/>
                <a:latin typeface="Calibri"/>
              </a:rPr>
              <a:t>Modo 1  </a:t>
            </a:r>
            <a:r>
              <a:rPr b="1" lang="es-ES" sz="4000" spc="-1" strike="noStrike">
                <a:solidFill>
                  <a:srgbClr val="ffffff"/>
                </a:solidFill>
                <a:latin typeface="Calibri"/>
              </a:rPr>
              <a:t>: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Calibri"/>
              </a:rPr>
              <a:t>POR INTERVALO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FUNCIONAMIENTO ALTERNADO DE MAGNETOS E IMA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ZONAS DE ESTIMULO CONCENTRICA. FORTALECIMIENTO MUSCULAR Y FIBRIL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CORRIENTE CIRCUNDANTE SIMILAR A LA RUSA</a:t>
            </a: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ONDA DE FRECUENCIA PUNZANTE, SIMILAR A ELECTROACUPUNTU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ONDAS RELAJANTES, BENEFICIA ZONAS  MUSCULARES CONGESTIONADAS O CON DOL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 u="sng">
                <a:solidFill>
                  <a:srgbClr val="ffffff"/>
                </a:solidFill>
                <a:uFillTx/>
                <a:latin typeface="Calibri"/>
              </a:rPr>
              <a:t>Modo 2: </a:t>
            </a:r>
            <a:r>
              <a:rPr b="1" lang="es-ES" sz="4400" spc="-1" strike="noStrike">
                <a:solidFill>
                  <a:srgbClr val="ffffff"/>
                </a:solidFill>
                <a:latin typeface="Calibri"/>
              </a:rPr>
              <a:t>DIGITOPUNTURA</a:t>
            </a:r>
            <a:r>
              <a:rPr b="1" i="1" lang="es-ES" sz="4400" spc="-1" strike="noStrike" u="sng">
                <a:solidFill>
                  <a:srgbClr val="ffffff"/>
                </a:solidFill>
                <a:uFillTx/>
                <a:latin typeface="Calibri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c00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c00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ONDAS DE CACHETEO Y RODADURA. SIMILAR AL MASAJE CIENTÍFICO TAILANDÉ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 u="sng">
                <a:solidFill>
                  <a:srgbClr val="ffffff"/>
                </a:solidFill>
                <a:uFillTx/>
                <a:latin typeface="Calibri"/>
              </a:rPr>
              <a:t>Modo 3: </a:t>
            </a: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Calibri"/>
              </a:rPr>
              <a:t> MASAJE TAILAND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c00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c00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SE TRATA DE UNA ONDA ESCALAR  ( TIPO BOOMERANG = PENETRA REMUEVE Y REBOTA 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AMASAMIENTO CIRCUNDANT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  <a:ea typeface="宋体"/>
              </a:rPr>
              <a:t>MOVILIZA LAS GRASAS Y ADIPOSIDAD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ff"/>
                </a:solidFill>
                <a:uFillTx/>
                <a:latin typeface="Calibri"/>
              </a:rPr>
              <a:t>Modo 4 :</a:t>
            </a: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Calibri"/>
              </a:rPr>
              <a:t> MARTILLAJE  O GOLPETE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FRICCIÓN DE ONDAS ESCALARES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ONDAS DE DOS TIPOS: CONCAVA Y CONVEX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FRICCIONA Y DESGASTA LA ADIPOSIDAD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REAFIRMA</a:t>
            </a:r>
            <a:r>
              <a:rPr b="0" lang="es-ES" sz="3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ff"/>
                </a:solidFill>
                <a:uFillTx/>
                <a:latin typeface="Calibri"/>
              </a:rPr>
              <a:t>MODO 5</a:t>
            </a:r>
            <a:r>
              <a:rPr b="1" lang="es-ES" sz="4000" spc="-1" strike="noStrike">
                <a:solidFill>
                  <a:srgbClr val="ffffff"/>
                </a:solidFill>
                <a:latin typeface="Calibri"/>
              </a:rPr>
              <a:t> :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Calibri"/>
              </a:rPr>
              <a:t>TONIFICAD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VIBRACIÓN ESTIMULANTE SECUEN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APUNTALA, VIBRA Y CAMBIA LA POLARIZA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Normaliza el funcionamiento de los órganos intern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s-ES" sz="4400" spc="-1" strike="noStrike" u="sng">
                <a:solidFill>
                  <a:srgbClr val="ffffff"/>
                </a:solidFill>
                <a:uFillTx/>
                <a:latin typeface="Calibri"/>
              </a:rPr>
              <a:t>MODO 6</a:t>
            </a:r>
            <a:r>
              <a:rPr b="1" lang="es-ES" sz="4400" spc="-1" strike="noStrike">
                <a:solidFill>
                  <a:srgbClr val="ffffff"/>
                </a:solidFill>
                <a:latin typeface="Calibri"/>
              </a:rPr>
              <a:t> :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Calibri"/>
              </a:rPr>
              <a:t> POR SECTORES O POR PUNTAD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2708280"/>
            <a:ext cx="8229600" cy="39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COMBINA TODAS LAS ONDAS ANTERIO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ACTIVA LA CIRCULACIÓN SANGUÍNE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MAXIMO DE FRECUENCIA DE OND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ES" sz="40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r>
              <a:rPr b="1" lang="es-ES" sz="4000" spc="-1" strike="noStrike" u="sng">
                <a:solidFill>
                  <a:srgbClr val="ffffff"/>
                </a:solidFill>
                <a:uFillTx/>
                <a:latin typeface="Calibri"/>
              </a:rPr>
              <a:t>MODO 7: </a:t>
            </a:r>
            <a:br>
              <a:rPr sz="4000"/>
            </a:b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Calibri"/>
              </a:rPr>
              <a:t>MODO GLOBAL O MASAJE TOT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Salud Na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iosalud@redpostiva.org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eatonal Suipacha 370 – 1º B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Buenos Aires – Argentina 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 media cuadra del Obelis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15-3494-1438   //   011-4326-078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052280"/>
            <a:ext cx="8229600" cy="56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alibri"/>
              </a:rPr>
              <a:t>Tres principales causas de muerte: exceso de peso,  stress y cigarrillo ( cerebrales y cardíacos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3000" spc="-1" strike="noStrike">
                <a:solidFill>
                  <a:srgbClr val="ffffff"/>
                </a:solidFill>
                <a:latin typeface="Calibri"/>
              </a:rPr>
              <a:t>Tecnología de avanzada aplicada a la enfermedad del </a:t>
            </a:r>
            <a:r>
              <a:rPr b="0" lang="es-E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Calibri"/>
              </a:rPr>
              <a:t>siglo XXI (40 % población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3000" spc="-1" strike="noStrike">
                <a:solidFill>
                  <a:srgbClr val="ffffff"/>
                </a:solidFill>
                <a:latin typeface="Calibri"/>
              </a:rPr>
              <a:t>50 años de experiencia mundial aplicados en 1 solo producto, el nuestr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3000" spc="-1" strike="noStrike">
                <a:solidFill>
                  <a:srgbClr val="ffffff"/>
                </a:solidFill>
                <a:latin typeface="Calibri"/>
              </a:rPr>
              <a:t>Beneficios estéticos y terapéuticos para toda la famil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3000" spc="-1" strike="noStrike">
                <a:solidFill>
                  <a:srgbClr val="ffffff"/>
                </a:solidFill>
                <a:latin typeface="Calibri"/>
              </a:rPr>
              <a:t>3 diferentes tipos de energía naturales que benefician el cuerpo y la salu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3000" spc="-1" strike="noStrike">
                <a:solidFill>
                  <a:srgbClr val="ffffff"/>
                </a:solidFill>
                <a:latin typeface="Calibri"/>
              </a:rPr>
              <a:t>La intensidad de energía adecuada para cada zona del cuerp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3000" spc="-1" strike="noStrike">
                <a:solidFill>
                  <a:srgbClr val="ffffff"/>
                </a:solidFill>
                <a:latin typeface="Calibri"/>
              </a:rPr>
              <a:t>Computadora ajustable a la medida de su cuerpo y sus necesidad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ahoma"/>
                <a:ea typeface="宋体"/>
              </a:rPr>
              <a:t>¿</a:t>
            </a:r>
            <a:r>
              <a:rPr b="1" lang="es-ES" sz="4000" spc="-1" strike="noStrike">
                <a:solidFill>
                  <a:srgbClr val="ffffff"/>
                </a:solidFill>
                <a:latin typeface="Calibri"/>
                <a:ea typeface="宋体"/>
              </a:rPr>
              <a:t> Por qu</a:t>
            </a:r>
            <a:r>
              <a:rPr b="1" lang="es-ES" sz="4000" spc="-1" strike="noStrike">
                <a:solidFill>
                  <a:srgbClr val="ffffff"/>
                </a:solidFill>
                <a:latin typeface="Tahoma"/>
                <a:ea typeface="宋体"/>
              </a:rPr>
              <a:t>é</a:t>
            </a:r>
            <a:r>
              <a:rPr b="1" lang="es-ES" sz="4000" spc="-1" strike="noStrike">
                <a:solidFill>
                  <a:srgbClr val="ffffff"/>
                </a:solidFill>
                <a:latin typeface="Calibri"/>
                <a:ea typeface="宋体"/>
              </a:rPr>
              <a:t> es el mejor producto del mercad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3 Rectángulo"/>
          <p:cNvSpPr/>
          <p:nvPr/>
        </p:nvSpPr>
        <p:spPr>
          <a:xfrm>
            <a:off x="500040" y="2039760"/>
            <a:ext cx="8001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Las mujeres y los hombres de todo el mundo invierten m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宋体"/>
              </a:rPr>
              <a:t>á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s dinero en est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宋体"/>
              </a:rPr>
              <a:t>é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tica por eso son m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宋体"/>
              </a:rPr>
              <a:t>á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s hermosos hoy en d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宋体"/>
              </a:rPr>
              <a:t>í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Este producto lo ayudar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宋体"/>
              </a:rPr>
              <a:t>á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 a embellecer su cuerpo y hacerlo m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宋体"/>
              </a:rPr>
              <a:t>á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s salud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La ciencia m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宋体"/>
              </a:rPr>
              <a:t>é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dica ha comprobado que el sobrepeso es perjudicial para la salud, las expectativas de una larga vida, para trabajar o para estudi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Tambi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宋体"/>
              </a:rPr>
              <a:t>é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n puede derivar en enfermedades tales como hipertensi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宋体"/>
              </a:rPr>
              <a:t>ó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n, alto contenido de grasa en la sangre, alteraci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宋体"/>
              </a:rPr>
              <a:t>ó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n de ritmo card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宋体"/>
              </a:rPr>
              <a:t>í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aco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ff"/>
                </a:solidFill>
                <a:uFillTx/>
                <a:latin typeface="Calibri"/>
                <a:ea typeface="宋体"/>
              </a:rPr>
              <a:t>Este producto disuelve y transforma el excedente de grasa en peque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  <a:ea typeface="宋体"/>
              </a:rPr>
              <a:t>ñ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Calibri"/>
                <a:ea typeface="宋体"/>
              </a:rPr>
              <a:t>as part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  <a:ea typeface="宋体"/>
              </a:rPr>
              <a:t>í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Calibri"/>
                <a:ea typeface="宋体"/>
              </a:rPr>
              <a:t>culas y las elimina por sus canales natur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El 80% del excedente de grasa ser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宋体"/>
              </a:rPr>
              <a:t>á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 quemado con su uso continu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Ataca zonas adiposas en dos frentes y con 4 tipos de energ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宋体"/>
              </a:rPr>
              <a:t>í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as diferentes, todas natur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Es el dispositivo ideal para las personas con sobrep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Muchos m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宋体"/>
              </a:rPr>
              <a:t>é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todos ofrecen una mala alternativa que solo llevan a c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宋体"/>
              </a:rPr>
              <a:t>í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rculos de adelgazar-volver a engordar-adelgazar-volver a engordar y a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宋体"/>
              </a:rPr>
              <a:t>í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Nuestro producto es ideal en la disminuci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宋体"/>
              </a:rPr>
              <a:t>ó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宋体"/>
              </a:rPr>
              <a:t>n de grasa localizada 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2700" spc="-1" strike="noStrike">
                <a:solidFill>
                  <a:srgbClr val="ffffff"/>
                </a:solidFill>
                <a:latin typeface="Calibri"/>
              </a:rPr>
              <a:t>Remueve adiposidad localizada excedente de </a:t>
            </a:r>
            <a:r>
              <a:rPr b="0" lang="es-ES" sz="27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2700" spc="-1" strike="noStrike">
                <a:solidFill>
                  <a:srgbClr val="ffffff"/>
                </a:solidFill>
                <a:latin typeface="Calibri"/>
              </a:rPr>
              <a:t>cualquier lugar del cuerp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2700" spc="-1" strike="noStrike">
                <a:solidFill>
                  <a:srgbClr val="ffffff"/>
                </a:solidFill>
                <a:latin typeface="Calibri"/>
              </a:rPr>
              <a:t>Beneficia zonas con estrías, recuperando la firmeza de la piel. Tonifica el bust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2700" spc="-1" strike="noStrike">
                <a:solidFill>
                  <a:srgbClr val="ffffff"/>
                </a:solidFill>
                <a:latin typeface="Calibri"/>
              </a:rPr>
              <a:t>Elimina el cansancio y stress. Mejora la depresión.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2700" spc="-1" strike="noStrike">
                <a:solidFill>
                  <a:srgbClr val="ffffff"/>
                </a:solidFill>
                <a:latin typeface="Calibri"/>
              </a:rPr>
              <a:t>Elimina celulitis y tonific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2700" spc="-1" strike="noStrike">
                <a:solidFill>
                  <a:srgbClr val="ffffff"/>
                </a:solidFill>
                <a:latin typeface="Calibri"/>
              </a:rPr>
              <a:t>Descontractura cualquier zona del cuerp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2700" spc="-1" strike="noStrike">
                <a:solidFill>
                  <a:srgbClr val="ffffff"/>
                </a:solidFill>
                <a:latin typeface="Calibri"/>
              </a:rPr>
              <a:t>Beneficia funcionamiento orgánico y su metabolismo </a:t>
            </a:r>
            <a:r>
              <a:rPr b="0" lang="es-ES" sz="27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2700" spc="-1" strike="noStrike">
                <a:solidFill>
                  <a:srgbClr val="ffffff"/>
                </a:solidFill>
                <a:latin typeface="Calibri"/>
              </a:rPr>
              <a:t>total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2700" spc="-1" strike="noStrike">
                <a:solidFill>
                  <a:srgbClr val="ffffff"/>
                </a:solidFill>
                <a:latin typeface="Calibri"/>
              </a:rPr>
              <a:t>Armoniza y equilibra todos los canales meridianos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2700" spc="-1" strike="noStrike">
                <a:solidFill>
                  <a:srgbClr val="ffffff"/>
                </a:solidFill>
                <a:latin typeface="Calibri"/>
              </a:rPr>
              <a:t>Beneficia circulación sanguínea y linfátic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5 Rectángulo"/>
          <p:cNvSpPr/>
          <p:nvPr/>
        </p:nvSpPr>
        <p:spPr>
          <a:xfrm>
            <a:off x="1357200" y="500040"/>
            <a:ext cx="62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Beneficios Princip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599840"/>
            <a:ext cx="822960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Energía por imanes ( imano terapia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Energía por magnetos ( magnetoterapia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Energía por calor ( térmica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Calibri"/>
              </a:rPr>
              <a:t>3 fuentes de energía natural que </a:t>
            </a: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Calibri"/>
              </a:rPr>
              <a:t>benefician la salu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30000"/>
              </a:lnSpc>
              <a:spcBef>
                <a:spcPts val="425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Calibri"/>
              </a:rPr>
              <a:t>FUNCIONA SIN ENCHUFAR EL APARATO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30000"/>
              </a:lnSpc>
              <a:spcBef>
                <a:spcPts val="425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3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ffff"/>
                </a:solidFill>
                <a:latin typeface="Arial Unicode MS"/>
              </a:rPr>
              <a:t>PRODUCE POLARIZACION EN LAS CELULAS ( MINERALES EN SANGRE )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3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3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ffff"/>
                </a:solidFill>
                <a:latin typeface="Arial Unicode MS"/>
              </a:rPr>
              <a:t>ESTIMULA Y ALINEA CELULAS DESORDENADAS,  ATROFIADAS Y ENGORDADAS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3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3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ffff"/>
                </a:solidFill>
                <a:latin typeface="Arial Unicode MS"/>
              </a:rPr>
              <a:t>REPARACION Y RESTAURACI</a:t>
            </a:r>
            <a:r>
              <a:rPr b="1" lang="es-ES" sz="1500" spc="-1" strike="noStrike">
                <a:solidFill>
                  <a:srgbClr val="ffffff"/>
                </a:solidFill>
                <a:latin typeface="Calibri"/>
              </a:rPr>
              <a:t>Ó</a:t>
            </a:r>
            <a:r>
              <a:rPr b="1" lang="es-ES" sz="1500" spc="-1" strike="noStrike">
                <a:solidFill>
                  <a:srgbClr val="ffffff"/>
                </a:solidFill>
                <a:latin typeface="Arial Unicode MS"/>
              </a:rPr>
              <a:t>N DE TEJIDOS. EJEMPLOS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s-ES" sz="15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s-ES" sz="1500" spc="-1" strike="noStrike">
                <a:solidFill>
                  <a:srgbClr val="ffffff"/>
                </a:solidFill>
                <a:latin typeface="Arial Unicode MS"/>
              </a:rPr>
              <a:t>EN LA  PIEL: ESTR</a:t>
            </a:r>
            <a:r>
              <a:rPr b="1" lang="es-ES" sz="1500" spc="-1" strike="noStrike">
                <a:solidFill>
                  <a:srgbClr val="ffffff"/>
                </a:solidFill>
                <a:latin typeface="Calibri"/>
              </a:rPr>
              <a:t>Í</a:t>
            </a:r>
            <a:r>
              <a:rPr b="1" lang="es-ES" sz="1500" spc="-1" strike="noStrike">
                <a:solidFill>
                  <a:srgbClr val="ffffff"/>
                </a:solidFill>
                <a:latin typeface="Arial Unicode MS"/>
              </a:rPr>
              <a:t>AS, FLACCIDEZ, TONIFICACI</a:t>
            </a:r>
            <a:r>
              <a:rPr b="1" lang="es-ES" sz="1500" spc="-1" strike="noStrike">
                <a:solidFill>
                  <a:srgbClr val="ffffff"/>
                </a:solidFill>
                <a:latin typeface="Calibri"/>
              </a:rPr>
              <a:t>Ó</a:t>
            </a:r>
            <a:r>
              <a:rPr b="1" lang="es-ES" sz="1500" spc="-1" strike="noStrike">
                <a:solidFill>
                  <a:srgbClr val="ffffff"/>
                </a:solidFill>
                <a:latin typeface="Arial Unicode MS"/>
              </a:rPr>
              <a:t>N, ETC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s-ES" sz="15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s-ES" sz="1500" spc="-1" strike="noStrike">
                <a:solidFill>
                  <a:srgbClr val="ffffff"/>
                </a:solidFill>
                <a:latin typeface="Arial Unicode MS"/>
              </a:rPr>
              <a:t>EN LOS HUESOS: QUEBRADURAS O FISURAS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s-ES" sz="15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s-ES" sz="1500" spc="-1" strike="noStrike">
                <a:solidFill>
                  <a:srgbClr val="ffffff"/>
                </a:solidFill>
                <a:latin typeface="Arial Unicode MS"/>
              </a:rPr>
              <a:t>EN LOS </a:t>
            </a:r>
            <a:r>
              <a:rPr b="1" lang="es-ES" sz="1500" spc="-1" strike="noStrike">
                <a:solidFill>
                  <a:srgbClr val="ffffff"/>
                </a:solidFill>
                <a:latin typeface="Calibri"/>
              </a:rPr>
              <a:t>Ó</a:t>
            </a:r>
            <a:r>
              <a:rPr b="1" lang="es-ES" sz="1500" spc="-1" strike="noStrike">
                <a:solidFill>
                  <a:srgbClr val="ffffff"/>
                </a:solidFill>
                <a:latin typeface="Arial Unicode MS"/>
              </a:rPr>
              <a:t>RGANOS: DISFUNCIONES HEPATICAS, RENALES, ET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3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ffff"/>
                </a:solidFill>
                <a:latin typeface="Arial Unicode MS"/>
              </a:rPr>
              <a:t>EQUILIBRA ( PRINCIPIO DEL YING Y YANG )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3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3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ffff"/>
                </a:solidFill>
                <a:latin typeface="Arial Unicode MS"/>
              </a:rPr>
              <a:t>SI EL EQUIPO ESTA CONECTADO SE TRANSFORMA EN UN CAMPO MAGNETIC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3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ff"/>
                </a:solidFill>
                <a:uFillTx/>
                <a:latin typeface="Calibri"/>
              </a:rPr>
              <a:t>Energía por Ima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ff"/>
                </a:solidFill>
                <a:uFillTx/>
                <a:latin typeface="Calibri"/>
              </a:rPr>
              <a:t>Energía por Magne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ESTIMULO VIBRATORIO ( HASTA 5.000 R.P.M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Moviliza los líquidos del cuerpo (7 CMT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AGUA,  SANGRE Y LINFA ( LIQ DE DRENAJE )  ocupa el 90% de nuestro cuerp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Favorece el sistema energético y metabólico  que conforman la maquina huma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BENEFICIA LA CADENA: CELULA – TEJIDO – VISCERA 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- ORGANO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Moviliza la energía disponible  de nuestro sistema.  La relaja y la potenc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Inducción celular de rotación  y frotación por estimulo  de ondas de frecuencia (50 HZ)  de ahí  el calor que se produce  = CALOR  Y ENERGIA (  la sed tiene su principio en esta combustión </a:t>
            </a:r>
            <a:r>
              <a:rPr b="1" lang="es-ES" sz="2000" spc="-1" strike="noStrike">
                <a:solidFill>
                  <a:srgbClr val="9c0042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57120" y="1571400"/>
            <a:ext cx="83296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c00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USA EL PRINCIPIO FISICO DE RADIACIÓN TERMIC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ESTIMULA LAS ZONAS MAS SUPERFICIALES             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(HASTA 3 CMS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ATACA Y REDUCE ADIPOSIDAD LOCALIZADA EN  TEJIDOS ( PANZA DE BEBEDOR, CELULITIS 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EL CALOR PRODUCE DILATACION = APERTURA DE LOS POROS PERMEABILIZACIÓN CUTÁNE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ESTIMULA LAS GLANDULAS EXOCRINAS ( HACIA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FUERA ), ESA MOVILIZACION  EXPULSA  LO  ESTANCAD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LA GRASA PROVOCA UNA SOBRECARGA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CARDIACA. LOS MIEMBROS INFERIORES SON  LOS MAS PERJUDIC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ff"/>
                </a:solidFill>
                <a:uFillTx/>
                <a:latin typeface="Calibri"/>
              </a:rPr>
              <a:t>Energía por ca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ESTIMULACIÓN SANGUINEA Y LINFAT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DEMOSTRACIÓN DE LOS 7 CICLOS POSTERI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SE USA COMO PRE CALENTAMIENTO MUSCULAR O PRE LINFAT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alibri"/>
              </a:rPr>
              <a:t>8 Modos de Uso</a:t>
            </a:r>
            <a:br>
              <a:rPr sz="4400"/>
            </a:br>
            <a:r>
              <a:rPr b="1" lang="es-ES" sz="4400" spc="-1" strike="noStrike" u="sng">
                <a:solidFill>
                  <a:srgbClr val="ffffff"/>
                </a:solidFill>
                <a:uFillTx/>
                <a:latin typeface="Calibri"/>
              </a:rPr>
              <a:t>Modo 0 </a:t>
            </a:r>
            <a:r>
              <a:rPr b="1" lang="es-ES" sz="4400" spc="-1" strike="noStrike">
                <a:solidFill>
                  <a:srgbClr val="ffffff"/>
                </a:solidFill>
                <a:latin typeface="Calibri"/>
              </a:rPr>
              <a:t>: POR  CICL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01:34:08Z</dcterms:created>
  <dc:creator>PC</dc:creator>
  <dc:description/>
  <dc:language>en-US</dc:language>
  <cp:lastModifiedBy>WinuE</cp:lastModifiedBy>
  <dcterms:modified xsi:type="dcterms:W3CDTF">2012-09-20T18:55:35Z</dcterms:modified>
  <cp:revision>58</cp:revision>
  <dc:subject/>
  <dc:title>Diapositiva 1</dc:title>
</cp:coreProperties>
</file>